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media/image13.wmf" ContentType="image/x-wmf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4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0.png" ContentType="image/png"/>
  <Override PartName="/ppt/media/image25.png" ContentType="image/png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4.wmf" ContentType="image/x-wmf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4B5-6FB9-4474-8412-ABA69B7D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0CA-9048-461C-AA55-919066E1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8EE-6989-4D13-9951-1C18E33F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364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8692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364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8692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E67-0574-4176-9842-78093433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74E-BDF8-40D8-BA7D-F08D4916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6C8-10DE-48DC-A84F-15D2881C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830-DCE9-44DC-9F6D-A7E48D86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DDC-24AB-4F2A-A764-D629EFC9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EE2-C8CD-48C3-8C77-156C4A3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294-3F65-4B27-B5B7-4239967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7B9-29DA-4D54-B61D-92F722B2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A7A-F8B8-4174-BD80-B782E652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8C2B8F-B2F8-47EA-A945-ABAC5CE11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5bf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5bfc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920" y="6561000"/>
            <a:ext cx="251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 2001 - IBIS Meeting at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384720" y="66600"/>
          <a:ext cx="34653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84720" y="66600"/>
                    <a:ext cx="34653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54160" y="838080"/>
            <a:ext cx="9486720" cy="7164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92776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42680" y="1523880"/>
            <a:ext cx="824868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175bfc"/>
                </a:solidFill>
                <a:latin typeface="Arial"/>
              </a:rPr>
              <a:t>EMC model for prediction of parasitic emission </a:t>
            </a:r>
            <a:endParaRPr b="0" lang="en-US" sz="44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352680"/>
            <a:ext cx="6705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ienne Si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Arial"/>
              </a:rPr>
              <a:t>etienne.sicard@insa-tlse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Courier New"/>
              </a:rPr>
              <a:t>http://intrage.insa-tlse.fr/~et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38280" y="5408280"/>
            <a:ext cx="1595160" cy="1073520"/>
            <a:chOff x="7838280" y="5408280"/>
            <a:chExt cx="1595160" cy="1073520"/>
          </a:xfrm>
        </p:grpSpPr>
        <p:graphicFrame>
          <p:nvGraphicFramePr>
            <p:cNvPr id="52" name=""/>
            <p:cNvGraphicFramePr/>
            <p:nvPr/>
          </p:nvGraphicFramePr>
          <p:xfrm>
            <a:off x="7924680" y="5761080"/>
            <a:ext cx="1371600" cy="720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24680" y="5761080"/>
                      <a:ext cx="137160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7838280" y="5408280"/>
              <a:ext cx="159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ienne SIC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08000" y="5439960"/>
            <a:ext cx="1711440" cy="1008360"/>
            <a:chOff x="108000" y="5439960"/>
            <a:chExt cx="1711440" cy="1008360"/>
          </a:xfrm>
        </p:grpSpPr>
        <p:grpSp>
          <p:nvGrpSpPr>
            <p:cNvPr id="56" name=""/>
            <p:cNvGrpSpPr/>
            <p:nvPr/>
          </p:nvGrpSpPr>
          <p:grpSpPr>
            <a:xfrm>
              <a:off x="244440" y="5792760"/>
              <a:ext cx="1575000" cy="655560"/>
              <a:chOff x="244440" y="5792760"/>
              <a:chExt cx="1575000" cy="655560"/>
            </a:xfrm>
          </p:grpSpPr>
          <p:graphicFrame>
            <p:nvGraphicFramePr>
              <p:cNvPr id="57" name=""/>
              <p:cNvGraphicFramePr/>
              <p:nvPr/>
            </p:nvGraphicFramePr>
            <p:xfrm>
              <a:off x="264960" y="5792760"/>
              <a:ext cx="1529280" cy="437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64960" y="5792760"/>
                        <a:ext cx="152928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" name=""/>
              <p:cNvSpPr/>
              <p:nvPr/>
            </p:nvSpPr>
            <p:spPr>
              <a:xfrm>
                <a:off x="244440" y="6173280"/>
                <a:ext cx="1575000" cy="27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OMOTIVE 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08000" y="543996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ristian MAR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434680" y="5439960"/>
            <a:ext cx="2329560" cy="1008360"/>
            <a:chOff x="2434680" y="5439960"/>
            <a:chExt cx="2329560" cy="100836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2597040" y="5854680"/>
              <a:ext cx="2006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434680" y="5439960"/>
              <a:ext cx="23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ré PEYRE LAVIG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559480" y="5384520"/>
            <a:ext cx="1351080" cy="1119600"/>
            <a:chOff x="5559480" y="5384520"/>
            <a:chExt cx="1351080" cy="1119600"/>
          </a:xfrm>
        </p:grpSpPr>
        <p:sp>
          <p:nvSpPr>
            <p:cNvPr id="65" name=""/>
            <p:cNvSpPr/>
            <p:nvPr/>
          </p:nvSpPr>
          <p:spPr>
            <a:xfrm>
              <a:off x="5561640" y="538452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ude HU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559480" y="5737320"/>
            <a:ext cx="1351080" cy="76680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59480" y="5737320"/>
                      <a:ext cx="135108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7C9-F7FF-449D-A4DF-5B3EF3541B6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231840" y="2695680"/>
            <a:ext cx="4152960" cy="2697840"/>
            <a:chOff x="231840" y="2695680"/>
            <a:chExt cx="4152960" cy="2697840"/>
          </a:xfrm>
        </p:grpSpPr>
        <p:sp>
          <p:nvSpPr>
            <p:cNvPr id="518" name=""/>
            <p:cNvSpPr/>
            <p:nvPr/>
          </p:nvSpPr>
          <p:spPr>
            <a:xfrm>
              <a:off x="1641600" y="2763720"/>
              <a:ext cx="2743200" cy="21034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3290040" y="3130560"/>
              <a:ext cx="718560" cy="1101600"/>
              <a:chOff x="3290040" y="3130560"/>
              <a:chExt cx="718560" cy="1101600"/>
            </a:xfrm>
          </p:grpSpPr>
          <p:sp>
            <p:nvSpPr>
              <p:cNvPr id="520" name=""/>
              <p:cNvSpPr/>
              <p:nvPr/>
            </p:nvSpPr>
            <p:spPr>
              <a:xfrm>
                <a:off x="3290040" y="35193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3653640" y="3130560"/>
                <a:ext cx="354960" cy="1101600"/>
                <a:chOff x="3653640" y="3130560"/>
                <a:chExt cx="354960" cy="110160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825000" y="31305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3653640" y="3478680"/>
                  <a:ext cx="354960" cy="343080"/>
                  <a:chOff x="3653640" y="3478680"/>
                  <a:chExt cx="354960" cy="34308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3653640" y="34786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36799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8023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"/>
                <p:cNvSpPr/>
                <p:nvPr/>
              </p:nvSpPr>
              <p:spPr>
                <a:xfrm flipV="1">
                  <a:off x="3825000" y="38174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5400000">
              <a:off x="2279160" y="29494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25720" y="270180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1460160" y="3130560"/>
              <a:ext cx="603360" cy="1096560"/>
              <a:chOff x="1460160" y="3130560"/>
              <a:chExt cx="603360" cy="1096560"/>
            </a:xfrm>
          </p:grpSpPr>
          <p:sp>
            <p:nvSpPr>
              <p:cNvPr id="531" name=""/>
              <p:cNvSpPr/>
              <p:nvPr/>
            </p:nvSpPr>
            <p:spPr>
              <a:xfrm>
                <a:off x="1811520" y="3597120"/>
                <a:ext cx="25200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811520" y="36838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6016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353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353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1001880" y="313056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50880" y="42274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56000" y="31305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5400000">
              <a:off x="2828520" y="29494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76240" y="26956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5400000">
              <a:off x="2278440" y="40471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01880" y="422748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56000" y="42274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5400000">
              <a:off x="2827800" y="40471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00960" y="45068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49960" y="450684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05000" y="31305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2274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2741040" y="3130560"/>
              <a:ext cx="602280" cy="1096560"/>
              <a:chOff x="2741040" y="3130560"/>
              <a:chExt cx="602280" cy="1096560"/>
            </a:xfrm>
          </p:grpSpPr>
          <p:sp>
            <p:nvSpPr>
              <p:cNvPr id="550" name=""/>
              <p:cNvSpPr/>
              <p:nvPr/>
            </p:nvSpPr>
            <p:spPr>
              <a:xfrm>
                <a:off x="3091680" y="35971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91680" y="36838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4104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151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2151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573200" y="30956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92280" y="41893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1840" y="27018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8440" y="441468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87680" y="50562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1909800"/>
            <a:ext cx="81057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pose a simple model for the core, not handled by 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172200" y="2577960"/>
          <a:ext cx="3124080" cy="10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577960"/>
                    <a:ext cx="3124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4" name=""/>
          <p:cNvGrpSpPr/>
          <p:nvPr/>
        </p:nvGrpSpPr>
        <p:grpSpPr>
          <a:xfrm>
            <a:off x="1272600" y="5056200"/>
            <a:ext cx="3111840" cy="1557360"/>
            <a:chOff x="1272600" y="5056200"/>
            <a:chExt cx="3111840" cy="1557360"/>
          </a:xfrm>
        </p:grpSpPr>
        <p:sp>
          <p:nvSpPr>
            <p:cNvPr id="565" name=""/>
            <p:cNvSpPr/>
            <p:nvPr/>
          </p:nvSpPr>
          <p:spPr>
            <a:xfrm>
              <a:off x="1344960" y="5056200"/>
              <a:ext cx="3039480" cy="1557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84840" y="508176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44960" y="5864400"/>
              <a:ext cx="30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4560" y="524448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sic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13440" y="524448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d, 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72600" y="6069960"/>
              <a:ext cx="179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anced pa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63400" y="607788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L,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16440" y="579600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16440" y="51274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16440" y="47941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440" y="4459320"/>
            <a:ext cx="4605480" cy="1440"/>
          </a:xfrm>
          <a:prstGeom prst="line">
            <a:avLst/>
          </a:prstGeom>
          <a:ln w="1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16440" y="412596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816440" y="37940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16440" y="34606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16440" y="31273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16440" y="279252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783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5497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405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89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120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1149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024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81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137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8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75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24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470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5000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737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166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487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6202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8138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961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08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854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2725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35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514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8883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42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164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81520" y="579600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81520" y="54608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81520" y="51274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81520" y="47941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81520" y="44593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781520" y="412596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81520" y="37940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81520" y="34606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31273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81520" y="27925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16440" y="54608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81644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35148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7888320" y="5460840"/>
            <a:ext cx="144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5721480"/>
            <a:ext cx="22536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92880" y="5724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68840" y="5388120"/>
            <a:ext cx="1238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93680" y="5391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08360" y="5054760"/>
            <a:ext cx="18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30680" y="5056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08360" y="472284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30680" y="4722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08360" y="438948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30680" y="4389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608360" y="405432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30680" y="4057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08360" y="372096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30680" y="3724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608360" y="3387600"/>
            <a:ext cx="189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30680" y="3389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08360" y="305280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30680" y="3056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08360" y="27194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30680" y="2722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88000" y="5891040"/>
            <a:ext cx="12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10320" y="58910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92800" y="58910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311520" y="5891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800840" y="5891040"/>
            <a:ext cx="250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14160" y="589104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306000" y="5891040"/>
            <a:ext cx="3157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319680" y="58910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988320" y="5859360"/>
            <a:ext cx="48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997320" y="5861160"/>
            <a:ext cx="42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23000" y="287964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Bµ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64240" y="5084640"/>
            <a:ext cx="2427120" cy="711360"/>
          </a:xfrm>
          <a:prstGeom prst="rect">
            <a:avLst/>
          </a:prstGeom>
          <a:solidFill>
            <a:srgbClr val="eaeaea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5738760" y="5237280"/>
            <a:ext cx="649440" cy="19080"/>
            <a:chOff x="5738760" y="5237280"/>
            <a:chExt cx="649440" cy="19080"/>
          </a:xfrm>
        </p:grpSpPr>
        <p:sp>
          <p:nvSpPr>
            <p:cNvPr id="658" name=""/>
            <p:cNvSpPr/>
            <p:nvPr/>
          </p:nvSpPr>
          <p:spPr>
            <a:xfrm>
              <a:off x="573876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7548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118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5000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886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2452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6124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976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3576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72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11028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1466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83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215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5788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9604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324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369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6467400" y="5135400"/>
            <a:ext cx="9572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55160" y="5137200"/>
            <a:ext cx="98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746680" y="5418000"/>
            <a:ext cx="669960" cy="20880"/>
            <a:chOff x="5746680" y="5418000"/>
            <a:chExt cx="669960" cy="20880"/>
          </a:xfrm>
        </p:grpSpPr>
        <p:sp>
          <p:nvSpPr>
            <p:cNvPr id="679" name=""/>
            <p:cNvSpPr/>
            <p:nvPr/>
          </p:nvSpPr>
          <p:spPr>
            <a:xfrm>
              <a:off x="574668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51520" y="5418000"/>
              <a:ext cx="190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2604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30880" y="5418000"/>
              <a:ext cx="176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05400" y="5418000"/>
              <a:ext cx="1112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467400" y="533700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437160" y="5340240"/>
            <a:ext cx="1540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mulation Cd, I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19960" y="2697120"/>
            <a:ext cx="10033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04840" y="2698920"/>
            <a:ext cx="107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ak harmon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48520" y="2970360"/>
            <a:ext cx="1925640" cy="145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99080" y="4154400"/>
            <a:ext cx="13384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68200" y="4156200"/>
            <a:ext cx="126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 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589960" y="3516480"/>
            <a:ext cx="108756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807040" y="3513240"/>
            <a:ext cx="71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816760" y="3678120"/>
            <a:ext cx="70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507520" y="3881520"/>
            <a:ext cx="1089000" cy="91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46680" y="5600880"/>
            <a:ext cx="6699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555768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60560" y="5560920"/>
            <a:ext cx="975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parame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48520" y="2957400"/>
            <a:ext cx="3192480" cy="2106720"/>
          </a:xfrm>
          <a:custGeom>
            <a:avLst/>
            <a:gdLst/>
            <a:ahLst/>
            <a:rect l="l" t="t" r="r" b="b"/>
            <a:pathLst>
              <a:path w="2011" h="1327">
                <a:moveTo>
                  <a:pt x="0" y="229"/>
                </a:moveTo>
                <a:lnTo>
                  <a:pt x="0" y="247"/>
                </a:lnTo>
                <a:lnTo>
                  <a:pt x="264" y="247"/>
                </a:lnTo>
                <a:lnTo>
                  <a:pt x="264" y="237"/>
                </a:lnTo>
                <a:lnTo>
                  <a:pt x="259" y="245"/>
                </a:lnTo>
                <a:lnTo>
                  <a:pt x="417" y="360"/>
                </a:lnTo>
                <a:lnTo>
                  <a:pt x="422" y="360"/>
                </a:lnTo>
                <a:lnTo>
                  <a:pt x="428" y="358"/>
                </a:lnTo>
                <a:lnTo>
                  <a:pt x="429" y="357"/>
                </a:lnTo>
                <a:lnTo>
                  <a:pt x="587" y="13"/>
                </a:lnTo>
                <a:lnTo>
                  <a:pt x="580" y="8"/>
                </a:lnTo>
                <a:lnTo>
                  <a:pt x="574" y="14"/>
                </a:lnTo>
                <a:lnTo>
                  <a:pt x="580" y="16"/>
                </a:lnTo>
                <a:lnTo>
                  <a:pt x="586" y="14"/>
                </a:lnTo>
                <a:lnTo>
                  <a:pt x="574" y="13"/>
                </a:lnTo>
                <a:lnTo>
                  <a:pt x="732" y="242"/>
                </a:lnTo>
                <a:lnTo>
                  <a:pt x="738" y="237"/>
                </a:lnTo>
                <a:lnTo>
                  <a:pt x="731" y="241"/>
                </a:lnTo>
                <a:lnTo>
                  <a:pt x="783" y="413"/>
                </a:lnTo>
                <a:lnTo>
                  <a:pt x="785" y="416"/>
                </a:lnTo>
                <a:lnTo>
                  <a:pt x="790" y="419"/>
                </a:lnTo>
                <a:lnTo>
                  <a:pt x="843" y="419"/>
                </a:lnTo>
                <a:lnTo>
                  <a:pt x="949" y="419"/>
                </a:lnTo>
                <a:lnTo>
                  <a:pt x="949" y="409"/>
                </a:lnTo>
                <a:lnTo>
                  <a:pt x="943" y="416"/>
                </a:lnTo>
                <a:lnTo>
                  <a:pt x="943" y="413"/>
                </a:lnTo>
                <a:lnTo>
                  <a:pt x="1048" y="699"/>
                </a:lnTo>
                <a:lnTo>
                  <a:pt x="1048" y="703"/>
                </a:lnTo>
                <a:lnTo>
                  <a:pt x="1054" y="704"/>
                </a:lnTo>
                <a:lnTo>
                  <a:pt x="1060" y="703"/>
                </a:lnTo>
                <a:lnTo>
                  <a:pt x="1061" y="699"/>
                </a:lnTo>
                <a:lnTo>
                  <a:pt x="1114" y="527"/>
                </a:lnTo>
                <a:lnTo>
                  <a:pt x="1107" y="524"/>
                </a:lnTo>
                <a:lnTo>
                  <a:pt x="1101" y="531"/>
                </a:lnTo>
                <a:lnTo>
                  <a:pt x="1107" y="532"/>
                </a:lnTo>
                <a:lnTo>
                  <a:pt x="1112" y="531"/>
                </a:lnTo>
                <a:lnTo>
                  <a:pt x="1099" y="527"/>
                </a:lnTo>
                <a:lnTo>
                  <a:pt x="1152" y="699"/>
                </a:lnTo>
                <a:lnTo>
                  <a:pt x="1153" y="703"/>
                </a:lnTo>
                <a:lnTo>
                  <a:pt x="1159" y="706"/>
                </a:lnTo>
                <a:lnTo>
                  <a:pt x="1212" y="706"/>
                </a:lnTo>
                <a:lnTo>
                  <a:pt x="1212" y="696"/>
                </a:lnTo>
                <a:lnTo>
                  <a:pt x="1206" y="703"/>
                </a:lnTo>
                <a:lnTo>
                  <a:pt x="1205" y="698"/>
                </a:lnTo>
                <a:lnTo>
                  <a:pt x="1257" y="927"/>
                </a:lnTo>
                <a:lnTo>
                  <a:pt x="1259" y="932"/>
                </a:lnTo>
                <a:lnTo>
                  <a:pt x="1265" y="934"/>
                </a:lnTo>
                <a:lnTo>
                  <a:pt x="1270" y="932"/>
                </a:lnTo>
                <a:lnTo>
                  <a:pt x="1272" y="930"/>
                </a:lnTo>
                <a:lnTo>
                  <a:pt x="1377" y="701"/>
                </a:lnTo>
                <a:lnTo>
                  <a:pt x="1370" y="696"/>
                </a:lnTo>
                <a:lnTo>
                  <a:pt x="1363" y="696"/>
                </a:lnTo>
                <a:lnTo>
                  <a:pt x="1364" y="703"/>
                </a:lnTo>
                <a:lnTo>
                  <a:pt x="1370" y="704"/>
                </a:lnTo>
                <a:lnTo>
                  <a:pt x="1376" y="703"/>
                </a:lnTo>
                <a:lnTo>
                  <a:pt x="1363" y="696"/>
                </a:lnTo>
                <a:lnTo>
                  <a:pt x="1363" y="926"/>
                </a:lnTo>
                <a:lnTo>
                  <a:pt x="1363" y="926"/>
                </a:lnTo>
                <a:lnTo>
                  <a:pt x="1364" y="932"/>
                </a:lnTo>
                <a:lnTo>
                  <a:pt x="1370" y="934"/>
                </a:lnTo>
                <a:lnTo>
                  <a:pt x="1376" y="932"/>
                </a:lnTo>
                <a:lnTo>
                  <a:pt x="1377" y="929"/>
                </a:lnTo>
                <a:lnTo>
                  <a:pt x="1430" y="757"/>
                </a:lnTo>
                <a:lnTo>
                  <a:pt x="1423" y="754"/>
                </a:lnTo>
                <a:lnTo>
                  <a:pt x="1417" y="760"/>
                </a:lnTo>
                <a:lnTo>
                  <a:pt x="1423" y="762"/>
                </a:lnTo>
                <a:lnTo>
                  <a:pt x="1428" y="760"/>
                </a:lnTo>
                <a:lnTo>
                  <a:pt x="1417" y="758"/>
                </a:lnTo>
                <a:lnTo>
                  <a:pt x="1469" y="873"/>
                </a:lnTo>
                <a:lnTo>
                  <a:pt x="1469" y="875"/>
                </a:lnTo>
                <a:lnTo>
                  <a:pt x="1475" y="876"/>
                </a:lnTo>
                <a:lnTo>
                  <a:pt x="1481" y="875"/>
                </a:lnTo>
                <a:lnTo>
                  <a:pt x="1484" y="868"/>
                </a:lnTo>
                <a:lnTo>
                  <a:pt x="1484" y="811"/>
                </a:lnTo>
                <a:lnTo>
                  <a:pt x="1475" y="811"/>
                </a:lnTo>
                <a:lnTo>
                  <a:pt x="1469" y="817"/>
                </a:lnTo>
                <a:lnTo>
                  <a:pt x="1475" y="819"/>
                </a:lnTo>
                <a:lnTo>
                  <a:pt x="1481" y="817"/>
                </a:lnTo>
                <a:lnTo>
                  <a:pt x="1469" y="816"/>
                </a:lnTo>
                <a:lnTo>
                  <a:pt x="1575" y="988"/>
                </a:lnTo>
                <a:lnTo>
                  <a:pt x="1575" y="989"/>
                </a:lnTo>
                <a:lnTo>
                  <a:pt x="1581" y="991"/>
                </a:lnTo>
                <a:lnTo>
                  <a:pt x="1586" y="989"/>
                </a:lnTo>
                <a:lnTo>
                  <a:pt x="1639" y="932"/>
                </a:lnTo>
                <a:lnTo>
                  <a:pt x="1633" y="926"/>
                </a:lnTo>
                <a:lnTo>
                  <a:pt x="1633" y="935"/>
                </a:lnTo>
                <a:lnTo>
                  <a:pt x="1686" y="935"/>
                </a:lnTo>
                <a:lnTo>
                  <a:pt x="1686" y="926"/>
                </a:lnTo>
                <a:lnTo>
                  <a:pt x="1680" y="930"/>
                </a:lnTo>
                <a:lnTo>
                  <a:pt x="1733" y="1045"/>
                </a:lnTo>
                <a:lnTo>
                  <a:pt x="1733" y="1047"/>
                </a:lnTo>
                <a:lnTo>
                  <a:pt x="1739" y="1048"/>
                </a:lnTo>
                <a:lnTo>
                  <a:pt x="1744" y="1047"/>
                </a:lnTo>
                <a:lnTo>
                  <a:pt x="1746" y="1044"/>
                </a:lnTo>
                <a:lnTo>
                  <a:pt x="1799" y="872"/>
                </a:lnTo>
                <a:lnTo>
                  <a:pt x="1791" y="868"/>
                </a:lnTo>
                <a:lnTo>
                  <a:pt x="1785" y="875"/>
                </a:lnTo>
                <a:lnTo>
                  <a:pt x="1791" y="876"/>
                </a:lnTo>
                <a:lnTo>
                  <a:pt x="1797" y="875"/>
                </a:lnTo>
                <a:lnTo>
                  <a:pt x="1784" y="870"/>
                </a:lnTo>
                <a:lnTo>
                  <a:pt x="1837" y="1099"/>
                </a:lnTo>
                <a:lnTo>
                  <a:pt x="1838" y="1104"/>
                </a:lnTo>
                <a:lnTo>
                  <a:pt x="1844" y="1106"/>
                </a:lnTo>
                <a:lnTo>
                  <a:pt x="1850" y="1104"/>
                </a:lnTo>
                <a:lnTo>
                  <a:pt x="1851" y="1103"/>
                </a:lnTo>
                <a:lnTo>
                  <a:pt x="1904" y="988"/>
                </a:lnTo>
                <a:lnTo>
                  <a:pt x="1897" y="983"/>
                </a:lnTo>
                <a:lnTo>
                  <a:pt x="1891" y="989"/>
                </a:lnTo>
                <a:lnTo>
                  <a:pt x="1897" y="991"/>
                </a:lnTo>
                <a:lnTo>
                  <a:pt x="1902" y="989"/>
                </a:lnTo>
                <a:lnTo>
                  <a:pt x="1889" y="986"/>
                </a:lnTo>
                <a:lnTo>
                  <a:pt x="1942" y="1158"/>
                </a:lnTo>
                <a:lnTo>
                  <a:pt x="1943" y="1160"/>
                </a:lnTo>
                <a:lnTo>
                  <a:pt x="1996" y="1275"/>
                </a:lnTo>
                <a:lnTo>
                  <a:pt x="2002" y="1270"/>
                </a:lnTo>
                <a:lnTo>
                  <a:pt x="1995" y="1270"/>
                </a:lnTo>
                <a:lnTo>
                  <a:pt x="1995" y="1327"/>
                </a:lnTo>
                <a:lnTo>
                  <a:pt x="2011" y="1327"/>
                </a:lnTo>
                <a:lnTo>
                  <a:pt x="2011" y="1270"/>
                </a:lnTo>
                <a:lnTo>
                  <a:pt x="2009" y="1270"/>
                </a:lnTo>
                <a:lnTo>
                  <a:pt x="2009" y="1267"/>
                </a:lnTo>
                <a:lnTo>
                  <a:pt x="1957" y="1152"/>
                </a:lnTo>
                <a:lnTo>
                  <a:pt x="1949" y="1155"/>
                </a:lnTo>
                <a:lnTo>
                  <a:pt x="1957" y="1154"/>
                </a:lnTo>
                <a:lnTo>
                  <a:pt x="1904" y="981"/>
                </a:lnTo>
                <a:lnTo>
                  <a:pt x="1902" y="977"/>
                </a:lnTo>
                <a:lnTo>
                  <a:pt x="1897" y="975"/>
                </a:lnTo>
                <a:lnTo>
                  <a:pt x="1891" y="977"/>
                </a:lnTo>
                <a:lnTo>
                  <a:pt x="1891" y="980"/>
                </a:lnTo>
                <a:lnTo>
                  <a:pt x="1838" y="1095"/>
                </a:lnTo>
                <a:lnTo>
                  <a:pt x="1850" y="1091"/>
                </a:lnTo>
                <a:lnTo>
                  <a:pt x="1844" y="1090"/>
                </a:lnTo>
                <a:lnTo>
                  <a:pt x="1838" y="1091"/>
                </a:lnTo>
                <a:lnTo>
                  <a:pt x="1844" y="1098"/>
                </a:lnTo>
                <a:lnTo>
                  <a:pt x="1851" y="1096"/>
                </a:lnTo>
                <a:lnTo>
                  <a:pt x="1799" y="867"/>
                </a:lnTo>
                <a:lnTo>
                  <a:pt x="1797" y="862"/>
                </a:lnTo>
                <a:lnTo>
                  <a:pt x="1791" y="860"/>
                </a:lnTo>
                <a:lnTo>
                  <a:pt x="1785" y="862"/>
                </a:lnTo>
                <a:lnTo>
                  <a:pt x="1784" y="868"/>
                </a:lnTo>
                <a:lnTo>
                  <a:pt x="1784" y="867"/>
                </a:lnTo>
                <a:lnTo>
                  <a:pt x="1731" y="1039"/>
                </a:lnTo>
                <a:lnTo>
                  <a:pt x="1744" y="1034"/>
                </a:lnTo>
                <a:lnTo>
                  <a:pt x="1739" y="1032"/>
                </a:lnTo>
                <a:lnTo>
                  <a:pt x="1733" y="1034"/>
                </a:lnTo>
                <a:lnTo>
                  <a:pt x="1731" y="1040"/>
                </a:lnTo>
                <a:lnTo>
                  <a:pt x="1739" y="1040"/>
                </a:lnTo>
                <a:lnTo>
                  <a:pt x="1746" y="1037"/>
                </a:lnTo>
                <a:lnTo>
                  <a:pt x="1693" y="922"/>
                </a:lnTo>
                <a:lnTo>
                  <a:pt x="1692" y="919"/>
                </a:lnTo>
                <a:lnTo>
                  <a:pt x="1686" y="918"/>
                </a:lnTo>
                <a:lnTo>
                  <a:pt x="1633" y="918"/>
                </a:lnTo>
                <a:lnTo>
                  <a:pt x="1633" y="918"/>
                </a:lnTo>
                <a:lnTo>
                  <a:pt x="1627" y="919"/>
                </a:lnTo>
                <a:lnTo>
                  <a:pt x="1575" y="977"/>
                </a:lnTo>
                <a:lnTo>
                  <a:pt x="1586" y="977"/>
                </a:lnTo>
                <a:lnTo>
                  <a:pt x="1581" y="975"/>
                </a:lnTo>
                <a:lnTo>
                  <a:pt x="1581" y="983"/>
                </a:lnTo>
                <a:lnTo>
                  <a:pt x="1586" y="978"/>
                </a:lnTo>
                <a:lnTo>
                  <a:pt x="1481" y="806"/>
                </a:lnTo>
                <a:lnTo>
                  <a:pt x="1481" y="805"/>
                </a:lnTo>
                <a:lnTo>
                  <a:pt x="1475" y="803"/>
                </a:lnTo>
                <a:lnTo>
                  <a:pt x="1469" y="805"/>
                </a:lnTo>
                <a:lnTo>
                  <a:pt x="1468" y="811"/>
                </a:lnTo>
                <a:lnTo>
                  <a:pt x="1468" y="811"/>
                </a:lnTo>
                <a:lnTo>
                  <a:pt x="1468" y="868"/>
                </a:lnTo>
                <a:lnTo>
                  <a:pt x="1481" y="862"/>
                </a:lnTo>
                <a:lnTo>
                  <a:pt x="1475" y="860"/>
                </a:lnTo>
                <a:lnTo>
                  <a:pt x="1469" y="862"/>
                </a:lnTo>
                <a:lnTo>
                  <a:pt x="1468" y="868"/>
                </a:lnTo>
                <a:lnTo>
                  <a:pt x="1475" y="868"/>
                </a:lnTo>
                <a:lnTo>
                  <a:pt x="1483" y="865"/>
                </a:lnTo>
                <a:lnTo>
                  <a:pt x="1430" y="750"/>
                </a:lnTo>
                <a:lnTo>
                  <a:pt x="1428" y="747"/>
                </a:lnTo>
                <a:lnTo>
                  <a:pt x="1423" y="746"/>
                </a:lnTo>
                <a:lnTo>
                  <a:pt x="1417" y="747"/>
                </a:lnTo>
                <a:lnTo>
                  <a:pt x="1415" y="754"/>
                </a:lnTo>
                <a:lnTo>
                  <a:pt x="1415" y="752"/>
                </a:lnTo>
                <a:lnTo>
                  <a:pt x="1363" y="924"/>
                </a:lnTo>
                <a:lnTo>
                  <a:pt x="1377" y="926"/>
                </a:lnTo>
                <a:lnTo>
                  <a:pt x="1376" y="919"/>
                </a:lnTo>
                <a:lnTo>
                  <a:pt x="1370" y="918"/>
                </a:lnTo>
                <a:lnTo>
                  <a:pt x="1364" y="919"/>
                </a:lnTo>
                <a:lnTo>
                  <a:pt x="1363" y="926"/>
                </a:lnTo>
                <a:lnTo>
                  <a:pt x="1370" y="926"/>
                </a:lnTo>
                <a:lnTo>
                  <a:pt x="1379" y="926"/>
                </a:lnTo>
                <a:lnTo>
                  <a:pt x="1379" y="696"/>
                </a:lnTo>
                <a:lnTo>
                  <a:pt x="1377" y="696"/>
                </a:lnTo>
                <a:lnTo>
                  <a:pt x="1376" y="690"/>
                </a:lnTo>
                <a:lnTo>
                  <a:pt x="1370" y="688"/>
                </a:lnTo>
                <a:lnTo>
                  <a:pt x="1364" y="690"/>
                </a:lnTo>
                <a:lnTo>
                  <a:pt x="1364" y="693"/>
                </a:lnTo>
                <a:lnTo>
                  <a:pt x="1259" y="922"/>
                </a:lnTo>
                <a:lnTo>
                  <a:pt x="1270" y="919"/>
                </a:lnTo>
                <a:lnTo>
                  <a:pt x="1265" y="918"/>
                </a:lnTo>
                <a:lnTo>
                  <a:pt x="1259" y="919"/>
                </a:lnTo>
                <a:lnTo>
                  <a:pt x="1265" y="926"/>
                </a:lnTo>
                <a:lnTo>
                  <a:pt x="1272" y="924"/>
                </a:lnTo>
                <a:lnTo>
                  <a:pt x="1219" y="695"/>
                </a:lnTo>
                <a:lnTo>
                  <a:pt x="1218" y="690"/>
                </a:lnTo>
                <a:lnTo>
                  <a:pt x="1212" y="688"/>
                </a:lnTo>
                <a:lnTo>
                  <a:pt x="1159" y="688"/>
                </a:lnTo>
                <a:lnTo>
                  <a:pt x="1165" y="690"/>
                </a:lnTo>
                <a:lnTo>
                  <a:pt x="1159" y="696"/>
                </a:lnTo>
                <a:lnTo>
                  <a:pt x="1167" y="695"/>
                </a:lnTo>
                <a:lnTo>
                  <a:pt x="1114" y="523"/>
                </a:lnTo>
                <a:lnTo>
                  <a:pt x="1112" y="518"/>
                </a:lnTo>
                <a:lnTo>
                  <a:pt x="1107" y="516"/>
                </a:lnTo>
                <a:lnTo>
                  <a:pt x="1101" y="518"/>
                </a:lnTo>
                <a:lnTo>
                  <a:pt x="1099" y="524"/>
                </a:lnTo>
                <a:lnTo>
                  <a:pt x="1099" y="523"/>
                </a:lnTo>
                <a:lnTo>
                  <a:pt x="1047" y="695"/>
                </a:lnTo>
                <a:lnTo>
                  <a:pt x="1060" y="690"/>
                </a:lnTo>
                <a:lnTo>
                  <a:pt x="1054" y="688"/>
                </a:lnTo>
                <a:lnTo>
                  <a:pt x="1048" y="690"/>
                </a:lnTo>
                <a:lnTo>
                  <a:pt x="1047" y="696"/>
                </a:lnTo>
                <a:lnTo>
                  <a:pt x="1054" y="696"/>
                </a:lnTo>
                <a:lnTo>
                  <a:pt x="1061" y="693"/>
                </a:lnTo>
                <a:lnTo>
                  <a:pt x="956" y="406"/>
                </a:lnTo>
                <a:lnTo>
                  <a:pt x="954" y="403"/>
                </a:lnTo>
                <a:lnTo>
                  <a:pt x="949" y="401"/>
                </a:lnTo>
                <a:lnTo>
                  <a:pt x="843" y="401"/>
                </a:lnTo>
                <a:lnTo>
                  <a:pt x="790" y="401"/>
                </a:lnTo>
                <a:lnTo>
                  <a:pt x="796" y="403"/>
                </a:lnTo>
                <a:lnTo>
                  <a:pt x="790" y="409"/>
                </a:lnTo>
                <a:lnTo>
                  <a:pt x="798" y="408"/>
                </a:lnTo>
                <a:lnTo>
                  <a:pt x="745" y="236"/>
                </a:lnTo>
                <a:lnTo>
                  <a:pt x="744" y="233"/>
                </a:lnTo>
                <a:lnTo>
                  <a:pt x="586" y="3"/>
                </a:lnTo>
                <a:lnTo>
                  <a:pt x="586" y="2"/>
                </a:lnTo>
                <a:lnTo>
                  <a:pt x="580" y="0"/>
                </a:lnTo>
                <a:lnTo>
                  <a:pt x="574" y="2"/>
                </a:lnTo>
                <a:lnTo>
                  <a:pt x="574" y="5"/>
                </a:lnTo>
                <a:lnTo>
                  <a:pt x="416" y="349"/>
                </a:lnTo>
                <a:lnTo>
                  <a:pt x="422" y="344"/>
                </a:lnTo>
                <a:lnTo>
                  <a:pt x="416" y="346"/>
                </a:lnTo>
                <a:lnTo>
                  <a:pt x="422" y="352"/>
                </a:lnTo>
                <a:lnTo>
                  <a:pt x="426" y="346"/>
                </a:lnTo>
                <a:lnTo>
                  <a:pt x="268" y="231"/>
                </a:lnTo>
                <a:lnTo>
                  <a:pt x="264" y="229"/>
                </a:lnTo>
                <a:lnTo>
                  <a:pt x="0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242040" y="2970360"/>
            <a:ext cx="3191040" cy="2073240"/>
            <a:chOff x="6242040" y="2970360"/>
            <a:chExt cx="3191040" cy="2073240"/>
          </a:xfrm>
        </p:grpSpPr>
        <p:grpSp>
          <p:nvGrpSpPr>
            <p:cNvPr id="700" name=""/>
            <p:cNvGrpSpPr/>
            <p:nvPr/>
          </p:nvGrpSpPr>
          <p:grpSpPr>
            <a:xfrm>
              <a:off x="6242040" y="2970360"/>
              <a:ext cx="2286000" cy="1466640"/>
              <a:chOff x="6242040" y="2970360"/>
              <a:chExt cx="2286000" cy="1466640"/>
            </a:xfrm>
          </p:grpSpPr>
          <p:sp>
            <p:nvSpPr>
              <p:cNvPr id="701" name=""/>
              <p:cNvSpPr/>
              <p:nvPr/>
            </p:nvSpPr>
            <p:spPr>
              <a:xfrm>
                <a:off x="6242040" y="3597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3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625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286680" y="3549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08640" y="35244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32400" y="3498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5652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378480" y="34480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402240" y="342252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2636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448320" y="3371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69200" y="33498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492960" y="33289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504120" y="3362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16720" y="3395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9320" y="3427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541920" y="3460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53080" y="3494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564240" y="35258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76840" y="35593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89800" y="35924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602400" y="3625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13560" y="3657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624720" y="3691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37320" y="3724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51720" y="37558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62880" y="377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67692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69276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0716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19760" y="36450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73416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50000" y="3581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64400" y="355140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778800" y="3519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92840" y="3489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808680" y="3456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823080" y="3425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832440" y="34434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838920" y="3476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848640" y="3511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854760" y="35449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864480" y="3579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87240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878520" y="36482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888240" y="3683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894360" y="37162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04080" y="3751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10560" y="3776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2316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93252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94044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53400" y="36399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7"/>
                    </a:moveTo>
                    <a:lnTo>
                      <a:pt x="1" y="10"/>
                    </a:lnTo>
                    <a:lnTo>
                      <a:pt x="4" y="13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96276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7392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983280" y="3541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99444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0416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013520" y="3440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024680" y="3408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8"/>
                    </a:lnTo>
                    <a:lnTo>
                      <a:pt x="4" y="11"/>
                    </a:lnTo>
                    <a:lnTo>
                      <a:pt x="9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34040" y="337176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045200" y="3340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54920" y="330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066080" y="32716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075440" y="3238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85160" y="3205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95960" y="31719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105680" y="31370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118280" y="3103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126200" y="30718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139160" y="3035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148520" y="300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156440" y="29703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65800" y="2987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74080" y="30211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180200" y="3056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188120" y="3090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94600" y="3124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201080" y="31590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09000" y="3195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215120" y="3227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221600" y="32637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229520" y="3298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236000" y="33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243920" y="3367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250040" y="340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256520" y="34354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264440" y="3470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7092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278840" y="3538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2849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291440" y="3610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299360" y="3643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30872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315200" y="37130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321680" y="3746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329600" y="3780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334280" y="3743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340760" y="371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34688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35480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59480" y="36050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365960" y="3571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73880" y="3537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380360" y="350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385040" y="3465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91520" y="34322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9944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405560" y="33624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410600" y="3327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6"/>
                    </a:moveTo>
                    <a:lnTo>
                      <a:pt x="1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421400" y="33577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431120" y="3389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440480" y="3422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451640" y="3457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461360" y="3490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472520" y="3524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481880" y="35575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494480" y="3592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512120" y="35798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535880" y="3554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559640" y="3529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580160" y="35114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596360" y="3544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10400" y="357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480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4064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55040" y="3670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72320" y="36781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93200" y="36561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6960" y="3630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740720" y="360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756560" y="36226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772400" y="3656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786800" y="368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800840" y="37195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815240" y="3749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831080" y="3781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845480" y="3811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858080" y="3844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872480" y="387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888320" y="3908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902720" y="3938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918560" y="39560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942320" y="3930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66080" y="3905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988400" y="3881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005680" y="3890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021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03592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048520" y="3986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066160" y="401940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078760" y="4049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101080" y="4032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123400" y="4006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47160" y="398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167680" y="3971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177040" y="40053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186760" y="4037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197920" y="4073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207280" y="41054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218440" y="41385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228160" y="417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238960" y="42069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24868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256600" y="4197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64520" y="41641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72440" y="4129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7892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28828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294760" y="40244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7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304120" y="39924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31204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318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327880" y="38876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334360" y="3890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34408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352000" y="39592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358120" y="3992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367840" y="40273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37396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38368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389800" y="4130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397720" y="41641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407440" y="4199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41392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416800" y="4203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16800" y="41688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416800" y="41338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16800" y="40989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416800" y="4062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420040" y="40798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429760" y="41133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439120" y="4148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448840" y="4181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458200" y="42163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467560" y="42498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477280" y="4284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483760" y="4317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493120" y="43527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502480" y="43862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510760" y="44197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3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8520120" y="445464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9480" y="44877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537400" y="452268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545680" y="45561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555040" y="45910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564400" y="46245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574120" y="4659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583480" y="46893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589960" y="4654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597880" y="4621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605800" y="45864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6137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623440" y="4518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62956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3748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45400" y="4414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653320" y="4381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663040" y="4346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667720" y="43434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667720" y="4378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67720" y="441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6772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67720" y="4484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67720" y="4521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67720" y="4556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667720" y="4591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67720" y="4627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667720" y="4662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66772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667720" y="4732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667720" y="4768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674200" y="4764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88240" y="473220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704440" y="4700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71848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4" y="11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731080" y="46371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748720" y="4603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763120" y="4573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775720" y="454032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4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7901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8059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820000" y="444672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834400" y="4421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834400" y="44578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834400" y="4492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834400" y="452772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834400" y="4564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834400" y="4599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834400" y="4633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83440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834400" y="47052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83440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83440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839080" y="4753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84412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85024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85816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864640" y="4616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869320" y="4581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875800" y="4546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8837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889840" y="4478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894880" y="4441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901000" y="44067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08920" y="437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915400" y="4338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920080" y="4351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926560" y="4386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934480" y="4419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940960" y="4454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945640" y="4491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51760" y="45259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959680" y="4559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966160" y="4594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970840" y="4629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978760" y="4664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98524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991720" y="473220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996400" y="476892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004320" y="4761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009000" y="4727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013680" y="4692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016920" y="4657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4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021600" y="462132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5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026640" y="4586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0313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036000" y="45147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7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03924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043920" y="4446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047160" y="44118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051840" y="4376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056520" y="43419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061560" y="4305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066240" y="4270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070920" y="42372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075600" y="4202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080640" y="4167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085320" y="415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090000" y="4194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94680" y="422928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99720" y="4265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104400" y="4297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4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09080" y="43340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9112320" y="43689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117000" y="4403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21680" y="44402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126360" y="44751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13140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13608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14076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145440" y="461484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15048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15516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915984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916452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16956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17568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18216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18684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194760" y="4637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920124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207360" y="45655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9212400" y="45306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22032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9226440" y="4462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9234360" y="4427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237600" y="43941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245520" y="43592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9252000" y="4330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252000" y="4365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252000" y="4402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9252000" y="4437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252000" y="4471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9252000" y="4508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25200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925200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252000" y="4614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25200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25200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25200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25200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252000" y="4773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926136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26784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27720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285120" y="46371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29160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301320" y="4568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307440" y="45338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31716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325080" y="4465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331200" y="442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336240" y="44416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9336240" y="4478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336240" y="45133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336240" y="4548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336240" y="45831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336240" y="46195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336240" y="4654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336240" y="4689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356760" y="4667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6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9380520" y="464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402840" y="461628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416880" y="4611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9410760" y="4645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9402840" y="46800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9396360" y="4714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391680" y="47480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9385200" y="4782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9377280" y="48196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9371160" y="48546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9366120" y="4888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360000" y="4923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9352080" y="4957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9345600" y="4994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9340920" y="50259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242040" y="2957400"/>
            <a:ext cx="3068640" cy="2665440"/>
            <a:chOff x="6242040" y="2957400"/>
            <a:chExt cx="3068640" cy="2665440"/>
          </a:xfrm>
        </p:grpSpPr>
        <p:sp>
          <p:nvSpPr>
            <p:cNvPr id="1078" name=""/>
            <p:cNvSpPr/>
            <p:nvPr/>
          </p:nvSpPr>
          <p:spPr>
            <a:xfrm>
              <a:off x="6242040" y="3549600"/>
              <a:ext cx="17460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0" y="87"/>
                  </a:moveTo>
                  <a:lnTo>
                    <a:pt x="10" y="100"/>
                  </a:lnTo>
                  <a:lnTo>
                    <a:pt x="110" y="13"/>
                  </a:lnTo>
                  <a:lnTo>
                    <a:pt x="99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61280" y="34815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9"/>
                  </a:moveTo>
                  <a:lnTo>
                    <a:pt x="10" y="22"/>
                  </a:lnTo>
                  <a:lnTo>
                    <a:pt x="23" y="13"/>
                  </a:lnTo>
                  <a:lnTo>
                    <a:pt x="1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39040" y="3321000"/>
              <a:ext cx="164880" cy="12708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67"/>
                  </a:moveTo>
                  <a:lnTo>
                    <a:pt x="11" y="80"/>
                  </a:lnTo>
                  <a:lnTo>
                    <a:pt x="87" y="15"/>
                  </a:lnTo>
                  <a:lnTo>
                    <a:pt x="81" y="8"/>
                  </a:lnTo>
                  <a:lnTo>
                    <a:pt x="75" y="15"/>
                  </a:lnTo>
                  <a:lnTo>
                    <a:pt x="81" y="16"/>
                  </a:lnTo>
                  <a:lnTo>
                    <a:pt x="75" y="13"/>
                  </a:lnTo>
                  <a:lnTo>
                    <a:pt x="91" y="43"/>
                  </a:lnTo>
                  <a:lnTo>
                    <a:pt x="104" y="35"/>
                  </a:lnTo>
                  <a:lnTo>
                    <a:pt x="88" y="5"/>
                  </a:lnTo>
                  <a:lnTo>
                    <a:pt x="87" y="2"/>
                  </a:lnTo>
                  <a:lnTo>
                    <a:pt x="81" y="0"/>
                  </a:lnTo>
                  <a:lnTo>
                    <a:pt x="76" y="2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723000" y="344808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3" y="0"/>
                  </a:moveTo>
                  <a:lnTo>
                    <a:pt x="0" y="8"/>
                  </a:lnTo>
                  <a:lnTo>
                    <a:pt x="9" y="24"/>
                  </a:lnTo>
                  <a:lnTo>
                    <a:pt x="22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777000" y="354492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13" y="0"/>
                  </a:moveTo>
                  <a:lnTo>
                    <a:pt x="0" y="8"/>
                  </a:lnTo>
                  <a:lnTo>
                    <a:pt x="65" y="127"/>
                  </a:lnTo>
                  <a:lnTo>
                    <a:pt x="79" y="1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913440" y="3733920"/>
              <a:ext cx="3204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6"/>
                  </a:moveTo>
                  <a:lnTo>
                    <a:pt x="14" y="21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45480" y="3443400"/>
              <a:ext cx="88560" cy="21888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0" y="134"/>
                  </a:moveTo>
                  <a:lnTo>
                    <a:pt x="15" y="138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5840" y="334008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5"/>
                  </a:moveTo>
                  <a:lnTo>
                    <a:pt x="15" y="20"/>
                  </a:lnTo>
                  <a:lnTo>
                    <a:pt x="19" y="4"/>
                  </a:lnTo>
                  <a:lnTo>
                    <a:pt x="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66080" y="3048120"/>
              <a:ext cx="88920" cy="21744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0" y="133"/>
                  </a:moveTo>
                  <a:lnTo>
                    <a:pt x="15" y="137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56440" y="2957400"/>
              <a:ext cx="3168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6"/>
                  </a:moveTo>
                  <a:lnTo>
                    <a:pt x="15" y="11"/>
                  </a:lnTo>
                  <a:lnTo>
                    <a:pt x="15" y="11"/>
                  </a:lnTo>
                  <a:lnTo>
                    <a:pt x="8" y="8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14" y="14"/>
                  </a:lnTo>
                  <a:lnTo>
                    <a:pt x="0" y="11"/>
                  </a:lnTo>
                  <a:lnTo>
                    <a:pt x="5" y="25"/>
                  </a:lnTo>
                  <a:lnTo>
                    <a:pt x="20" y="21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89920" y="3068640"/>
              <a:ext cx="85680" cy="220680"/>
            </a:xfrm>
            <a:custGeom>
              <a:avLst/>
              <a:gdLst/>
              <a:ahLst/>
              <a:rect l="l" t="t" r="r" b="b"/>
              <a:pathLst>
                <a:path w="54" h="139">
                  <a:moveTo>
                    <a:pt x="15" y="0"/>
                  </a:moveTo>
                  <a:lnTo>
                    <a:pt x="0" y="5"/>
                  </a:lnTo>
                  <a:lnTo>
                    <a:pt x="39" y="139"/>
                  </a:lnTo>
                  <a:lnTo>
                    <a:pt x="54" y="1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78840" y="335916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10520" y="346536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5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99440" y="37558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0"/>
                  </a:moveTo>
                  <a:lnTo>
                    <a:pt x="0" y="5"/>
                  </a:lnTo>
                  <a:lnTo>
                    <a:pt x="6" y="21"/>
                  </a:lnTo>
                  <a:lnTo>
                    <a:pt x="2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408800" y="3486240"/>
              <a:ext cx="25560" cy="22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416720" y="344016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7"/>
                  </a:lnTo>
                  <a:lnTo>
                    <a:pt x="6" y="23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454880" y="3544920"/>
              <a:ext cx="96840" cy="214200"/>
            </a:xfrm>
            <a:custGeom>
              <a:avLst/>
              <a:gdLst/>
              <a:ahLst/>
              <a:rect l="l" t="t" r="r" b="b"/>
              <a:pathLst>
                <a:path w="61" h="135">
                  <a:moveTo>
                    <a:pt x="13" y="0"/>
                  </a:moveTo>
                  <a:lnTo>
                    <a:pt x="0" y="6"/>
                  </a:lnTo>
                  <a:lnTo>
                    <a:pt x="48" y="135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59640" y="38275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5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07160" y="3638520"/>
              <a:ext cx="133560" cy="1983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16"/>
                  </a:moveTo>
                  <a:lnTo>
                    <a:pt x="12" y="125"/>
                  </a:lnTo>
                  <a:lnTo>
                    <a:pt x="84" y="9"/>
                  </a:lnTo>
                  <a:lnTo>
                    <a:pt x="72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751880" y="363996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5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8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775640" y="3749760"/>
              <a:ext cx="74520" cy="21888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4" y="0"/>
                  </a:moveTo>
                  <a:lnTo>
                    <a:pt x="0" y="3"/>
                  </a:lnTo>
                  <a:lnTo>
                    <a:pt x="32" y="138"/>
                  </a:lnTo>
                  <a:lnTo>
                    <a:pt x="47" y="1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845480" y="40449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4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7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67800" y="4154400"/>
              <a:ext cx="75960" cy="193680"/>
            </a:xfrm>
            <a:custGeom>
              <a:avLst/>
              <a:gdLst/>
              <a:ahLst/>
              <a:rect l="l" t="t" r="r" b="b"/>
              <a:pathLst>
                <a:path w="48" h="122">
                  <a:moveTo>
                    <a:pt x="15" y="0"/>
                  </a:moveTo>
                  <a:lnTo>
                    <a:pt x="0" y="3"/>
                  </a:lnTo>
                  <a:lnTo>
                    <a:pt x="27" y="116"/>
                  </a:lnTo>
                  <a:lnTo>
                    <a:pt x="28" y="121"/>
                  </a:lnTo>
                  <a:lnTo>
                    <a:pt x="34" y="122"/>
                  </a:lnTo>
                  <a:lnTo>
                    <a:pt x="40" y="121"/>
                  </a:lnTo>
                  <a:lnTo>
                    <a:pt x="41" y="118"/>
                  </a:lnTo>
                  <a:lnTo>
                    <a:pt x="48" y="94"/>
                  </a:lnTo>
                  <a:lnTo>
                    <a:pt x="34" y="89"/>
                  </a:lnTo>
                  <a:lnTo>
                    <a:pt x="27" y="113"/>
                  </a:lnTo>
                  <a:lnTo>
                    <a:pt x="40" y="108"/>
                  </a:lnTo>
                  <a:lnTo>
                    <a:pt x="34" y="106"/>
                  </a:lnTo>
                  <a:lnTo>
                    <a:pt x="28" y="108"/>
                  </a:lnTo>
                  <a:lnTo>
                    <a:pt x="27" y="114"/>
                  </a:lnTo>
                  <a:lnTo>
                    <a:pt x="34" y="114"/>
                  </a:lnTo>
                  <a:lnTo>
                    <a:pt x="41" y="1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43760" y="419112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6"/>
                  </a:moveTo>
                  <a:lnTo>
                    <a:pt x="15" y="21"/>
                  </a:lnTo>
                  <a:lnTo>
                    <a:pt x="21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77240" y="4049640"/>
              <a:ext cx="9504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39"/>
                  </a:moveTo>
                  <a:lnTo>
                    <a:pt x="15" y="43"/>
                  </a:lnTo>
                  <a:lnTo>
                    <a:pt x="25" y="11"/>
                  </a:lnTo>
                  <a:lnTo>
                    <a:pt x="18" y="8"/>
                  </a:lnTo>
                  <a:lnTo>
                    <a:pt x="12" y="15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12" y="11"/>
                  </a:lnTo>
                  <a:lnTo>
                    <a:pt x="47" y="109"/>
                  </a:lnTo>
                  <a:lnTo>
                    <a:pt x="60" y="102"/>
                  </a:lnTo>
                  <a:lnTo>
                    <a:pt x="25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078760" y="42908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4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18360" y="439416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13" y="0"/>
                  </a:moveTo>
                  <a:lnTo>
                    <a:pt x="0" y="6"/>
                  </a:lnTo>
                  <a:lnTo>
                    <a:pt x="28" y="81"/>
                  </a:lnTo>
                  <a:lnTo>
                    <a:pt x="28" y="84"/>
                  </a:lnTo>
                  <a:lnTo>
                    <a:pt x="34" y="86"/>
                  </a:lnTo>
                  <a:lnTo>
                    <a:pt x="40" y="84"/>
                  </a:lnTo>
                  <a:lnTo>
                    <a:pt x="41" y="83"/>
                  </a:lnTo>
                  <a:lnTo>
                    <a:pt x="65" y="29"/>
                  </a:lnTo>
                  <a:lnTo>
                    <a:pt x="51" y="21"/>
                  </a:lnTo>
                  <a:lnTo>
                    <a:pt x="28" y="75"/>
                  </a:lnTo>
                  <a:lnTo>
                    <a:pt x="40" y="72"/>
                  </a:lnTo>
                  <a:lnTo>
                    <a:pt x="34" y="70"/>
                  </a:lnTo>
                  <a:lnTo>
                    <a:pt x="28" y="72"/>
                  </a:lnTo>
                  <a:lnTo>
                    <a:pt x="34" y="78"/>
                  </a:lnTo>
                  <a:lnTo>
                    <a:pt x="41" y="7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234280" y="43228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5"/>
                  </a:lnTo>
                  <a:lnTo>
                    <a:pt x="14" y="16"/>
                  </a:lnTo>
                  <a:lnTo>
                    <a:pt x="19" y="15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269200" y="441468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4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358120" y="470232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5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389800" y="4732200"/>
              <a:ext cx="47880" cy="16200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15" y="48"/>
                  </a:moveTo>
                  <a:lnTo>
                    <a:pt x="0" y="53"/>
                  </a:lnTo>
                  <a:lnTo>
                    <a:pt x="14" y="98"/>
                  </a:lnTo>
                  <a:lnTo>
                    <a:pt x="15" y="101"/>
                  </a:lnTo>
                  <a:lnTo>
                    <a:pt x="21" y="102"/>
                  </a:lnTo>
                  <a:lnTo>
                    <a:pt x="27" y="101"/>
                  </a:lnTo>
                  <a:lnTo>
                    <a:pt x="30" y="94"/>
                  </a:lnTo>
                  <a:lnTo>
                    <a:pt x="30" y="0"/>
                  </a:lnTo>
                  <a:lnTo>
                    <a:pt x="14" y="0"/>
                  </a:lnTo>
                  <a:lnTo>
                    <a:pt x="14" y="94"/>
                  </a:lnTo>
                  <a:lnTo>
                    <a:pt x="27" y="88"/>
                  </a:lnTo>
                  <a:lnTo>
                    <a:pt x="21" y="87"/>
                  </a:lnTo>
                  <a:lnTo>
                    <a:pt x="15" y="88"/>
                  </a:lnTo>
                  <a:lnTo>
                    <a:pt x="14" y="94"/>
                  </a:lnTo>
                  <a:lnTo>
                    <a:pt x="21" y="94"/>
                  </a:lnTo>
                  <a:lnTo>
                    <a:pt x="28" y="93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429760" y="4743360"/>
              <a:ext cx="2988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467560" y="4846680"/>
              <a:ext cx="96840" cy="21600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13" y="0"/>
                  </a:moveTo>
                  <a:lnTo>
                    <a:pt x="0" y="7"/>
                  </a:lnTo>
                  <a:lnTo>
                    <a:pt x="48" y="136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72680" y="513072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lnTo>
                    <a:pt x="0" y="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11" y="24"/>
                  </a:lnTo>
                  <a:lnTo>
                    <a:pt x="17" y="22"/>
                  </a:lnTo>
                  <a:lnTo>
                    <a:pt x="20" y="19"/>
                  </a:lnTo>
                  <a:lnTo>
                    <a:pt x="8" y="6"/>
                  </a:lnTo>
                  <a:lnTo>
                    <a:pt x="5" y="9"/>
                  </a:lnTo>
                  <a:lnTo>
                    <a:pt x="17" y="9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19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639280" y="4960800"/>
              <a:ext cx="145800" cy="14148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0" y="76"/>
                  </a:moveTo>
                  <a:lnTo>
                    <a:pt x="12" y="89"/>
                  </a:lnTo>
                  <a:lnTo>
                    <a:pt x="80" y="14"/>
                  </a:lnTo>
                  <a:lnTo>
                    <a:pt x="75" y="8"/>
                  </a:lnTo>
                  <a:lnTo>
                    <a:pt x="69" y="14"/>
                  </a:lnTo>
                  <a:lnTo>
                    <a:pt x="75" y="16"/>
                  </a:lnTo>
                  <a:lnTo>
                    <a:pt x="69" y="11"/>
                  </a:lnTo>
                  <a:lnTo>
                    <a:pt x="79" y="43"/>
                  </a:lnTo>
                  <a:lnTo>
                    <a:pt x="92" y="37"/>
                  </a:lnTo>
                  <a:lnTo>
                    <a:pt x="82" y="5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794800" y="509760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831160" y="5199120"/>
              <a:ext cx="98640" cy="217440"/>
            </a:xfrm>
            <a:custGeom>
              <a:avLst/>
              <a:gdLst/>
              <a:ahLst/>
              <a:rect l="l" t="t" r="r" b="b"/>
              <a:pathLst>
                <a:path w="62" h="137">
                  <a:moveTo>
                    <a:pt x="14" y="0"/>
                  </a:moveTo>
                  <a:lnTo>
                    <a:pt x="0" y="6"/>
                  </a:lnTo>
                  <a:lnTo>
                    <a:pt x="49" y="137"/>
                  </a:lnTo>
                  <a:lnTo>
                    <a:pt x="62" y="13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940960" y="534024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6"/>
                  </a:moveTo>
                  <a:lnTo>
                    <a:pt x="13" y="24"/>
                  </a:lnTo>
                  <a:lnTo>
                    <a:pt x="21" y="8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986680" y="5234040"/>
              <a:ext cx="138240" cy="177840"/>
            </a:xfrm>
            <a:custGeom>
              <a:avLst/>
              <a:gdLst/>
              <a:ahLst/>
              <a:rect l="l" t="t" r="r" b="b"/>
              <a:pathLst>
                <a:path w="87" h="112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14" y="16"/>
                  </a:lnTo>
                  <a:lnTo>
                    <a:pt x="19" y="14"/>
                  </a:lnTo>
                  <a:lnTo>
                    <a:pt x="8" y="13"/>
                  </a:lnTo>
                  <a:lnTo>
                    <a:pt x="75" y="112"/>
                  </a:lnTo>
                  <a:lnTo>
                    <a:pt x="87" y="102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151920" y="54608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2" y="0"/>
                  </a:moveTo>
                  <a:lnTo>
                    <a:pt x="0" y="10"/>
                  </a:lnTo>
                  <a:lnTo>
                    <a:pt x="11" y="24"/>
                  </a:lnTo>
                  <a:lnTo>
                    <a:pt x="22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9212400" y="550692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12" y="27"/>
                  </a:moveTo>
                  <a:lnTo>
                    <a:pt x="0" y="37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30" y="73"/>
                  </a:lnTo>
                  <a:lnTo>
                    <a:pt x="35" y="72"/>
                  </a:lnTo>
                  <a:lnTo>
                    <a:pt x="38" y="65"/>
                  </a:lnTo>
                  <a:lnTo>
                    <a:pt x="38" y="8"/>
                  </a:lnTo>
                  <a:lnTo>
                    <a:pt x="30" y="8"/>
                  </a:lnTo>
                  <a:lnTo>
                    <a:pt x="24" y="14"/>
                  </a:lnTo>
                  <a:lnTo>
                    <a:pt x="30" y="16"/>
                  </a:lnTo>
                  <a:lnTo>
                    <a:pt x="35" y="14"/>
                  </a:lnTo>
                  <a:lnTo>
                    <a:pt x="24" y="14"/>
                  </a:lnTo>
                  <a:lnTo>
                    <a:pt x="50" y="43"/>
                  </a:lnTo>
                  <a:lnTo>
                    <a:pt x="62" y="3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65"/>
                  </a:lnTo>
                  <a:lnTo>
                    <a:pt x="35" y="59"/>
                  </a:lnTo>
                  <a:lnTo>
                    <a:pt x="30" y="57"/>
                  </a:lnTo>
                  <a:lnTo>
                    <a:pt x="24" y="59"/>
                  </a:lnTo>
                  <a:lnTo>
                    <a:pt x="22" y="65"/>
                  </a:lnTo>
                  <a:lnTo>
                    <a:pt x="30" y="65"/>
                  </a:lnTo>
                  <a:lnTo>
                    <a:pt x="35" y="61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79D-B8F3-4FBD-8703-F1189B5684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84280" y="1738440"/>
            <a:ext cx="85341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urrent generato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84280" y="2290680"/>
            <a:ext cx="25146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Transistor level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527880" y="2325600"/>
            <a:ext cx="1676160" cy="703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ve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479760" y="2290680"/>
            <a:ext cx="243828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ed  Transistor level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werm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5400000">
            <a:off x="1564920" y="35100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5400000">
            <a:off x="7137000" y="35100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5400000">
            <a:off x="4350960" y="35100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84280" y="3814920"/>
            <a:ext cx="228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Hug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imited to analog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174840" y="3814920"/>
            <a:ext cx="2819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Difficult adaptation to usual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imited to 1 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222960" y="3814920"/>
            <a:ext cx="25430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Simple, not limi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F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Not very accura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3336840" y="5091120"/>
            <a:ext cx="251784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1" name=""/>
          <p:cNvSpPr/>
          <p:nvPr/>
        </p:nvSpPr>
        <p:spPr>
          <a:xfrm>
            <a:off x="5952960" y="5592600"/>
            <a:ext cx="498600" cy="457200"/>
          </a:xfrm>
          <a:prstGeom prst="rightArrow">
            <a:avLst>
              <a:gd name="adj1" fmla="val 50000"/>
              <a:gd name="adj2" fmla="val 272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6743880" y="5064120"/>
            <a:ext cx="425160" cy="1431720"/>
            <a:chOff x="6743880" y="5064120"/>
            <a:chExt cx="425160" cy="1431720"/>
          </a:xfrm>
        </p:grpSpPr>
        <p:sp>
          <p:nvSpPr>
            <p:cNvPr id="1133" name=""/>
            <p:cNvSpPr/>
            <p:nvPr/>
          </p:nvSpPr>
          <p:spPr>
            <a:xfrm>
              <a:off x="6954480" y="5064120"/>
              <a:ext cx="0" cy="48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6743880" y="5554080"/>
              <a:ext cx="425160" cy="382680"/>
              <a:chOff x="6743880" y="5554080"/>
              <a:chExt cx="425160" cy="382680"/>
            </a:xfrm>
          </p:grpSpPr>
          <p:sp>
            <p:nvSpPr>
              <p:cNvPr id="1135" name=""/>
              <p:cNvSpPr/>
              <p:nvPr/>
            </p:nvSpPr>
            <p:spPr>
              <a:xfrm>
                <a:off x="6743880" y="5554080"/>
                <a:ext cx="425160" cy="382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775200" y="5657400"/>
                <a:ext cx="197640" cy="1357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922080" y="5657400"/>
                <a:ext cx="197640" cy="1357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"/>
            <p:cNvSpPr/>
            <p:nvPr/>
          </p:nvSpPr>
          <p:spPr>
            <a:xfrm>
              <a:off x="6957720" y="5920920"/>
              <a:ext cx="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7300800" y="5243400"/>
            <a:ext cx="181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generator 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0880" y="4937040"/>
            <a:ext cx="8128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EC3-CA07-427D-B0B0-B4F5E14D8F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137360" y="4764240"/>
            <a:ext cx="23115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 between simulation and measurement on a 16 bit micro-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1909800"/>
            <a:ext cx="68547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 for a 16 bit micro-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47600" y="602460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ithin 10dB, but I/Os not hand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857160" y="2525760"/>
            <a:ext cx="5673600" cy="3498840"/>
            <a:chOff x="857160" y="2525760"/>
            <a:chExt cx="5673600" cy="3498840"/>
          </a:xfrm>
        </p:grpSpPr>
        <p:grpSp>
          <p:nvGrpSpPr>
            <p:cNvPr id="1146" name=""/>
            <p:cNvGrpSpPr/>
            <p:nvPr/>
          </p:nvGrpSpPr>
          <p:grpSpPr>
            <a:xfrm>
              <a:off x="857160" y="2525760"/>
              <a:ext cx="5626080" cy="3498840"/>
              <a:chOff x="857160" y="2525760"/>
              <a:chExt cx="5626080" cy="3498840"/>
            </a:xfrm>
          </p:grpSpPr>
          <p:sp>
            <p:nvSpPr>
              <p:cNvPr id="1147" name=""/>
              <p:cNvSpPr/>
              <p:nvPr/>
            </p:nvSpPr>
            <p:spPr>
              <a:xfrm>
                <a:off x="857160" y="2525760"/>
                <a:ext cx="5626080" cy="349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133280" y="2631960"/>
                <a:ext cx="5197680" cy="30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33280" y="573084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133280" y="504036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133280" y="470052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133280" y="435456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133280" y="400860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133280" y="366228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133280" y="332280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133280" y="297828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133280" y="263196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65240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95732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17332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3432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48436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5956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7003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78748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3908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69396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9099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752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21488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3322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43052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5180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1213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42448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64192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118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94504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0627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16248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2499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8638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60044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3309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133280" y="2631960"/>
                <a:ext cx="5197680" cy="309888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3328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096920" y="573084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96920" y="538632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096920" y="504036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096920" y="470052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096920" y="435456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96920" y="400860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096920" y="366228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96920" y="332280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096920" y="297828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096920" y="263196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133280" y="538632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1133280" y="53859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2863800" y="53859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4600440" y="53859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6330960" y="53859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700360" y="2847960"/>
                <a:ext cx="3316320" cy="2608200"/>
              </a:xfrm>
              <a:custGeom>
                <a:avLst/>
                <a:gdLst/>
                <a:ahLst/>
                <a:rect l="l" t="t" r="r" b="b"/>
                <a:pathLst>
                  <a:path w="567" h="445">
                    <a:moveTo>
                      <a:pt x="0" y="32"/>
                    </a:moveTo>
                    <a:lnTo>
                      <a:pt x="89" y="64"/>
                    </a:lnTo>
                    <a:lnTo>
                      <a:pt x="141" y="76"/>
                    </a:lnTo>
                    <a:lnTo>
                      <a:pt x="178" y="0"/>
                    </a:lnTo>
                    <a:lnTo>
                      <a:pt x="207" y="20"/>
                    </a:lnTo>
                    <a:lnTo>
                      <a:pt x="230" y="47"/>
                    </a:lnTo>
                    <a:lnTo>
                      <a:pt x="250" y="105"/>
                    </a:lnTo>
                    <a:lnTo>
                      <a:pt x="267" y="117"/>
                    </a:lnTo>
                    <a:lnTo>
                      <a:pt x="282" y="108"/>
                    </a:lnTo>
                    <a:lnTo>
                      <a:pt x="296" y="105"/>
                    </a:lnTo>
                    <a:lnTo>
                      <a:pt x="308" y="125"/>
                    </a:lnTo>
                    <a:lnTo>
                      <a:pt x="319" y="181"/>
                    </a:lnTo>
                    <a:lnTo>
                      <a:pt x="330" y="205"/>
                    </a:lnTo>
                    <a:lnTo>
                      <a:pt x="339" y="160"/>
                    </a:lnTo>
                    <a:lnTo>
                      <a:pt x="348" y="156"/>
                    </a:lnTo>
                    <a:lnTo>
                      <a:pt x="356" y="177"/>
                    </a:lnTo>
                    <a:lnTo>
                      <a:pt x="364" y="237"/>
                    </a:lnTo>
                    <a:lnTo>
                      <a:pt x="372" y="252"/>
                    </a:lnTo>
                    <a:lnTo>
                      <a:pt x="379" y="209"/>
                    </a:lnTo>
                    <a:lnTo>
                      <a:pt x="385" y="207"/>
                    </a:lnTo>
                    <a:lnTo>
                      <a:pt x="391" y="246"/>
                    </a:lnTo>
                    <a:lnTo>
                      <a:pt x="397" y="288"/>
                    </a:lnTo>
                    <a:lnTo>
                      <a:pt x="403" y="319"/>
                    </a:lnTo>
                    <a:lnTo>
                      <a:pt x="409" y="279"/>
                    </a:lnTo>
                    <a:lnTo>
                      <a:pt x="414" y="304"/>
                    </a:lnTo>
                    <a:lnTo>
                      <a:pt x="419" y="411"/>
                    </a:lnTo>
                    <a:lnTo>
                      <a:pt x="424" y="337"/>
                    </a:lnTo>
                    <a:lnTo>
                      <a:pt x="428" y="379"/>
                    </a:lnTo>
                    <a:lnTo>
                      <a:pt x="433" y="362"/>
                    </a:lnTo>
                    <a:lnTo>
                      <a:pt x="437" y="278"/>
                    </a:lnTo>
                    <a:lnTo>
                      <a:pt x="442" y="287"/>
                    </a:lnTo>
                    <a:lnTo>
                      <a:pt x="446" y="304"/>
                    </a:lnTo>
                    <a:lnTo>
                      <a:pt x="450" y="348"/>
                    </a:lnTo>
                    <a:lnTo>
                      <a:pt x="453" y="346"/>
                    </a:lnTo>
                    <a:lnTo>
                      <a:pt x="457" y="287"/>
                    </a:lnTo>
                    <a:lnTo>
                      <a:pt x="461" y="271"/>
                    </a:lnTo>
                    <a:lnTo>
                      <a:pt x="464" y="280"/>
                    </a:lnTo>
                    <a:lnTo>
                      <a:pt x="468" y="314"/>
                    </a:lnTo>
                    <a:lnTo>
                      <a:pt x="471" y="317"/>
                    </a:lnTo>
                    <a:lnTo>
                      <a:pt x="474" y="338"/>
                    </a:lnTo>
                    <a:lnTo>
                      <a:pt x="478" y="360"/>
                    </a:lnTo>
                    <a:lnTo>
                      <a:pt x="481" y="311"/>
                    </a:lnTo>
                    <a:lnTo>
                      <a:pt x="484" y="338"/>
                    </a:lnTo>
                    <a:lnTo>
                      <a:pt x="487" y="357"/>
                    </a:lnTo>
                    <a:lnTo>
                      <a:pt x="490" y="310"/>
                    </a:lnTo>
                    <a:lnTo>
                      <a:pt x="492" y="283"/>
                    </a:lnTo>
                    <a:lnTo>
                      <a:pt x="495" y="308"/>
                    </a:lnTo>
                    <a:lnTo>
                      <a:pt x="498" y="353"/>
                    </a:lnTo>
                    <a:lnTo>
                      <a:pt x="500" y="330"/>
                    </a:lnTo>
                    <a:lnTo>
                      <a:pt x="503" y="306"/>
                    </a:lnTo>
                    <a:lnTo>
                      <a:pt x="506" y="323"/>
                    </a:lnTo>
                    <a:lnTo>
                      <a:pt x="508" y="358"/>
                    </a:lnTo>
                    <a:lnTo>
                      <a:pt x="511" y="423"/>
                    </a:lnTo>
                    <a:lnTo>
                      <a:pt x="513" y="366"/>
                    </a:lnTo>
                    <a:lnTo>
                      <a:pt x="515" y="355"/>
                    </a:lnTo>
                    <a:lnTo>
                      <a:pt x="518" y="350"/>
                    </a:lnTo>
                    <a:lnTo>
                      <a:pt x="520" y="401"/>
                    </a:lnTo>
                    <a:lnTo>
                      <a:pt x="522" y="387"/>
                    </a:lnTo>
                    <a:lnTo>
                      <a:pt x="524" y="373"/>
                    </a:lnTo>
                    <a:lnTo>
                      <a:pt x="527" y="391"/>
                    </a:lnTo>
                    <a:lnTo>
                      <a:pt x="529" y="417"/>
                    </a:lnTo>
                    <a:lnTo>
                      <a:pt x="531" y="444"/>
                    </a:lnTo>
                    <a:lnTo>
                      <a:pt x="533" y="404"/>
                    </a:lnTo>
                    <a:lnTo>
                      <a:pt x="535" y="412"/>
                    </a:lnTo>
                    <a:lnTo>
                      <a:pt x="537" y="409"/>
                    </a:lnTo>
                    <a:lnTo>
                      <a:pt x="539" y="443"/>
                    </a:lnTo>
                    <a:lnTo>
                      <a:pt x="541" y="403"/>
                    </a:lnTo>
                    <a:lnTo>
                      <a:pt x="543" y="398"/>
                    </a:lnTo>
                    <a:lnTo>
                      <a:pt x="545" y="430"/>
                    </a:lnTo>
                    <a:lnTo>
                      <a:pt x="546" y="392"/>
                    </a:lnTo>
                    <a:lnTo>
                      <a:pt x="548" y="363"/>
                    </a:lnTo>
                    <a:lnTo>
                      <a:pt x="550" y="358"/>
                    </a:lnTo>
                    <a:lnTo>
                      <a:pt x="552" y="381"/>
                    </a:lnTo>
                    <a:lnTo>
                      <a:pt x="554" y="393"/>
                    </a:lnTo>
                    <a:lnTo>
                      <a:pt x="555" y="377"/>
                    </a:lnTo>
                    <a:lnTo>
                      <a:pt x="557" y="358"/>
                    </a:lnTo>
                    <a:lnTo>
                      <a:pt x="559" y="371"/>
                    </a:lnTo>
                    <a:lnTo>
                      <a:pt x="560" y="429"/>
                    </a:lnTo>
                    <a:lnTo>
                      <a:pt x="562" y="376"/>
                    </a:lnTo>
                    <a:lnTo>
                      <a:pt x="564" y="334"/>
                    </a:lnTo>
                    <a:lnTo>
                      <a:pt x="565" y="348"/>
                    </a:lnTo>
                    <a:lnTo>
                      <a:pt x="567" y="445"/>
                    </a:lnTo>
                  </a:path>
                </a:pathLst>
              </a:custGeom>
              <a:noFill/>
              <a:ln w="176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00360" y="2919240"/>
                <a:ext cx="3316320" cy="2319480"/>
              </a:xfrm>
              <a:custGeom>
                <a:avLst/>
                <a:gdLst/>
                <a:ahLst/>
                <a:rect l="l" t="t" r="r" b="b"/>
                <a:pathLst>
                  <a:path w="567" h="396">
                    <a:moveTo>
                      <a:pt x="0" y="78"/>
                    </a:moveTo>
                    <a:lnTo>
                      <a:pt x="89" y="55"/>
                    </a:lnTo>
                    <a:lnTo>
                      <a:pt x="141" y="81"/>
                    </a:lnTo>
                    <a:lnTo>
                      <a:pt x="178" y="0"/>
                    </a:lnTo>
                    <a:lnTo>
                      <a:pt x="207" y="77"/>
                    </a:lnTo>
                    <a:lnTo>
                      <a:pt x="230" y="79"/>
                    </a:lnTo>
                    <a:lnTo>
                      <a:pt x="250" y="122"/>
                    </a:lnTo>
                    <a:lnTo>
                      <a:pt x="267" y="80"/>
                    </a:lnTo>
                    <a:lnTo>
                      <a:pt x="282" y="134"/>
                    </a:lnTo>
                    <a:lnTo>
                      <a:pt x="296" y="125"/>
                    </a:lnTo>
                    <a:lnTo>
                      <a:pt x="308" y="147"/>
                    </a:lnTo>
                    <a:lnTo>
                      <a:pt x="319" y="149"/>
                    </a:lnTo>
                    <a:lnTo>
                      <a:pt x="330" y="202"/>
                    </a:lnTo>
                    <a:lnTo>
                      <a:pt x="339" y="178"/>
                    </a:lnTo>
                    <a:lnTo>
                      <a:pt x="348" y="182"/>
                    </a:lnTo>
                    <a:lnTo>
                      <a:pt x="356" y="237"/>
                    </a:lnTo>
                    <a:lnTo>
                      <a:pt x="364" y="272"/>
                    </a:lnTo>
                    <a:lnTo>
                      <a:pt x="372" y="262"/>
                    </a:lnTo>
                    <a:lnTo>
                      <a:pt x="379" y="209"/>
                    </a:lnTo>
                    <a:lnTo>
                      <a:pt x="385" y="227"/>
                    </a:lnTo>
                    <a:lnTo>
                      <a:pt x="391" y="210"/>
                    </a:lnTo>
                    <a:lnTo>
                      <a:pt x="397" y="226"/>
                    </a:lnTo>
                    <a:lnTo>
                      <a:pt x="403" y="246"/>
                    </a:lnTo>
                    <a:lnTo>
                      <a:pt x="409" y="265"/>
                    </a:lnTo>
                    <a:lnTo>
                      <a:pt x="414" y="195"/>
                    </a:lnTo>
                    <a:lnTo>
                      <a:pt x="419" y="320"/>
                    </a:lnTo>
                    <a:lnTo>
                      <a:pt x="424" y="267"/>
                    </a:lnTo>
                    <a:lnTo>
                      <a:pt x="428" y="225"/>
                    </a:lnTo>
                    <a:lnTo>
                      <a:pt x="433" y="211"/>
                    </a:lnTo>
                    <a:lnTo>
                      <a:pt x="437" y="248"/>
                    </a:lnTo>
                    <a:lnTo>
                      <a:pt x="442" y="213"/>
                    </a:lnTo>
                    <a:lnTo>
                      <a:pt x="446" y="218"/>
                    </a:lnTo>
                    <a:lnTo>
                      <a:pt x="450" y="294"/>
                    </a:lnTo>
                    <a:lnTo>
                      <a:pt x="453" y="265"/>
                    </a:lnTo>
                    <a:lnTo>
                      <a:pt x="457" y="216"/>
                    </a:lnTo>
                    <a:lnTo>
                      <a:pt x="461" y="222"/>
                    </a:lnTo>
                    <a:lnTo>
                      <a:pt x="464" y="261"/>
                    </a:lnTo>
                    <a:lnTo>
                      <a:pt x="468" y="254"/>
                    </a:lnTo>
                    <a:lnTo>
                      <a:pt x="471" y="254"/>
                    </a:lnTo>
                    <a:lnTo>
                      <a:pt x="474" y="249"/>
                    </a:lnTo>
                    <a:lnTo>
                      <a:pt x="478" y="259"/>
                    </a:lnTo>
                    <a:lnTo>
                      <a:pt x="481" y="286"/>
                    </a:lnTo>
                    <a:lnTo>
                      <a:pt x="484" y="332"/>
                    </a:lnTo>
                    <a:lnTo>
                      <a:pt x="487" y="275"/>
                    </a:lnTo>
                    <a:lnTo>
                      <a:pt x="490" y="292"/>
                    </a:lnTo>
                    <a:lnTo>
                      <a:pt x="492" y="258"/>
                    </a:lnTo>
                    <a:lnTo>
                      <a:pt x="495" y="297"/>
                    </a:lnTo>
                    <a:lnTo>
                      <a:pt x="498" y="396"/>
                    </a:lnTo>
                    <a:lnTo>
                      <a:pt x="500" y="315"/>
                    </a:lnTo>
                    <a:lnTo>
                      <a:pt x="503" y="266"/>
                    </a:lnTo>
                    <a:lnTo>
                      <a:pt x="506" y="287"/>
                    </a:lnTo>
                    <a:lnTo>
                      <a:pt x="508" y="302"/>
                    </a:lnTo>
                    <a:lnTo>
                      <a:pt x="511" y="329"/>
                    </a:lnTo>
                    <a:lnTo>
                      <a:pt x="513" y="306"/>
                    </a:lnTo>
                    <a:lnTo>
                      <a:pt x="515" y="302"/>
                    </a:lnTo>
                    <a:lnTo>
                      <a:pt x="518" y="294"/>
                    </a:lnTo>
                    <a:lnTo>
                      <a:pt x="520" y="304"/>
                    </a:lnTo>
                    <a:lnTo>
                      <a:pt x="522" y="384"/>
                    </a:lnTo>
                    <a:lnTo>
                      <a:pt x="524" y="377"/>
                    </a:lnTo>
                    <a:lnTo>
                      <a:pt x="527" y="294"/>
                    </a:lnTo>
                    <a:lnTo>
                      <a:pt x="529" y="321"/>
                    </a:lnTo>
                    <a:lnTo>
                      <a:pt x="531" y="378"/>
                    </a:lnTo>
                    <a:lnTo>
                      <a:pt x="533" y="355"/>
                    </a:lnTo>
                    <a:lnTo>
                      <a:pt x="535" y="332"/>
                    </a:lnTo>
                    <a:lnTo>
                      <a:pt x="537" y="357"/>
                    </a:lnTo>
                    <a:lnTo>
                      <a:pt x="539" y="384"/>
                    </a:lnTo>
                    <a:lnTo>
                      <a:pt x="541" y="388"/>
                    </a:lnTo>
                    <a:lnTo>
                      <a:pt x="543" y="344"/>
                    </a:lnTo>
                    <a:lnTo>
                      <a:pt x="545" y="367"/>
                    </a:lnTo>
                    <a:lnTo>
                      <a:pt x="546" y="355"/>
                    </a:lnTo>
                    <a:lnTo>
                      <a:pt x="548" y="392"/>
                    </a:lnTo>
                    <a:lnTo>
                      <a:pt x="550" y="315"/>
                    </a:lnTo>
                    <a:lnTo>
                      <a:pt x="552" y="336"/>
                    </a:lnTo>
                    <a:lnTo>
                      <a:pt x="554" y="344"/>
                    </a:lnTo>
                    <a:lnTo>
                      <a:pt x="555" y="349"/>
                    </a:lnTo>
                    <a:lnTo>
                      <a:pt x="557" y="372"/>
                    </a:lnTo>
                    <a:lnTo>
                      <a:pt x="559" y="334"/>
                    </a:lnTo>
                    <a:lnTo>
                      <a:pt x="560" y="367"/>
                    </a:lnTo>
                    <a:lnTo>
                      <a:pt x="562" y="377"/>
                    </a:lnTo>
                    <a:lnTo>
                      <a:pt x="564" y="353"/>
                    </a:lnTo>
                    <a:lnTo>
                      <a:pt x="565" y="338"/>
                    </a:lnTo>
                    <a:lnTo>
                      <a:pt x="567" y="355"/>
                    </a:lnTo>
                  </a:path>
                </a:pathLst>
              </a:custGeom>
              <a:noFill/>
              <a:ln w="11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82720" y="301788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203640" y="3206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506760" y="3276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22760" y="28306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892680" y="2948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027320" y="31068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145040" y="3446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243320" y="3516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332240" y="3463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13240" y="3446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483080" y="3564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48240" y="389088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611600" y="403236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0"/>
                    </a:moveTo>
                    <a:lnTo>
                      <a:pt x="23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665600" y="3768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718160" y="3745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63880" y="3868560"/>
                <a:ext cx="34920" cy="352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11760" y="4219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57840" y="430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98880" y="4056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933800" y="40435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68720" y="4272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003640" y="45180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38560" y="4700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73480" y="44658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03720" y="46116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32520" y="5238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162400" y="4805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184720" y="50515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14960" y="49514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238720" y="44593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267160" y="4513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91280" y="46116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313240" y="487044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332320" y="48578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354640" y="4513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378400" y="44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396040" y="44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419800" y="467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37080" y="46879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454720" y="4811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478480" y="494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95760" y="4653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513400" y="4811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530680" y="4923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48320" y="4648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559480" y="4489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576760" y="4635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594400" y="4898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607000" y="47642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24640" y="462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641920" y="472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653080" y="492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670360" y="531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683320" y="4975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694480" y="4911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11760" y="4881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22920" y="5180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735520" y="5099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746680" y="5016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764320" y="51228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776920" y="52736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788080" y="5432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799240" y="519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11840" y="5245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823000" y="5227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834160" y="54259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46760" y="5192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57920" y="51624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69080" y="53499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0"/>
                    </a:moveTo>
                    <a:lnTo>
                      <a:pt x="23" y="12"/>
                    </a:lnTo>
                    <a:lnTo>
                      <a:pt x="12" y="23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875200" y="5127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88160" y="4957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98960" y="492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10120" y="5064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923080" y="5133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927760" y="504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940360" y="492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51520" y="5005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58000" y="5345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68800" y="5033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79960" y="47880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986440" y="4870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999040" y="5438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682720" y="3359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203640" y="3224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506760" y="3376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722760" y="29019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892680" y="3352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027320" y="3363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145040" y="3616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243320" y="3370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332240" y="3686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413240" y="3633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483080" y="3762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548240" y="3774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611600" y="408456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665600" y="3944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718160" y="39672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763880" y="42894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811760" y="4495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857840" y="4437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898880" y="4125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93380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96872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003640" y="4226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038560" y="434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073480" y="445464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103720" y="40435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132520" y="4776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162400" y="44658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84720" y="42195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214960" y="41371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238720" y="435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267160" y="414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291280" y="4178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313240" y="462456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332320" y="4454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354640" y="4167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378400" y="4202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396040" y="4430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419800" y="438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437080" y="438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454720" y="4361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78480" y="44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95760" y="4576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513400" y="4846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530680" y="4513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548320" y="46116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559480" y="44132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76760" y="4641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94400" y="5221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607000" y="4746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24640" y="44593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41920" y="4583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653080" y="467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70360" y="4829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683320" y="4694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94480" y="467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711760" y="462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722920" y="46832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735520" y="5151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746680" y="5110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764320" y="462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776920" y="47815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7" name=""/>
            <p:cNvSpPr/>
            <p:nvPr/>
          </p:nvSpPr>
          <p:spPr>
            <a:xfrm>
              <a:off x="5788080" y="5116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99240" y="498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11840" y="4846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823000" y="49928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834160" y="5151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46760" y="51753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57920" y="4916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869080" y="50515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23" y="22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875200" y="498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88160" y="51991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99320" y="4746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910120" y="48704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923080" y="4916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27760" y="4946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940360" y="5081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951520" y="48578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23"/>
                  </a:lnTo>
                  <a:lnTo>
                    <a:pt x="0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8000" y="5051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969160" y="5110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79960" y="497052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23" y="22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86440" y="4881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999040" y="498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78400" y="56610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999360" y="531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924120" y="497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924120" y="4629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924120" y="4284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924120" y="3938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924120" y="3592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924120" y="325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924120" y="2906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24120" y="2562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12140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06920" y="5837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504680" y="5837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188760" y="5837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552120" y="5807160"/>
              <a:ext cx="50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6200000">
              <a:off x="398880" y="3623040"/>
              <a:ext cx="18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µV in conducted m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72960" y="2841480"/>
              <a:ext cx="1600920" cy="396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Simulation (PSP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EMC mod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35360" y="3797280"/>
              <a:ext cx="1407960" cy="3963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Measurement (Conducted 1</a:t>
              </a:r>
              <a:r>
                <a:rPr b="1" lang="en-US" sz="1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6" name="" descr=""/>
            <p:cNvPicPr/>
            <p:nvPr/>
          </p:nvPicPr>
          <p:blipFill>
            <a:blip r:embed="rId1"/>
            <a:stretch/>
          </p:blipFill>
          <p:spPr>
            <a:xfrm>
              <a:off x="1582560" y="4389480"/>
              <a:ext cx="1924200" cy="1081080"/>
            </a:xfrm>
            <a:prstGeom prst="rect">
              <a:avLst/>
            </a:prstGeom>
            <a:ln w="9360">
              <a:solidFill>
                <a:srgbClr val="fc0128"/>
              </a:solidFill>
              <a:miter/>
            </a:ln>
          </p:spPr>
        </p:pic>
      </p:grpSp>
      <p:graphicFrame>
        <p:nvGraphicFramePr>
          <p:cNvPr id="1387" name=""/>
          <p:cNvGraphicFramePr/>
          <p:nvPr/>
        </p:nvGraphicFramePr>
        <p:xfrm>
          <a:off x="7070760" y="2406600"/>
          <a:ext cx="2378160" cy="22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70760" y="2406600"/>
                    <a:ext cx="237816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1A5-FE16-41E1-86FC-696F6E8293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91440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dd IBIS I/O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76200" y="5235480"/>
            <a:ext cx="5610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Zsub: basically a 1-10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serial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io : decoupling capacitance for IO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O block: reuse of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1276200" y="2635200"/>
            <a:ext cx="7041960" cy="2257200"/>
            <a:chOff x="1276200" y="2635200"/>
            <a:chExt cx="7041960" cy="2257200"/>
          </a:xfrm>
        </p:grpSpPr>
        <p:sp>
          <p:nvSpPr>
            <p:cNvPr id="1393" name=""/>
            <p:cNvSpPr/>
            <p:nvPr/>
          </p:nvSpPr>
          <p:spPr>
            <a:xfrm>
              <a:off x="2647800" y="2788920"/>
              <a:ext cx="4114800" cy="2103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4" name=""/>
            <p:cNvGrpSpPr/>
            <p:nvPr/>
          </p:nvGrpSpPr>
          <p:grpSpPr>
            <a:xfrm>
              <a:off x="4295880" y="3155760"/>
              <a:ext cx="718560" cy="1101600"/>
              <a:chOff x="4295880" y="3155760"/>
              <a:chExt cx="718560" cy="1101600"/>
            </a:xfrm>
          </p:grpSpPr>
          <p:sp>
            <p:nvSpPr>
              <p:cNvPr id="1395" name=""/>
              <p:cNvSpPr/>
              <p:nvPr/>
            </p:nvSpPr>
            <p:spPr>
              <a:xfrm>
                <a:off x="4295880" y="35445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6" name=""/>
              <p:cNvGrpSpPr/>
              <p:nvPr/>
            </p:nvGrpSpPr>
            <p:grpSpPr>
              <a:xfrm>
                <a:off x="4659480" y="3155760"/>
                <a:ext cx="354960" cy="1101600"/>
                <a:chOff x="4659480" y="3155760"/>
                <a:chExt cx="354960" cy="110160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830840" y="31557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8" name=""/>
                <p:cNvGrpSpPr/>
                <p:nvPr/>
              </p:nvGrpSpPr>
              <p:grpSpPr>
                <a:xfrm>
                  <a:off x="4659480" y="3503880"/>
                  <a:ext cx="354960" cy="343080"/>
                  <a:chOff x="4659480" y="3503880"/>
                  <a:chExt cx="354960" cy="343080"/>
                </a:xfrm>
              </p:grpSpPr>
              <p:sp>
                <p:nvSpPr>
                  <p:cNvPr id="1399" name=""/>
                  <p:cNvSpPr/>
                  <p:nvPr/>
                </p:nvSpPr>
                <p:spPr>
                  <a:xfrm>
                    <a:off x="4659480" y="35038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46857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48081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2" name=""/>
                <p:cNvSpPr/>
                <p:nvPr/>
              </p:nvSpPr>
              <p:spPr>
                <a:xfrm flipV="1">
                  <a:off x="4830840" y="38426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3" name=""/>
            <p:cNvSpPr/>
            <p:nvPr/>
          </p:nvSpPr>
          <p:spPr>
            <a:xfrm rot="5400000">
              <a:off x="3285360" y="29746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41560" y="263520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276200" y="2971800"/>
              <a:ext cx="100620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9913" y="10800"/>
                  </a:moveTo>
                  <a:lnTo>
                    <a:pt x="23235" y="8272"/>
                  </a:lnTo>
                </a:path>
                <a:path w="21600" h="21600">
                  <a:moveTo>
                    <a:pt x="23235" y="0"/>
                  </a:moveTo>
                  <a:lnTo>
                    <a:pt x="23235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2762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5439" y="809"/>
                  </a:moveTo>
                  <a:lnTo>
                    <a:pt x="23098" y="8317"/>
                  </a:lnTo>
                </a:path>
                <a:path w="21600" h="21600">
                  <a:moveTo>
                    <a:pt x="23098" y="0"/>
                  </a:moveTo>
                  <a:lnTo>
                    <a:pt x="230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464920" y="42145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464920" y="31208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2466000" y="3155760"/>
              <a:ext cx="604080" cy="1096560"/>
              <a:chOff x="2466000" y="3155760"/>
              <a:chExt cx="604080" cy="1096560"/>
            </a:xfrm>
          </p:grpSpPr>
          <p:sp>
            <p:nvSpPr>
              <p:cNvPr id="1410" name=""/>
              <p:cNvSpPr/>
              <p:nvPr/>
            </p:nvSpPr>
            <p:spPr>
              <a:xfrm>
                <a:off x="2817720" y="3622320"/>
                <a:ext cx="25236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817720" y="37090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46600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9415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9415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2557080" y="3155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570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562200" y="31557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5400000">
              <a:off x="3834720" y="29746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655080" y="272700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5400000">
              <a:off x="3284640" y="40723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570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562200" y="42526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5400000">
              <a:off x="3834000" y="40723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06080" y="453204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55800" y="4532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111200" y="3155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11200" y="42526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3747240" y="3155760"/>
              <a:ext cx="602280" cy="1096560"/>
              <a:chOff x="3747240" y="3155760"/>
              <a:chExt cx="602280" cy="1096560"/>
            </a:xfrm>
          </p:grpSpPr>
          <p:sp>
            <p:nvSpPr>
              <p:cNvPr id="1429" name=""/>
              <p:cNvSpPr/>
              <p:nvPr/>
            </p:nvSpPr>
            <p:spPr>
              <a:xfrm>
                <a:off x="409788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09788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4724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2213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2213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4" name=""/>
            <p:cNvSpPr/>
            <p:nvPr/>
          </p:nvSpPr>
          <p:spPr>
            <a:xfrm rot="5400000">
              <a:off x="5660280" y="3423960"/>
              <a:ext cx="923760" cy="549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1520" y="3565440"/>
              <a:ext cx="903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397200" y="3612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42520" y="3617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032160" y="416052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032160" y="315576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5400000">
              <a:off x="5205600" y="4072320"/>
              <a:ext cx="189000" cy="3650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27040" y="45320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32160" y="425268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54400" y="419868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2198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649" y="1502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19800" y="278892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4702" y="24834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574960" y="3155760"/>
              <a:ext cx="12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64120" y="311760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8" name=""/>
            <p:cNvGrpSpPr/>
            <p:nvPr/>
          </p:nvGrpSpPr>
          <p:grpSpPr>
            <a:xfrm>
              <a:off x="5100120" y="3155760"/>
              <a:ext cx="601920" cy="1096560"/>
              <a:chOff x="5100120" y="3155760"/>
              <a:chExt cx="601920" cy="1096560"/>
            </a:xfrm>
          </p:grpSpPr>
          <p:sp>
            <p:nvSpPr>
              <p:cNvPr id="1449" name=""/>
              <p:cNvSpPr/>
              <p:nvPr/>
            </p:nvSpPr>
            <p:spPr>
              <a:xfrm>
                <a:off x="545040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45040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00120" y="3630600"/>
                <a:ext cx="47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57388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57388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5702040" y="2727000"/>
              <a:ext cx="895320" cy="1822680"/>
            </a:xfrm>
            <a:prstGeom prst="ellipse">
              <a:avLst/>
            </a:prstGeom>
            <a:noFill/>
            <a:ln w="2844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8160" y="3155760"/>
              <a:ext cx="768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3B7-9DFA-4EBF-9A06-A0409E8FD9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3352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276200" y="6024600"/>
            <a:ext cx="832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O modify the spectrum at high frequencies (&gt;300MHz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tretch/>
        </p:blipFill>
        <p:spPr>
          <a:xfrm>
            <a:off x="2514600" y="1932120"/>
            <a:ext cx="6705720" cy="393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05E-67BE-401C-B42B-90D95A0723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6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4408560" y="2860560"/>
            <a:ext cx="4987440" cy="2446560"/>
            <a:chOff x="4408560" y="2860560"/>
            <a:chExt cx="4987440" cy="2446560"/>
          </a:xfrm>
        </p:grpSpPr>
        <p:sp>
          <p:nvSpPr>
            <p:cNvPr id="1462" name=""/>
            <p:cNvSpPr/>
            <p:nvPr/>
          </p:nvSpPr>
          <p:spPr>
            <a:xfrm>
              <a:off x="7333920" y="3317760"/>
              <a:ext cx="771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g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603840" y="468792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465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5883120" y="3422520"/>
              <a:ext cx="8568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6968880" y="4050000"/>
              <a:ext cx="364680" cy="639360"/>
              <a:chOff x="6968880" y="4050000"/>
              <a:chExt cx="364680" cy="639360"/>
            </a:xfrm>
          </p:grpSpPr>
          <p:sp>
            <p:nvSpPr>
              <p:cNvPr id="1477" name=""/>
              <p:cNvSpPr/>
              <p:nvPr/>
            </p:nvSpPr>
            <p:spPr>
              <a:xfrm>
                <a:off x="7151040" y="4050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151040" y="44154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968880" y="44150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968880" y="43236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5962320" y="4586760"/>
              <a:ext cx="714240" cy="193320"/>
              <a:chOff x="5962320" y="4586760"/>
              <a:chExt cx="714240" cy="193320"/>
            </a:xfrm>
          </p:grpSpPr>
          <p:sp>
            <p:nvSpPr>
              <p:cNvPr id="1482" name=""/>
              <p:cNvSpPr/>
              <p:nvPr/>
            </p:nvSpPr>
            <p:spPr>
              <a:xfrm flipH="1" flipV="1">
                <a:off x="614088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6175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621216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624708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28344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6319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V="1">
                <a:off x="635472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631980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6462360" y="4683960"/>
                <a:ext cx="214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 flipV="1">
                <a:off x="5962320" y="4683960"/>
                <a:ext cx="179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2" name=""/>
            <p:cNvSpPr/>
            <p:nvPr/>
          </p:nvSpPr>
          <p:spPr>
            <a:xfrm>
              <a:off x="5817960" y="4867200"/>
              <a:ext cx="100764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4500000" y="4687920"/>
              <a:ext cx="15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4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495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 flipV="1">
              <a:off x="4443120" y="3668040"/>
              <a:ext cx="123480" cy="563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812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450036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4408560" y="3126240"/>
              <a:ext cx="228240" cy="118440"/>
              <a:chOff x="4408560" y="3126240"/>
              <a:chExt cx="228240" cy="118440"/>
            </a:xfrm>
          </p:grpSpPr>
          <p:sp>
            <p:nvSpPr>
              <p:cNvPr id="1509" name=""/>
              <p:cNvSpPr/>
              <p:nvPr/>
            </p:nvSpPr>
            <p:spPr>
              <a:xfrm flipV="1">
                <a:off x="4408560" y="3202200"/>
                <a:ext cx="2282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4453920" y="3168000"/>
                <a:ext cx="114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4488120" y="3126240"/>
                <a:ext cx="65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4504680" y="3201840"/>
                <a:ext cx="3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3" name=""/>
            <p:cNvSpPr/>
            <p:nvPr/>
          </p:nvSpPr>
          <p:spPr>
            <a:xfrm flipV="1">
              <a:off x="4500360" y="32364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8832600" y="3669480"/>
              <a:ext cx="123480" cy="5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96760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888984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7" name=""/>
            <p:cNvGrpSpPr/>
            <p:nvPr/>
          </p:nvGrpSpPr>
          <p:grpSpPr>
            <a:xfrm>
              <a:off x="8797680" y="3125520"/>
              <a:ext cx="228240" cy="120600"/>
              <a:chOff x="8797680" y="3125520"/>
              <a:chExt cx="228240" cy="120600"/>
            </a:xfrm>
          </p:grpSpPr>
          <p:sp>
            <p:nvSpPr>
              <p:cNvPr id="1518" name=""/>
              <p:cNvSpPr/>
              <p:nvPr/>
            </p:nvSpPr>
            <p:spPr>
              <a:xfrm flipV="1">
                <a:off x="8797680" y="320256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8843040" y="31680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8877240" y="312552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8893800" y="3202560"/>
                <a:ext cx="3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2" name=""/>
            <p:cNvSpPr/>
            <p:nvPr/>
          </p:nvSpPr>
          <p:spPr>
            <a:xfrm flipV="1">
              <a:off x="8889840" y="32382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94200" y="3774960"/>
              <a:ext cx="10062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6968880" y="3135600"/>
              <a:ext cx="364680" cy="639360"/>
              <a:chOff x="6968880" y="3135600"/>
              <a:chExt cx="364680" cy="639360"/>
            </a:xfrm>
          </p:grpSpPr>
          <p:sp>
            <p:nvSpPr>
              <p:cNvPr id="1525" name=""/>
              <p:cNvSpPr/>
              <p:nvPr/>
            </p:nvSpPr>
            <p:spPr>
              <a:xfrm>
                <a:off x="7151040" y="31356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151040" y="3501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968880" y="35006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968880" y="34092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7051320" y="3025440"/>
              <a:ext cx="228240" cy="119160"/>
              <a:chOff x="7051320" y="3025440"/>
              <a:chExt cx="228240" cy="119160"/>
            </a:xfrm>
          </p:grpSpPr>
          <p:sp>
            <p:nvSpPr>
              <p:cNvPr id="1530" name=""/>
              <p:cNvSpPr/>
              <p:nvPr/>
            </p:nvSpPr>
            <p:spPr>
              <a:xfrm flipV="1">
                <a:off x="7051320" y="310140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7096680" y="30672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7130880" y="302544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7147440" y="3101400"/>
                <a:ext cx="3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7426080" y="4324320"/>
              <a:ext cx="1096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5962320" y="3227400"/>
              <a:ext cx="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6237000" y="414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322600" y="4322880"/>
              <a:ext cx="1007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Coup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2860560"/>
              <a:ext cx="77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 P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39" name=""/>
          <p:cNvGraphicFramePr/>
          <p:nvPr/>
        </p:nvGraphicFramePr>
        <p:xfrm>
          <a:off x="698400" y="2333520"/>
          <a:ext cx="338292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333520"/>
                    <a:ext cx="338292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1" name=""/>
          <p:cNvGrpSpPr/>
          <p:nvPr/>
        </p:nvGrpSpPr>
        <p:grpSpPr>
          <a:xfrm>
            <a:off x="620640" y="4689360"/>
            <a:ext cx="2745000" cy="1719360"/>
            <a:chOff x="620640" y="4689360"/>
            <a:chExt cx="2745000" cy="1719360"/>
          </a:xfrm>
        </p:grpSpPr>
        <p:sp>
          <p:nvSpPr>
            <p:cNvPr id="1542" name=""/>
            <p:cNvSpPr/>
            <p:nvPr/>
          </p:nvSpPr>
          <p:spPr>
            <a:xfrm>
              <a:off x="1297080" y="6060960"/>
              <a:ext cx="7984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44720" y="4930920"/>
              <a:ext cx="250920" cy="36360"/>
            </a:xfrm>
            <a:prstGeom prst="rect">
              <a:avLst/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793440" y="4902120"/>
              <a:ext cx="59220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765520" y="4902120"/>
              <a:ext cx="59364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 flipV="1">
              <a:off x="793440" y="5415120"/>
              <a:ext cx="59220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2765520" y="5415120"/>
              <a:ext cx="59364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384200" y="592776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92080" y="5415120"/>
              <a:ext cx="2417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55640" y="5411880"/>
              <a:ext cx="77760" cy="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390680" y="49021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1422360" y="4901760"/>
              <a:ext cx="32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428840" y="4960800"/>
              <a:ext cx="56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2658960" y="4901760"/>
              <a:ext cx="95400" cy="60840"/>
              <a:chOff x="2658960" y="4901760"/>
              <a:chExt cx="95400" cy="60840"/>
            </a:xfrm>
          </p:grpSpPr>
          <p:sp>
            <p:nvSpPr>
              <p:cNvPr id="1555" name=""/>
              <p:cNvSpPr/>
              <p:nvPr/>
            </p:nvSpPr>
            <p:spPr>
              <a:xfrm flipH="1">
                <a:off x="2724840" y="4902120"/>
                <a:ext cx="295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 flipV="1">
                <a:off x="2719800" y="4901760"/>
                <a:ext cx="18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2658960" y="4960440"/>
                <a:ext cx="56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8" name=""/>
            <p:cNvSpPr/>
            <p:nvPr/>
          </p:nvSpPr>
          <p:spPr>
            <a:xfrm flipH="1">
              <a:off x="2201400" y="490860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5728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64960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212920" y="5153040"/>
              <a:ext cx="1000080" cy="26820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43120" y="5411880"/>
              <a:ext cx="777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286080" y="5415120"/>
              <a:ext cx="795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879560" y="490536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2305080" y="4795920"/>
              <a:ext cx="347760" cy="64800"/>
              <a:chOff x="2305080" y="4795920"/>
              <a:chExt cx="347760" cy="64800"/>
            </a:xfrm>
          </p:grpSpPr>
          <p:sp>
            <p:nvSpPr>
              <p:cNvPr id="1566" name=""/>
              <p:cNvSpPr/>
              <p:nvPr/>
            </p:nvSpPr>
            <p:spPr>
              <a:xfrm>
                <a:off x="2362320" y="4795920"/>
                <a:ext cx="2246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 flipV="1">
                <a:off x="259524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230508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1506600" y="4799160"/>
              <a:ext cx="331200" cy="64440"/>
              <a:chOff x="1506600" y="4799160"/>
              <a:chExt cx="331200" cy="64440"/>
            </a:xfrm>
          </p:grpSpPr>
          <p:sp>
            <p:nvSpPr>
              <p:cNvPr id="1570" name=""/>
              <p:cNvSpPr/>
              <p:nvPr/>
            </p:nvSpPr>
            <p:spPr>
              <a:xfrm>
                <a:off x="1560960" y="4799160"/>
                <a:ext cx="2138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 flipV="1">
                <a:off x="178272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150660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3" name=""/>
            <p:cNvSpPr/>
            <p:nvPr/>
          </p:nvSpPr>
          <p:spPr>
            <a:xfrm>
              <a:off x="1450800" y="4902120"/>
              <a:ext cx="1212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454040" y="48895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457280" y="48769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54040" y="486720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0640" y="5411880"/>
              <a:ext cx="676440" cy="825480"/>
            </a:xfrm>
            <a:custGeom>
              <a:avLst/>
              <a:gdLst/>
              <a:ahLst/>
              <a:rect l="l" t="t" r="r" b="b"/>
              <a:pathLst>
                <a:path w="1065" h="1300">
                  <a:moveTo>
                    <a:pt x="214" y="0"/>
                  </a:moveTo>
                  <a:cubicBezTo>
                    <a:pt x="107" y="137"/>
                    <a:pt x="0" y="275"/>
                    <a:pt x="10" y="460"/>
                  </a:cubicBezTo>
                  <a:cubicBezTo>
                    <a:pt x="20" y="645"/>
                    <a:pt x="97" y="968"/>
                    <a:pt x="273" y="1108"/>
                  </a:cubicBezTo>
                  <a:cubicBezTo>
                    <a:pt x="449" y="1248"/>
                    <a:pt x="976" y="1270"/>
                    <a:pt x="1065" y="13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27200" y="4689360"/>
              <a:ext cx="350640" cy="2444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1841400" y="5006880"/>
              <a:ext cx="184320" cy="3668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posed model: capacitance &amp; inductanc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B59-6ED8-47A8-B3E8-10C8BAAD7E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38088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6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15200" y="28195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odel fits correctly up to 4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 high frequencies, close from noise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1"/>
          <a:stretch/>
        </p:blipFill>
        <p:spPr>
          <a:xfrm>
            <a:off x="609480" y="2496960"/>
            <a:ext cx="6705720" cy="3886200"/>
          </a:xfrm>
          <a:prstGeom prst="rect">
            <a:avLst/>
          </a:prstGeom>
          <a:ln w="0">
            <a:noFill/>
          </a:ln>
        </p:spPr>
      </p:pic>
      <p:sp>
        <p:nvSpPr>
          <p:cNvPr id="1584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03A-EF1F-4690-87C3-F4750E71F8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29520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276200" y="2133720"/>
            <a:ext cx="817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ology scale down illust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re complex chips increase parasitic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 EMC model for Ics is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simple model has been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atisfactory prediction of conducted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diction of the core emission in TEM investig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del proposal standardized by UTE (IC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Future participation to ICEM cook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635-BD3C-43B3-9F47-C31C48DDE4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76200" y="2286000"/>
            <a:ext cx="68551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. Context of th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. The IERSET project on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. System design methodology for 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. Core emissio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. Emission model with 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6. Emission model in TE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7.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1D1-AF5F-49B0-ACBB-190705C4D6B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49440" y="1752480"/>
          <a:ext cx="423864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752480"/>
                    <a:ext cx="423864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157720" y="1690560"/>
          <a:ext cx="384660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7720" y="1690560"/>
                    <a:ext cx="38466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71600" y="4495680"/>
            <a:ext cx="44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7µm, 2 metal lay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100,000 devices on a 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5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08240" y="4465800"/>
            <a:ext cx="33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12µm, 6 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200,000,000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1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3160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7992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9880" y="5753160"/>
            <a:ext cx="2366640" cy="821880"/>
            <a:chOff x="839880" y="5753160"/>
            <a:chExt cx="2366640" cy="821880"/>
          </a:xfrm>
        </p:grpSpPr>
        <p:sp>
          <p:nvSpPr>
            <p:cNvPr id="85" name=""/>
            <p:cNvSpPr/>
            <p:nvPr/>
          </p:nvSpPr>
          <p:spPr>
            <a:xfrm>
              <a:off x="1850040" y="5793480"/>
              <a:ext cx="0" cy="29916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839880" y="5753160"/>
            <a:ext cx="2366640" cy="82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9880" y="5753160"/>
                      <a:ext cx="236664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1141920" y="5821920"/>
              <a:ext cx="1652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53880" y="6165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pga" descr=""/>
          <p:cNvPicPr/>
          <p:nvPr/>
        </p:nvPicPr>
        <p:blipFill>
          <a:blip r:embed="rId7"/>
          <a:stretch/>
        </p:blipFill>
        <p:spPr>
          <a:xfrm>
            <a:off x="5656320" y="5753160"/>
            <a:ext cx="2913120" cy="1104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13840" y="60958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8320" y="58672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6880" y="5502240"/>
            <a:ext cx="2311200" cy="1127160"/>
          </a:xfrm>
          <a:prstGeom prst="ellipse">
            <a:avLst/>
          </a:prstGeom>
          <a:solidFill>
            <a:srgbClr val="eaeaea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 year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BF8-8CDD-4E45-A55C-5C7479525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806480"/>
            <a:ext cx="5867280" cy="4191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410080" y="3787920"/>
            <a:ext cx="3048120" cy="1113840"/>
            <a:chOff x="5410080" y="3787920"/>
            <a:chExt cx="3048120" cy="1113840"/>
          </a:xfrm>
        </p:grpSpPr>
        <p:sp>
          <p:nvSpPr>
            <p:cNvPr id="97" name=""/>
            <p:cNvSpPr/>
            <p:nvPr/>
          </p:nvSpPr>
          <p:spPr>
            <a:xfrm>
              <a:off x="5410080" y="4502880"/>
              <a:ext cx="304812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tronger di/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78792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66ff"/>
            </a:solidFill>
            <a:ln w="0">
              <a:noFill/>
            </a:ln>
            <a:effectLst>
              <a:outerShdw dist="17819" dir="2700000" blurRad="0" rotWithShape="0">
                <a:srgbClr val="98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V="1">
            <a:off x="974880" y="2615760"/>
            <a:ext cx="0" cy="299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4880" y="5608800"/>
            <a:ext cx="508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93480" y="2416320"/>
            <a:ext cx="2835720" cy="3125520"/>
            <a:chOff x="1293480" y="2416320"/>
            <a:chExt cx="2835720" cy="3125520"/>
          </a:xfrm>
        </p:grpSpPr>
        <p:sp>
          <p:nvSpPr>
            <p:cNvPr id="102" name=""/>
            <p:cNvSpPr/>
            <p:nvPr/>
          </p:nvSpPr>
          <p:spPr>
            <a:xfrm>
              <a:off x="1682640" y="4133880"/>
              <a:ext cx="2446560" cy="1208160"/>
            </a:xfrm>
            <a:custGeom>
              <a:avLst/>
              <a:gdLst/>
              <a:ahLst/>
              <a:rect l="l" t="t" r="r" b="b"/>
              <a:pathLst>
                <a:path w="1824" h="872">
                  <a:moveTo>
                    <a:pt x="0" y="872"/>
                  </a:moveTo>
                  <a:cubicBezTo>
                    <a:pt x="140" y="652"/>
                    <a:pt x="280" y="432"/>
                    <a:pt x="384" y="296"/>
                  </a:cubicBezTo>
                  <a:cubicBezTo>
                    <a:pt x="488" y="160"/>
                    <a:pt x="504" y="104"/>
                    <a:pt x="624" y="56"/>
                  </a:cubicBezTo>
                  <a:cubicBezTo>
                    <a:pt x="744" y="8"/>
                    <a:pt x="904" y="16"/>
                    <a:pt x="1104" y="8"/>
                  </a:cubicBezTo>
                  <a:cubicBezTo>
                    <a:pt x="1304" y="0"/>
                    <a:pt x="1564" y="4"/>
                    <a:pt x="1824" y="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24160" y="2781360"/>
              <a:ext cx="1996920" cy="2760480"/>
            </a:xfrm>
            <a:custGeom>
              <a:avLst/>
              <a:gdLst/>
              <a:ahLst/>
              <a:rect l="l" t="t" r="r" b="b"/>
              <a:pathLst>
                <a:path w="1488" h="1992">
                  <a:moveTo>
                    <a:pt x="0" y="1848"/>
                  </a:moveTo>
                  <a:cubicBezTo>
                    <a:pt x="24" y="1616"/>
                    <a:pt x="48" y="1384"/>
                    <a:pt x="96" y="1128"/>
                  </a:cubicBezTo>
                  <a:cubicBezTo>
                    <a:pt x="144" y="872"/>
                    <a:pt x="224" y="496"/>
                    <a:pt x="288" y="312"/>
                  </a:cubicBezTo>
                  <a:cubicBezTo>
                    <a:pt x="352" y="128"/>
                    <a:pt x="416" y="0"/>
                    <a:pt x="480" y="24"/>
                  </a:cubicBezTo>
                  <a:cubicBezTo>
                    <a:pt x="544" y="48"/>
                    <a:pt x="624" y="320"/>
                    <a:pt x="672" y="456"/>
                  </a:cubicBezTo>
                  <a:cubicBezTo>
                    <a:pt x="720" y="592"/>
                    <a:pt x="728" y="680"/>
                    <a:pt x="768" y="840"/>
                  </a:cubicBezTo>
                  <a:cubicBezTo>
                    <a:pt x="808" y="1000"/>
                    <a:pt x="856" y="1248"/>
                    <a:pt x="912" y="1416"/>
                  </a:cubicBezTo>
                  <a:cubicBezTo>
                    <a:pt x="968" y="1584"/>
                    <a:pt x="1008" y="1752"/>
                    <a:pt x="1104" y="1848"/>
                  </a:cubicBezTo>
                  <a:cubicBezTo>
                    <a:pt x="1200" y="1944"/>
                    <a:pt x="1392" y="1968"/>
                    <a:pt x="1488" y="199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3480" y="2416320"/>
              <a:ext cx="164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Times New Roman"/>
                </a:rPr>
                <a:t>Scaled 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257800" y="1959120"/>
            <a:ext cx="3505320" cy="12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oltage supply de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urrent amplitude keeps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ster switc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62720" y="5083200"/>
            <a:ext cx="3047760" cy="1586160"/>
            <a:chOff x="5562720" y="5083200"/>
            <a:chExt cx="3047760" cy="1586160"/>
          </a:xfrm>
        </p:grpSpPr>
        <p:sp>
          <p:nvSpPr>
            <p:cNvPr id="107" name=""/>
            <p:cNvSpPr/>
            <p:nvPr/>
          </p:nvSpPr>
          <p:spPr>
            <a:xfrm>
              <a:off x="6705720" y="50832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8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2720" y="5843880"/>
              <a:ext cx="3047760" cy="8254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Increased EMC probl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657600" y="5464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38800" y="2949120"/>
            <a:ext cx="837720" cy="2133720"/>
            <a:chOff x="838800" y="2949120"/>
            <a:chExt cx="837720" cy="2133720"/>
          </a:xfrm>
        </p:grpSpPr>
        <p:sp>
          <p:nvSpPr>
            <p:cNvPr id="111" name=""/>
            <p:cNvSpPr/>
            <p:nvPr/>
          </p:nvSpPr>
          <p:spPr>
            <a:xfrm>
              <a:off x="838800" y="3177000"/>
              <a:ext cx="709560" cy="45972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371600" y="2949120"/>
              <a:ext cx="304920" cy="2133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88960" y="2614680"/>
            <a:ext cx="4911840" cy="2927160"/>
            <a:chOff x="1488960" y="2614680"/>
            <a:chExt cx="4911840" cy="2927160"/>
          </a:xfrm>
        </p:grpSpPr>
        <p:sp>
          <p:nvSpPr>
            <p:cNvPr id="114" name=""/>
            <p:cNvSpPr/>
            <p:nvPr/>
          </p:nvSpPr>
          <p:spPr>
            <a:xfrm>
              <a:off x="1488960" y="3413160"/>
              <a:ext cx="3992760" cy="1928880"/>
            </a:xfrm>
            <a:custGeom>
              <a:avLst/>
              <a:gdLst/>
              <a:ahLst/>
              <a:rect l="l" t="t" r="r" b="b"/>
              <a:pathLst>
                <a:path w="3360" h="1296">
                  <a:moveTo>
                    <a:pt x="0" y="1296"/>
                  </a:moveTo>
                  <a:cubicBezTo>
                    <a:pt x="268" y="1116"/>
                    <a:pt x="536" y="936"/>
                    <a:pt x="720" y="816"/>
                  </a:cubicBezTo>
                  <a:cubicBezTo>
                    <a:pt x="904" y="696"/>
                    <a:pt x="968" y="672"/>
                    <a:pt x="1104" y="576"/>
                  </a:cubicBezTo>
                  <a:cubicBezTo>
                    <a:pt x="1240" y="480"/>
                    <a:pt x="1416" y="320"/>
                    <a:pt x="1536" y="240"/>
                  </a:cubicBezTo>
                  <a:cubicBezTo>
                    <a:pt x="1656" y="160"/>
                    <a:pt x="1704" y="128"/>
                    <a:pt x="1824" y="96"/>
                  </a:cubicBezTo>
                  <a:cubicBezTo>
                    <a:pt x="1944" y="64"/>
                    <a:pt x="2000" y="64"/>
                    <a:pt x="2256" y="48"/>
                  </a:cubicBezTo>
                  <a:cubicBezTo>
                    <a:pt x="2512" y="32"/>
                    <a:pt x="2936" y="16"/>
                    <a:pt x="336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8960" y="2792520"/>
              <a:ext cx="4911840" cy="2749320"/>
            </a:xfrm>
            <a:custGeom>
              <a:avLst/>
              <a:gdLst/>
              <a:ahLst/>
              <a:rect l="l" t="t" r="r" b="b"/>
              <a:pathLst>
                <a:path w="2592" h="1984">
                  <a:moveTo>
                    <a:pt x="0" y="1792"/>
                  </a:moveTo>
                  <a:cubicBezTo>
                    <a:pt x="80" y="1440"/>
                    <a:pt x="160" y="1088"/>
                    <a:pt x="240" y="832"/>
                  </a:cubicBezTo>
                  <a:cubicBezTo>
                    <a:pt x="320" y="576"/>
                    <a:pt x="408" y="392"/>
                    <a:pt x="480" y="256"/>
                  </a:cubicBezTo>
                  <a:cubicBezTo>
                    <a:pt x="552" y="120"/>
                    <a:pt x="616" y="32"/>
                    <a:pt x="672" y="16"/>
                  </a:cubicBezTo>
                  <a:cubicBezTo>
                    <a:pt x="728" y="0"/>
                    <a:pt x="760" y="72"/>
                    <a:pt x="816" y="160"/>
                  </a:cubicBezTo>
                  <a:cubicBezTo>
                    <a:pt x="872" y="248"/>
                    <a:pt x="944" y="424"/>
                    <a:pt x="1008" y="544"/>
                  </a:cubicBezTo>
                  <a:cubicBezTo>
                    <a:pt x="1072" y="664"/>
                    <a:pt x="1120" y="736"/>
                    <a:pt x="1200" y="880"/>
                  </a:cubicBezTo>
                  <a:cubicBezTo>
                    <a:pt x="1280" y="1024"/>
                    <a:pt x="1392" y="1272"/>
                    <a:pt x="1488" y="1408"/>
                  </a:cubicBezTo>
                  <a:cubicBezTo>
                    <a:pt x="1584" y="1544"/>
                    <a:pt x="1680" y="1616"/>
                    <a:pt x="1776" y="1696"/>
                  </a:cubicBezTo>
                  <a:cubicBezTo>
                    <a:pt x="1872" y="1776"/>
                    <a:pt x="1928" y="1840"/>
                    <a:pt x="2064" y="1888"/>
                  </a:cubicBezTo>
                  <a:cubicBezTo>
                    <a:pt x="2200" y="1936"/>
                    <a:pt x="2396" y="1960"/>
                    <a:pt x="2592" y="1984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24320" y="367992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03400" y="2614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ae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447920" y="3254040"/>
            <a:ext cx="1472040" cy="1981080"/>
            <a:chOff x="1447920" y="3254040"/>
            <a:chExt cx="1472040" cy="1981080"/>
          </a:xfrm>
        </p:grpSpPr>
        <p:sp>
          <p:nvSpPr>
            <p:cNvPr id="119" name=""/>
            <p:cNvSpPr/>
            <p:nvPr/>
          </p:nvSpPr>
          <p:spPr>
            <a:xfrm>
              <a:off x="2210400" y="3710520"/>
              <a:ext cx="709560" cy="45972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447920" y="3254040"/>
              <a:ext cx="685800" cy="1981080"/>
            </a:xfrm>
            <a:prstGeom prst="line">
              <a:avLst/>
            </a:prstGeom>
            <a:ln w="93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60080" y="19573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Voltage &amp;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53A-AAFA-4338-8ADA-CA274B5FB2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93120" y="2305080"/>
            <a:ext cx="8444520" cy="4376160"/>
            <a:chOff x="393120" y="2305080"/>
            <a:chExt cx="8444520" cy="4376160"/>
          </a:xfrm>
        </p:grpSpPr>
        <p:sp>
          <p:nvSpPr>
            <p:cNvPr id="124" name=""/>
            <p:cNvSpPr/>
            <p:nvPr/>
          </p:nvSpPr>
          <p:spPr>
            <a:xfrm>
              <a:off x="1249200" y="4724280"/>
              <a:ext cx="6537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43880" y="6321240"/>
              <a:ext cx="422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600" y="631512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7440" y="2305080"/>
              <a:ext cx="78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dBµ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7520" y="2657520"/>
              <a:ext cx="493560" cy="3635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02400" y="2665440"/>
              <a:ext cx="281160" cy="3630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08480" y="2663640"/>
              <a:ext cx="493560" cy="36356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68280" y="2663640"/>
              <a:ext cx="6539040" cy="36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8280" y="593244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8280" y="55688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68280" y="5207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8280" y="48416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8280" y="44798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68280" y="411480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68280" y="37526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68280" y="338616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8280" y="302580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2663640"/>
              <a:ext cx="6539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51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744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3856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5140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13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2912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1812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768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21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9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041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2164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833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975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8836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7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07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8280" y="2663640"/>
              <a:ext cx="6540480" cy="36356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682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30480" y="6296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30480" y="593244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30480" y="55688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30480" y="5207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0480" y="48416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30480" y="4479840"/>
              <a:ext cx="3492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0480" y="411480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30480" y="375264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0480" y="338616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30480" y="302580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30480" y="2663640"/>
              <a:ext cx="34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68280" y="6296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268280" y="629604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3708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80732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68280" y="3981240"/>
              <a:ext cx="982800" cy="49320"/>
            </a:xfrm>
            <a:custGeom>
              <a:avLst/>
              <a:gdLst/>
              <a:ahLst/>
              <a:rect l="l" t="t" r="r" b="b"/>
              <a:pathLst>
                <a:path w="417" h="22">
                  <a:moveTo>
                    <a:pt x="0" y="0"/>
                  </a:moveTo>
                  <a:lnTo>
                    <a:pt x="0" y="9"/>
                  </a:lnTo>
                  <a:lnTo>
                    <a:pt x="417" y="22"/>
                  </a:lnTo>
                  <a:lnTo>
                    <a:pt x="41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1080" y="3859200"/>
              <a:ext cx="579600" cy="1713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69"/>
                  </a:moveTo>
                  <a:lnTo>
                    <a:pt x="2" y="78"/>
                  </a:lnTo>
                  <a:lnTo>
                    <a:pt x="246" y="9"/>
                  </a:lnTo>
                  <a:lnTo>
                    <a:pt x="245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22400" y="3863880"/>
              <a:ext cx="416160" cy="243000"/>
            </a:xfrm>
            <a:custGeom>
              <a:avLst/>
              <a:gdLst/>
              <a:ahLst/>
              <a:rect l="l" t="t" r="r" b="b"/>
              <a:pathLst>
                <a:path w="176" h="111">
                  <a:moveTo>
                    <a:pt x="3" y="0"/>
                  </a:moveTo>
                  <a:lnTo>
                    <a:pt x="0" y="7"/>
                  </a:lnTo>
                  <a:lnTo>
                    <a:pt x="173" y="111"/>
                  </a:lnTo>
                  <a:lnTo>
                    <a:pt x="176" y="1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33880" y="4089240"/>
              <a:ext cx="322200" cy="2286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4" y="0"/>
                  </a:moveTo>
                  <a:lnTo>
                    <a:pt x="0" y="8"/>
                  </a:lnTo>
                  <a:lnTo>
                    <a:pt x="133" y="104"/>
                  </a:lnTo>
                  <a:lnTo>
                    <a:pt x="137" y="9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41680" y="3665520"/>
              <a:ext cx="281160" cy="646200"/>
            </a:xfrm>
            <a:custGeom>
              <a:avLst/>
              <a:gdLst/>
              <a:ahLst/>
              <a:rect l="l" t="t" r="r" b="b"/>
              <a:pathLst>
                <a:path w="119" h="294">
                  <a:moveTo>
                    <a:pt x="0" y="291"/>
                  </a:moveTo>
                  <a:lnTo>
                    <a:pt x="8" y="294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5200" y="3660840"/>
              <a:ext cx="228600" cy="244440"/>
            </a:xfrm>
            <a:custGeom>
              <a:avLst/>
              <a:gdLst/>
              <a:ahLst/>
              <a:rect l="l" t="t" r="r" b="b"/>
              <a:pathLst>
                <a:path w="97" h="111">
                  <a:moveTo>
                    <a:pt x="6" y="0"/>
                  </a:moveTo>
                  <a:lnTo>
                    <a:pt x="0" y="6"/>
                  </a:lnTo>
                  <a:lnTo>
                    <a:pt x="91" y="111"/>
                  </a:lnTo>
                  <a:lnTo>
                    <a:pt x="97" y="10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29120" y="3889440"/>
              <a:ext cx="193680" cy="810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0"/>
                  </a:moveTo>
                  <a:lnTo>
                    <a:pt x="0" y="9"/>
                  </a:lnTo>
                  <a:lnTo>
                    <a:pt x="80" y="37"/>
                  </a:lnTo>
                  <a:lnTo>
                    <a:pt x="82" y="2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3080" y="3292560"/>
              <a:ext cx="200160" cy="67608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0" y="102"/>
                  </a:moveTo>
                  <a:lnTo>
                    <a:pt x="7" y="107"/>
                  </a:lnTo>
                  <a:lnTo>
                    <a:pt x="77" y="5"/>
                  </a:lnTo>
                  <a:lnTo>
                    <a:pt x="70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87680" y="3340080"/>
              <a:ext cx="157320" cy="65556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6" y="0"/>
                  </a:moveTo>
                  <a:lnTo>
                    <a:pt x="0" y="4"/>
                  </a:lnTo>
                  <a:lnTo>
                    <a:pt x="62" y="117"/>
                  </a:lnTo>
                  <a:lnTo>
                    <a:pt x="69" y="1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33840" y="3911400"/>
              <a:ext cx="139680" cy="8604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0" y="30"/>
                  </a:moveTo>
                  <a:lnTo>
                    <a:pt x="2" y="39"/>
                  </a:lnTo>
                  <a:lnTo>
                    <a:pt x="59" y="9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68840" y="3914640"/>
              <a:ext cx="133200" cy="14148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" y="0"/>
                  </a:moveTo>
                  <a:lnTo>
                    <a:pt x="0" y="6"/>
                  </a:lnTo>
                  <a:lnTo>
                    <a:pt x="51" y="64"/>
                  </a:lnTo>
                  <a:lnTo>
                    <a:pt x="57" y="5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88000" y="3832200"/>
              <a:ext cx="129960" cy="22212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0" y="98"/>
                  </a:moveTo>
                  <a:lnTo>
                    <a:pt x="7" y="101"/>
                  </a:lnTo>
                  <a:lnTo>
                    <a:pt x="55" y="3"/>
                  </a:lnTo>
                  <a:lnTo>
                    <a:pt x="48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11840" y="3798720"/>
              <a:ext cx="104760" cy="478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12"/>
                  </a:moveTo>
                  <a:lnTo>
                    <a:pt x="1" y="21"/>
                  </a:lnTo>
                  <a:lnTo>
                    <a:pt x="45" y="9"/>
                  </a:lnTo>
                  <a:lnTo>
                    <a:pt x="4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2200" y="3806640"/>
              <a:ext cx="119160" cy="239760"/>
            </a:xfrm>
            <a:custGeom>
              <a:avLst/>
              <a:gdLst/>
              <a:ahLst/>
              <a:rect l="l" t="t" r="r" b="b"/>
              <a:pathLst>
                <a:path w="50" h="110">
                  <a:moveTo>
                    <a:pt x="8" y="0"/>
                  </a:moveTo>
                  <a:lnTo>
                    <a:pt x="0" y="3"/>
                  </a:lnTo>
                  <a:lnTo>
                    <a:pt x="42" y="110"/>
                  </a:lnTo>
                  <a:lnTo>
                    <a:pt x="5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02280" y="3544920"/>
              <a:ext cx="108000" cy="501480"/>
            </a:xfrm>
            <a:custGeom>
              <a:avLst/>
              <a:gdLst/>
              <a:ahLst/>
              <a:rect l="l" t="t" r="r" b="b"/>
              <a:pathLst>
                <a:path w="46" h="229">
                  <a:moveTo>
                    <a:pt x="0" y="227"/>
                  </a:moveTo>
                  <a:lnTo>
                    <a:pt x="8" y="229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95880" y="3543120"/>
              <a:ext cx="103320" cy="2430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8" y="0"/>
                  </a:moveTo>
                  <a:lnTo>
                    <a:pt x="0" y="3"/>
                  </a:lnTo>
                  <a:lnTo>
                    <a:pt x="36" y="111"/>
                  </a:lnTo>
                  <a:lnTo>
                    <a:pt x="44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86240" y="3779640"/>
              <a:ext cx="93960" cy="15588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6" y="0"/>
                  </a:moveTo>
                  <a:lnTo>
                    <a:pt x="0" y="3"/>
                  </a:lnTo>
                  <a:lnTo>
                    <a:pt x="34" y="71"/>
                  </a:lnTo>
                  <a:lnTo>
                    <a:pt x="40" y="6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61120" y="3465360"/>
              <a:ext cx="96840" cy="470160"/>
            </a:xfrm>
            <a:custGeom>
              <a:avLst/>
              <a:gdLst/>
              <a:ahLst/>
              <a:rect l="l" t="t" r="r" b="b"/>
              <a:pathLst>
                <a:path w="41" h="214">
                  <a:moveTo>
                    <a:pt x="0" y="212"/>
                  </a:moveTo>
                  <a:lnTo>
                    <a:pt x="8" y="214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8880" y="3465360"/>
              <a:ext cx="91800" cy="611280"/>
            </a:xfrm>
            <a:custGeom>
              <a:avLst/>
              <a:gdLst/>
              <a:ahLst/>
              <a:rect l="l" t="t" r="r" b="b"/>
              <a:pathLst>
                <a:path w="39" h="278">
                  <a:moveTo>
                    <a:pt x="8" y="0"/>
                  </a:moveTo>
                  <a:lnTo>
                    <a:pt x="0" y="2"/>
                  </a:lnTo>
                  <a:lnTo>
                    <a:pt x="31" y="278"/>
                  </a:lnTo>
                  <a:lnTo>
                    <a:pt x="39" y="2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1960" y="3717720"/>
              <a:ext cx="87120" cy="35892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162"/>
                  </a:moveTo>
                  <a:lnTo>
                    <a:pt x="8" y="163"/>
                  </a:lnTo>
                  <a:lnTo>
                    <a:pt x="37" y="1"/>
                  </a:lnTo>
                  <a:lnTo>
                    <a:pt x="29" y="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83240" y="3600360"/>
              <a:ext cx="82440" cy="12384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0" y="51"/>
                  </a:moveTo>
                  <a:lnTo>
                    <a:pt x="7" y="56"/>
                  </a:lnTo>
                  <a:lnTo>
                    <a:pt x="35" y="4"/>
                  </a:lnTo>
                  <a:lnTo>
                    <a:pt x="2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6600" y="3603600"/>
              <a:ext cx="79560" cy="298440"/>
            </a:xfrm>
            <a:custGeom>
              <a:avLst/>
              <a:gdLst/>
              <a:ahLst/>
              <a:rect l="l" t="t" r="r" b="b"/>
              <a:pathLst>
                <a:path w="34" h="136">
                  <a:moveTo>
                    <a:pt x="8" y="0"/>
                  </a:moveTo>
                  <a:lnTo>
                    <a:pt x="0" y="2"/>
                  </a:lnTo>
                  <a:lnTo>
                    <a:pt x="26" y="136"/>
                  </a:lnTo>
                  <a:lnTo>
                    <a:pt x="34" y="1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0320" y="3562200"/>
              <a:ext cx="79200" cy="339840"/>
            </a:xfrm>
            <a:custGeom>
              <a:avLst/>
              <a:gdLst/>
              <a:ahLst/>
              <a:rect l="l" t="t" r="r" b="b"/>
              <a:pathLst>
                <a:path w="34" h="155">
                  <a:moveTo>
                    <a:pt x="0" y="153"/>
                  </a:moveTo>
                  <a:lnTo>
                    <a:pt x="8" y="155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70440" y="3562200"/>
              <a:ext cx="77760" cy="446040"/>
            </a:xfrm>
            <a:custGeom>
              <a:avLst/>
              <a:gdLst/>
              <a:ahLst/>
              <a:rect l="l" t="t" r="r" b="b"/>
              <a:pathLst>
                <a:path w="33" h="203">
                  <a:moveTo>
                    <a:pt x="8" y="0"/>
                  </a:moveTo>
                  <a:lnTo>
                    <a:pt x="0" y="1"/>
                  </a:lnTo>
                  <a:lnTo>
                    <a:pt x="25" y="203"/>
                  </a:lnTo>
                  <a:lnTo>
                    <a:pt x="33" y="20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29480" y="3476520"/>
              <a:ext cx="72720" cy="527040"/>
            </a:xfrm>
            <a:custGeom>
              <a:avLst/>
              <a:gdLst/>
              <a:ahLst/>
              <a:rect l="l" t="t" r="r" b="b"/>
              <a:pathLst>
                <a:path w="31" h="240">
                  <a:moveTo>
                    <a:pt x="0" y="240"/>
                  </a:moveTo>
                  <a:lnTo>
                    <a:pt x="8" y="24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84920" y="3287520"/>
              <a:ext cx="73080" cy="19224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0" y="86"/>
                  </a:moveTo>
                  <a:lnTo>
                    <a:pt x="8" y="87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38920" y="3292560"/>
              <a:ext cx="69840" cy="29196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8" y="0"/>
                  </a:moveTo>
                  <a:lnTo>
                    <a:pt x="0" y="1"/>
                  </a:lnTo>
                  <a:lnTo>
                    <a:pt x="21" y="133"/>
                  </a:lnTo>
                  <a:lnTo>
                    <a:pt x="30" y="1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7880" y="3136680"/>
              <a:ext cx="70200" cy="447840"/>
            </a:xfrm>
            <a:custGeom>
              <a:avLst/>
              <a:gdLst/>
              <a:ahLst/>
              <a:rect l="l" t="t" r="r" b="b"/>
              <a:pathLst>
                <a:path w="30" h="204">
                  <a:moveTo>
                    <a:pt x="0" y="203"/>
                  </a:moveTo>
                  <a:lnTo>
                    <a:pt x="9" y="20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40440" y="3136680"/>
              <a:ext cx="63360" cy="1317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8" y="0"/>
                  </a:moveTo>
                  <a:lnTo>
                    <a:pt x="0" y="2"/>
                  </a:lnTo>
                  <a:lnTo>
                    <a:pt x="19" y="60"/>
                  </a:lnTo>
                  <a:lnTo>
                    <a:pt x="27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9760" y="3260520"/>
              <a:ext cx="63360" cy="11916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8" y="0"/>
                  </a:moveTo>
                  <a:lnTo>
                    <a:pt x="0" y="3"/>
                  </a:lnTo>
                  <a:lnTo>
                    <a:pt x="19" y="54"/>
                  </a:lnTo>
                  <a:lnTo>
                    <a:pt x="27" y="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8720" y="3332160"/>
              <a:ext cx="54000" cy="540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8"/>
                  </a:moveTo>
                  <a:lnTo>
                    <a:pt x="4" y="25"/>
                  </a:lnTo>
                  <a:lnTo>
                    <a:pt x="23" y="7"/>
                  </a:lnTo>
                  <a:lnTo>
                    <a:pt x="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8680" y="3340080"/>
              <a:ext cx="63360" cy="539640"/>
            </a:xfrm>
            <a:custGeom>
              <a:avLst/>
              <a:gdLst/>
              <a:ahLst/>
              <a:rect l="l" t="t" r="r" b="b"/>
              <a:pathLst>
                <a:path w="27" h="245">
                  <a:moveTo>
                    <a:pt x="8" y="0"/>
                  </a:moveTo>
                  <a:lnTo>
                    <a:pt x="0" y="0"/>
                  </a:lnTo>
                  <a:lnTo>
                    <a:pt x="19" y="245"/>
                  </a:lnTo>
                  <a:lnTo>
                    <a:pt x="27" y="2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2960" y="3674880"/>
              <a:ext cx="58680" cy="208080"/>
            </a:xfrm>
            <a:custGeom>
              <a:avLst/>
              <a:gdLst/>
              <a:ahLst/>
              <a:rect l="l" t="t" r="r" b="b"/>
              <a:pathLst>
                <a:path w="25" h="95">
                  <a:moveTo>
                    <a:pt x="0" y="93"/>
                  </a:moveTo>
                  <a:lnTo>
                    <a:pt x="8" y="9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70480" y="3646440"/>
              <a:ext cx="47880" cy="381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3" y="18"/>
                  </a:lnTo>
                  <a:lnTo>
                    <a:pt x="20" y="7"/>
                  </a:lnTo>
                  <a:lnTo>
                    <a:pt x="18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8640" y="3651120"/>
              <a:ext cx="54000" cy="55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3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3280" y="3672000"/>
              <a:ext cx="44280" cy="39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0"/>
                  </a:moveTo>
                  <a:lnTo>
                    <a:pt x="3" y="18"/>
                  </a:lnTo>
                  <a:lnTo>
                    <a:pt x="19" y="7"/>
                  </a:lnTo>
                  <a:lnTo>
                    <a:pt x="1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86400" y="3679920"/>
              <a:ext cx="55800" cy="16668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8" y="0"/>
                  </a:moveTo>
                  <a:lnTo>
                    <a:pt x="0" y="1"/>
                  </a:lnTo>
                  <a:lnTo>
                    <a:pt x="16" y="76"/>
                  </a:lnTo>
                  <a:lnTo>
                    <a:pt x="24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23120" y="3624120"/>
              <a:ext cx="55440" cy="222480"/>
            </a:xfrm>
            <a:custGeom>
              <a:avLst/>
              <a:gdLst/>
              <a:ahLst/>
              <a:rect l="l" t="t" r="r" b="b"/>
              <a:pathLst>
                <a:path w="23" h="101">
                  <a:moveTo>
                    <a:pt x="0" y="100"/>
                  </a:moveTo>
                  <a:lnTo>
                    <a:pt x="8" y="10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65960" y="361800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4" y="0"/>
                  </a:moveTo>
                  <a:lnTo>
                    <a:pt x="0" y="8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94400" y="3654360"/>
              <a:ext cx="54000" cy="468360"/>
            </a:xfrm>
            <a:custGeom>
              <a:avLst/>
              <a:gdLst/>
              <a:ahLst/>
              <a:rect l="l" t="t" r="r" b="b"/>
              <a:pathLst>
                <a:path w="23" h="213">
                  <a:moveTo>
                    <a:pt x="8" y="0"/>
                  </a:moveTo>
                  <a:lnTo>
                    <a:pt x="0" y="0"/>
                  </a:lnTo>
                  <a:lnTo>
                    <a:pt x="15" y="213"/>
                  </a:lnTo>
                  <a:lnTo>
                    <a:pt x="23" y="2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29320" y="3870360"/>
              <a:ext cx="54000" cy="25704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115"/>
                  </a:moveTo>
                  <a:lnTo>
                    <a:pt x="8" y="117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67480" y="3824280"/>
              <a:ext cx="49320" cy="522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9"/>
                  </a:moveTo>
                  <a:lnTo>
                    <a:pt x="7" y="24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00960" y="3825720"/>
              <a:ext cx="46080" cy="238320"/>
            </a:xfrm>
            <a:custGeom>
              <a:avLst/>
              <a:gdLst/>
              <a:ahLst/>
              <a:rect l="l" t="t" r="r" b="b"/>
              <a:pathLst>
                <a:path w="20" h="108">
                  <a:moveTo>
                    <a:pt x="8" y="0"/>
                  </a:moveTo>
                  <a:lnTo>
                    <a:pt x="0" y="2"/>
                  </a:lnTo>
                  <a:lnTo>
                    <a:pt x="12" y="108"/>
                  </a:lnTo>
                  <a:lnTo>
                    <a:pt x="2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38760" y="4041720"/>
              <a:ext cx="34920" cy="284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4"/>
                  </a:moveTo>
                  <a:lnTo>
                    <a:pt x="2" y="13"/>
                  </a:lnTo>
                  <a:lnTo>
                    <a:pt x="15" y="9"/>
                  </a:lnTo>
                  <a:lnTo>
                    <a:pt x="1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70800" y="4033800"/>
              <a:ext cx="36360" cy="27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3"/>
                  </a:moveTo>
                  <a:lnTo>
                    <a:pt x="1" y="12"/>
                  </a:lnTo>
                  <a:lnTo>
                    <a:pt x="15" y="9"/>
                  </a:lnTo>
                  <a:lnTo>
                    <a:pt x="1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92760" y="4043160"/>
              <a:ext cx="49320" cy="13500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8" y="0"/>
                  </a:moveTo>
                  <a:lnTo>
                    <a:pt x="0" y="2"/>
                  </a:lnTo>
                  <a:lnTo>
                    <a:pt x="12" y="61"/>
                  </a:lnTo>
                  <a:lnTo>
                    <a:pt x="21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4800" y="3843360"/>
              <a:ext cx="47520" cy="330120"/>
            </a:xfrm>
            <a:custGeom>
              <a:avLst/>
              <a:gdLst/>
              <a:ahLst/>
              <a:rect l="l" t="t" r="r" b="b"/>
              <a:pathLst>
                <a:path w="20" h="150">
                  <a:moveTo>
                    <a:pt x="0" y="150"/>
                  </a:moveTo>
                  <a:lnTo>
                    <a:pt x="8" y="15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6480" y="3778200"/>
              <a:ext cx="44280" cy="684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8"/>
                  </a:moveTo>
                  <a:lnTo>
                    <a:pt x="7" y="31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3779640"/>
              <a:ext cx="49320" cy="309600"/>
            </a:xfrm>
            <a:custGeom>
              <a:avLst/>
              <a:gdLst/>
              <a:ahLst/>
              <a:rect l="l" t="t" r="r" b="b"/>
              <a:pathLst>
                <a:path w="21" h="141">
                  <a:moveTo>
                    <a:pt x="8" y="0"/>
                  </a:moveTo>
                  <a:lnTo>
                    <a:pt x="0" y="0"/>
                  </a:lnTo>
                  <a:lnTo>
                    <a:pt x="12" y="141"/>
                  </a:lnTo>
                  <a:lnTo>
                    <a:pt x="21" y="1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10480" y="4002120"/>
              <a:ext cx="48960" cy="9216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0"/>
                  </a:moveTo>
                  <a:lnTo>
                    <a:pt x="9" y="42"/>
                  </a:lnTo>
                  <a:lnTo>
                    <a:pt x="21" y="1"/>
                  </a:lnTo>
                  <a:lnTo>
                    <a:pt x="13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40360" y="3797280"/>
              <a:ext cx="44640" cy="20628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0" y="93"/>
                  </a:moveTo>
                  <a:lnTo>
                    <a:pt x="8" y="94"/>
                  </a:lnTo>
                  <a:lnTo>
                    <a:pt x="19" y="1"/>
                  </a:lnTo>
                  <a:lnTo>
                    <a:pt x="11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65920" y="3797280"/>
              <a:ext cx="47520" cy="21888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8" y="0"/>
                  </a:moveTo>
                  <a:lnTo>
                    <a:pt x="0" y="1"/>
                  </a:lnTo>
                  <a:lnTo>
                    <a:pt x="12" y="100"/>
                  </a:lnTo>
                  <a:lnTo>
                    <a:pt x="20" y="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94360" y="4014720"/>
              <a:ext cx="46080" cy="525600"/>
            </a:xfrm>
            <a:custGeom>
              <a:avLst/>
              <a:gdLst/>
              <a:ahLst/>
              <a:rect l="l" t="t" r="r" b="b"/>
              <a:pathLst>
                <a:path w="19" h="239">
                  <a:moveTo>
                    <a:pt x="8" y="0"/>
                  </a:moveTo>
                  <a:lnTo>
                    <a:pt x="0" y="0"/>
                  </a:lnTo>
                  <a:lnTo>
                    <a:pt x="11" y="239"/>
                  </a:lnTo>
                  <a:lnTo>
                    <a:pt x="19" y="23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21360" y="4079880"/>
              <a:ext cx="44640" cy="460440"/>
            </a:xfrm>
            <a:custGeom>
              <a:avLst/>
              <a:gdLst/>
              <a:ahLst/>
              <a:rect l="l" t="t" r="r" b="b"/>
              <a:pathLst>
                <a:path w="19" h="209">
                  <a:moveTo>
                    <a:pt x="0" y="209"/>
                  </a:moveTo>
                  <a:lnTo>
                    <a:pt x="8" y="209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56280" y="40701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0" y="9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70680" y="3790800"/>
              <a:ext cx="44640" cy="292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133"/>
                  </a:moveTo>
                  <a:lnTo>
                    <a:pt x="9" y="133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00920" y="3790800"/>
              <a:ext cx="39600" cy="12384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8" y="0"/>
                  </a:moveTo>
                  <a:lnTo>
                    <a:pt x="0" y="1"/>
                  </a:lnTo>
                  <a:lnTo>
                    <a:pt x="9" y="57"/>
                  </a:lnTo>
                  <a:lnTo>
                    <a:pt x="17" y="5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24680" y="3865680"/>
              <a:ext cx="42840" cy="522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0"/>
                  </a:moveTo>
                  <a:lnTo>
                    <a:pt x="7" y="24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48440" y="3660840"/>
              <a:ext cx="428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5"/>
                  </a:moveTo>
                  <a:lnTo>
                    <a:pt x="8" y="96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74000" y="3665520"/>
              <a:ext cx="38160" cy="198360"/>
            </a:xfrm>
            <a:custGeom>
              <a:avLst/>
              <a:gdLst/>
              <a:ahLst/>
              <a:rect l="l" t="t" r="r" b="b"/>
              <a:pathLst>
                <a:path w="16" h="90">
                  <a:moveTo>
                    <a:pt x="8" y="0"/>
                  </a:moveTo>
                  <a:lnTo>
                    <a:pt x="0" y="0"/>
                  </a:lnTo>
                  <a:lnTo>
                    <a:pt x="8" y="90"/>
                  </a:lnTo>
                  <a:lnTo>
                    <a:pt x="16" y="9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94520" y="3806640"/>
              <a:ext cx="42840" cy="590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7" y="27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8000" y="3792600"/>
              <a:ext cx="21960" cy="270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3"/>
                  </a:moveTo>
                  <a:lnTo>
                    <a:pt x="1" y="12"/>
                  </a:lnTo>
                  <a:lnTo>
                    <a:pt x="9" y="9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40600" y="3806640"/>
              <a:ext cx="41400" cy="227160"/>
            </a:xfrm>
            <a:custGeom>
              <a:avLst/>
              <a:gdLst/>
              <a:ahLst/>
              <a:rect l="l" t="t" r="r" b="b"/>
              <a:pathLst>
                <a:path w="18" h="104">
                  <a:moveTo>
                    <a:pt x="9" y="0"/>
                  </a:moveTo>
                  <a:lnTo>
                    <a:pt x="0" y="0"/>
                  </a:lnTo>
                  <a:lnTo>
                    <a:pt x="10" y="104"/>
                  </a:lnTo>
                  <a:lnTo>
                    <a:pt x="18" y="10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4360" y="3659040"/>
              <a:ext cx="41400" cy="374760"/>
            </a:xfrm>
            <a:custGeom>
              <a:avLst/>
              <a:gdLst/>
              <a:ahLst/>
              <a:rect l="l" t="t" r="r" b="b"/>
              <a:pathLst>
                <a:path w="18" h="171">
                  <a:moveTo>
                    <a:pt x="0" y="171"/>
                  </a:moveTo>
                  <a:lnTo>
                    <a:pt x="8" y="171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84880" y="3659040"/>
              <a:ext cx="42840" cy="584280"/>
            </a:xfrm>
            <a:custGeom>
              <a:avLst/>
              <a:gdLst/>
              <a:ahLst/>
              <a:rect l="l" t="t" r="r" b="b"/>
              <a:pathLst>
                <a:path w="18" h="266">
                  <a:moveTo>
                    <a:pt x="9" y="0"/>
                  </a:moveTo>
                  <a:lnTo>
                    <a:pt x="0" y="0"/>
                  </a:lnTo>
                  <a:lnTo>
                    <a:pt x="10" y="266"/>
                  </a:lnTo>
                  <a:lnTo>
                    <a:pt x="18" y="26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09000" y="3751200"/>
              <a:ext cx="36360" cy="492120"/>
            </a:xfrm>
            <a:custGeom>
              <a:avLst/>
              <a:gdLst/>
              <a:ahLst/>
              <a:rect l="l" t="t" r="r" b="b"/>
              <a:pathLst>
                <a:path w="16" h="224">
                  <a:moveTo>
                    <a:pt x="0" y="224"/>
                  </a:moveTo>
                  <a:lnTo>
                    <a:pt x="8" y="22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27720" y="3651120"/>
              <a:ext cx="41400" cy="1015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5"/>
                  </a:moveTo>
                  <a:lnTo>
                    <a:pt x="8" y="46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50040" y="3654360"/>
              <a:ext cx="38160" cy="420840"/>
            </a:xfrm>
            <a:custGeom>
              <a:avLst/>
              <a:gdLst/>
              <a:ahLst/>
              <a:rect l="l" t="t" r="r" b="b"/>
              <a:pathLst>
                <a:path w="16" h="191">
                  <a:moveTo>
                    <a:pt x="8" y="0"/>
                  </a:moveTo>
                  <a:lnTo>
                    <a:pt x="0" y="0"/>
                  </a:lnTo>
                  <a:lnTo>
                    <a:pt x="8" y="191"/>
                  </a:lnTo>
                  <a:lnTo>
                    <a:pt x="16" y="1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9120" y="3647880"/>
              <a:ext cx="38160" cy="427320"/>
            </a:xfrm>
            <a:custGeom>
              <a:avLst/>
              <a:gdLst/>
              <a:ahLst/>
              <a:rect l="l" t="t" r="r" b="b"/>
              <a:pathLst>
                <a:path w="16" h="194">
                  <a:moveTo>
                    <a:pt x="0" y="194"/>
                  </a:moveTo>
                  <a:lnTo>
                    <a:pt x="8" y="19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88200" y="3647880"/>
              <a:ext cx="42840" cy="168480"/>
            </a:xfrm>
            <a:custGeom>
              <a:avLst/>
              <a:gdLst/>
              <a:ahLst/>
              <a:rect l="l" t="t" r="r" b="b"/>
              <a:pathLst>
                <a:path w="18" h="77">
                  <a:moveTo>
                    <a:pt x="8" y="0"/>
                  </a:moveTo>
                  <a:lnTo>
                    <a:pt x="0" y="2"/>
                  </a:lnTo>
                  <a:lnTo>
                    <a:pt x="9" y="77"/>
                  </a:lnTo>
                  <a:lnTo>
                    <a:pt x="18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10520" y="3816360"/>
              <a:ext cx="39600" cy="220680"/>
            </a:xfrm>
            <a:custGeom>
              <a:avLst/>
              <a:gdLst/>
              <a:ahLst/>
              <a:rect l="l" t="t" r="r" b="b"/>
              <a:pathLst>
                <a:path w="17" h="100">
                  <a:moveTo>
                    <a:pt x="9" y="0"/>
                  </a:moveTo>
                  <a:lnTo>
                    <a:pt x="0" y="0"/>
                  </a:lnTo>
                  <a:lnTo>
                    <a:pt x="9" y="100"/>
                  </a:lnTo>
                  <a:lnTo>
                    <a:pt x="17" y="10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31040" y="3651120"/>
              <a:ext cx="38160" cy="38592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0" y="175"/>
                  </a:moveTo>
                  <a:lnTo>
                    <a:pt x="8" y="17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50120" y="3654360"/>
              <a:ext cx="38160" cy="623880"/>
            </a:xfrm>
            <a:custGeom>
              <a:avLst/>
              <a:gdLst/>
              <a:ahLst/>
              <a:rect l="l" t="t" r="r" b="b"/>
              <a:pathLst>
                <a:path w="16" h="284">
                  <a:moveTo>
                    <a:pt x="8" y="0"/>
                  </a:moveTo>
                  <a:lnTo>
                    <a:pt x="0" y="0"/>
                  </a:lnTo>
                  <a:lnTo>
                    <a:pt x="8" y="284"/>
                  </a:lnTo>
                  <a:lnTo>
                    <a:pt x="16" y="2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69200" y="4089240"/>
              <a:ext cx="36360" cy="189000"/>
            </a:xfrm>
            <a:custGeom>
              <a:avLst/>
              <a:gdLst/>
              <a:ahLst/>
              <a:rect l="l" t="t" r="r" b="b"/>
              <a:pathLst>
                <a:path w="16" h="86">
                  <a:moveTo>
                    <a:pt x="0" y="86"/>
                  </a:moveTo>
                  <a:lnTo>
                    <a:pt x="8" y="8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88280" y="3782880"/>
              <a:ext cx="36360" cy="30636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0" y="139"/>
                  </a:moveTo>
                  <a:lnTo>
                    <a:pt x="8" y="139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05560" y="3782880"/>
              <a:ext cx="38160" cy="436680"/>
            </a:xfrm>
            <a:custGeom>
              <a:avLst/>
              <a:gdLst/>
              <a:ahLst/>
              <a:rect l="l" t="t" r="r" b="b"/>
              <a:pathLst>
                <a:path w="16" h="198">
                  <a:moveTo>
                    <a:pt x="8" y="0"/>
                  </a:moveTo>
                  <a:lnTo>
                    <a:pt x="0" y="0"/>
                  </a:lnTo>
                  <a:lnTo>
                    <a:pt x="8" y="198"/>
                  </a:lnTo>
                  <a:lnTo>
                    <a:pt x="16" y="19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24640" y="3897360"/>
              <a:ext cx="41400" cy="322200"/>
            </a:xfrm>
            <a:custGeom>
              <a:avLst/>
              <a:gdLst/>
              <a:ahLst/>
              <a:rect l="l" t="t" r="r" b="b"/>
              <a:pathLst>
                <a:path w="17" h="147">
                  <a:moveTo>
                    <a:pt x="0" y="147"/>
                  </a:moveTo>
                  <a:lnTo>
                    <a:pt x="8" y="147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43720" y="3898800"/>
              <a:ext cx="34920" cy="266760"/>
            </a:xfrm>
            <a:custGeom>
              <a:avLst/>
              <a:gdLst/>
              <a:ahLst/>
              <a:rect l="l" t="t" r="r" b="b"/>
              <a:pathLst>
                <a:path w="15" h="122">
                  <a:moveTo>
                    <a:pt x="9" y="0"/>
                  </a:moveTo>
                  <a:lnTo>
                    <a:pt x="0" y="0"/>
                  </a:lnTo>
                  <a:lnTo>
                    <a:pt x="7" y="122"/>
                  </a:lnTo>
                  <a:lnTo>
                    <a:pt x="15" y="1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61360" y="4170240"/>
              <a:ext cx="36360" cy="276120"/>
            </a:xfrm>
            <a:custGeom>
              <a:avLst/>
              <a:gdLst/>
              <a:ahLst/>
              <a:rect l="l" t="t" r="r" b="b"/>
              <a:pathLst>
                <a:path w="16" h="126">
                  <a:moveTo>
                    <a:pt x="8" y="0"/>
                  </a:moveTo>
                  <a:lnTo>
                    <a:pt x="0" y="0"/>
                  </a:lnTo>
                  <a:lnTo>
                    <a:pt x="8" y="126"/>
                  </a:lnTo>
                  <a:lnTo>
                    <a:pt x="16" y="1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78640" y="3851280"/>
              <a:ext cx="36720" cy="595080"/>
            </a:xfrm>
            <a:custGeom>
              <a:avLst/>
              <a:gdLst/>
              <a:ahLst/>
              <a:rect l="l" t="t" r="r" b="b"/>
              <a:pathLst>
                <a:path w="15" h="271">
                  <a:moveTo>
                    <a:pt x="0" y="271"/>
                  </a:moveTo>
                  <a:lnTo>
                    <a:pt x="8" y="27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97720" y="3851280"/>
              <a:ext cx="33480" cy="392040"/>
            </a:xfrm>
            <a:custGeom>
              <a:avLst/>
              <a:gdLst/>
              <a:ahLst/>
              <a:rect l="l" t="t" r="r" b="b"/>
              <a:pathLst>
                <a:path w="14" h="178">
                  <a:moveTo>
                    <a:pt x="9" y="0"/>
                  </a:moveTo>
                  <a:lnTo>
                    <a:pt x="0" y="0"/>
                  </a:lnTo>
                  <a:lnTo>
                    <a:pt x="6" y="178"/>
                  </a:lnTo>
                  <a:lnTo>
                    <a:pt x="14" y="17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15360" y="4075200"/>
              <a:ext cx="34920" cy="16812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0" y="77"/>
                  </a:moveTo>
                  <a:lnTo>
                    <a:pt x="8" y="77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31200" y="4029120"/>
              <a:ext cx="38160" cy="475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9"/>
                  </a:moveTo>
                  <a:lnTo>
                    <a:pt x="8" y="22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0280" y="4033800"/>
              <a:ext cx="33120" cy="13032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8" y="0"/>
                  </a:moveTo>
                  <a:lnTo>
                    <a:pt x="0" y="0"/>
                  </a:lnTo>
                  <a:lnTo>
                    <a:pt x="6" y="59"/>
                  </a:lnTo>
                  <a:lnTo>
                    <a:pt x="14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66120" y="3930480"/>
              <a:ext cx="33120" cy="233640"/>
            </a:xfrm>
            <a:custGeom>
              <a:avLst/>
              <a:gdLst/>
              <a:ahLst/>
              <a:rect l="l" t="t" r="r" b="b"/>
              <a:pathLst>
                <a:path w="14" h="106">
                  <a:moveTo>
                    <a:pt x="0" y="106"/>
                  </a:moveTo>
                  <a:lnTo>
                    <a:pt x="8" y="106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83400" y="3564000"/>
              <a:ext cx="34920" cy="614160"/>
            </a:xfrm>
            <a:custGeom>
              <a:avLst/>
              <a:gdLst/>
              <a:ahLst/>
              <a:rect l="l" t="t" r="r" b="b"/>
              <a:pathLst>
                <a:path w="15" h="280">
                  <a:moveTo>
                    <a:pt x="8" y="0"/>
                  </a:moveTo>
                  <a:lnTo>
                    <a:pt x="0" y="0"/>
                  </a:lnTo>
                  <a:lnTo>
                    <a:pt x="7" y="280"/>
                  </a:lnTo>
                  <a:lnTo>
                    <a:pt x="15" y="28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99240" y="4008240"/>
              <a:ext cx="34920" cy="131760"/>
            </a:xfrm>
            <a:custGeom>
              <a:avLst/>
              <a:gdLst/>
              <a:ahLst/>
              <a:rect l="l" t="t" r="r" b="b"/>
              <a:pathLst>
                <a:path w="15" h="60">
                  <a:moveTo>
                    <a:pt x="8" y="0"/>
                  </a:moveTo>
                  <a:lnTo>
                    <a:pt x="0" y="1"/>
                  </a:lnTo>
                  <a:lnTo>
                    <a:pt x="6" y="60"/>
                  </a:lnTo>
                  <a:lnTo>
                    <a:pt x="15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8040" y="3397320"/>
              <a:ext cx="34920" cy="645840"/>
            </a:xfrm>
            <a:custGeom>
              <a:avLst/>
              <a:gdLst/>
              <a:ahLst/>
              <a:rect l="l" t="t" r="r" b="b"/>
              <a:pathLst>
                <a:path w="15" h="294">
                  <a:moveTo>
                    <a:pt x="0" y="294"/>
                  </a:moveTo>
                  <a:lnTo>
                    <a:pt x="9" y="294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9480" y="4030560"/>
              <a:ext cx="36720" cy="109440"/>
            </a:xfrm>
            <a:custGeom>
              <a:avLst/>
              <a:gdLst/>
              <a:ahLst/>
              <a:rect l="l" t="t" r="r" b="b"/>
              <a:pathLst>
                <a:path w="15" h="50">
                  <a:moveTo>
                    <a:pt x="8" y="0"/>
                  </a:moveTo>
                  <a:lnTo>
                    <a:pt x="0" y="2"/>
                  </a:lnTo>
                  <a:lnTo>
                    <a:pt x="7" y="50"/>
                  </a:lnTo>
                  <a:lnTo>
                    <a:pt x="15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47120" y="4046400"/>
              <a:ext cx="34920" cy="9360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40"/>
                  </a:moveTo>
                  <a:lnTo>
                    <a:pt x="8" y="42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62960" y="4046400"/>
              <a:ext cx="34920" cy="677880"/>
            </a:xfrm>
            <a:custGeom>
              <a:avLst/>
              <a:gdLst/>
              <a:ahLst/>
              <a:rect l="l" t="t" r="r" b="b"/>
              <a:pathLst>
                <a:path w="15" h="308">
                  <a:moveTo>
                    <a:pt x="8" y="0"/>
                  </a:moveTo>
                  <a:lnTo>
                    <a:pt x="0" y="0"/>
                  </a:lnTo>
                  <a:lnTo>
                    <a:pt x="7" y="308"/>
                  </a:lnTo>
                  <a:lnTo>
                    <a:pt x="15" y="3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5960" y="3790800"/>
              <a:ext cx="30240" cy="312840"/>
            </a:xfrm>
            <a:custGeom>
              <a:avLst/>
              <a:gdLst/>
              <a:ahLst/>
              <a:rect l="l" t="t" r="r" b="b"/>
              <a:pathLst>
                <a:path w="13" h="143">
                  <a:moveTo>
                    <a:pt x="0" y="143"/>
                  </a:moveTo>
                  <a:lnTo>
                    <a:pt x="8" y="143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93200" y="4003560"/>
              <a:ext cx="33120" cy="406440"/>
            </a:xfrm>
            <a:custGeom>
              <a:avLst/>
              <a:gdLst/>
              <a:ahLst/>
              <a:rect l="l" t="t" r="r" b="b"/>
              <a:pathLst>
                <a:path w="14" h="185">
                  <a:moveTo>
                    <a:pt x="0" y="185"/>
                  </a:moveTo>
                  <a:lnTo>
                    <a:pt x="8" y="18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10480" y="4003560"/>
              <a:ext cx="33480" cy="16200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8" y="0"/>
                  </a:moveTo>
                  <a:lnTo>
                    <a:pt x="0" y="0"/>
                  </a:lnTo>
                  <a:lnTo>
                    <a:pt x="6" y="74"/>
                  </a:lnTo>
                  <a:lnTo>
                    <a:pt x="14" y="7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24880" y="4170240"/>
              <a:ext cx="33120" cy="666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8" y="0"/>
                  </a:moveTo>
                  <a:lnTo>
                    <a:pt x="0" y="1"/>
                  </a:lnTo>
                  <a:lnTo>
                    <a:pt x="6" y="30"/>
                  </a:lnTo>
                  <a:lnTo>
                    <a:pt x="14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38920" y="4232160"/>
              <a:ext cx="32040" cy="8244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8" y="0"/>
                  </a:moveTo>
                  <a:lnTo>
                    <a:pt x="0" y="2"/>
                  </a:lnTo>
                  <a:lnTo>
                    <a:pt x="6" y="38"/>
                  </a:lnTo>
                  <a:lnTo>
                    <a:pt x="14" y="3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3320" y="4160880"/>
              <a:ext cx="34920" cy="15084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0" y="69"/>
                  </a:moveTo>
                  <a:lnTo>
                    <a:pt x="8" y="69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69160" y="4075200"/>
              <a:ext cx="30240" cy="889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39"/>
                  </a:moveTo>
                  <a:lnTo>
                    <a:pt x="8" y="41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83560" y="4076640"/>
              <a:ext cx="33120" cy="195120"/>
            </a:xfrm>
            <a:custGeom>
              <a:avLst/>
              <a:gdLst/>
              <a:ahLst/>
              <a:rect l="l" t="t" r="r" b="b"/>
              <a:pathLst>
                <a:path w="14" h="89">
                  <a:moveTo>
                    <a:pt x="9" y="0"/>
                  </a:moveTo>
                  <a:lnTo>
                    <a:pt x="0" y="0"/>
                  </a:lnTo>
                  <a:lnTo>
                    <a:pt x="6" y="89"/>
                  </a:lnTo>
                  <a:lnTo>
                    <a:pt x="14" y="8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68280" y="4568760"/>
              <a:ext cx="955800" cy="55440"/>
            </a:xfrm>
            <a:custGeom>
              <a:avLst/>
              <a:gdLst/>
              <a:ahLst/>
              <a:rect l="l" t="t" r="r" b="b"/>
              <a:pathLst>
                <a:path w="406" h="26">
                  <a:moveTo>
                    <a:pt x="0" y="17"/>
                  </a:moveTo>
                  <a:lnTo>
                    <a:pt x="0" y="26"/>
                  </a:lnTo>
                  <a:lnTo>
                    <a:pt x="406" y="9"/>
                  </a:lnTo>
                  <a:lnTo>
                    <a:pt x="40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24080" y="4408560"/>
              <a:ext cx="590400" cy="179280"/>
            </a:xfrm>
            <a:custGeom>
              <a:avLst/>
              <a:gdLst/>
              <a:ahLst/>
              <a:rect l="l" t="t" r="r" b="b"/>
              <a:pathLst>
                <a:path w="250" h="82">
                  <a:moveTo>
                    <a:pt x="0" y="73"/>
                  </a:moveTo>
                  <a:lnTo>
                    <a:pt x="2" y="82"/>
                  </a:lnTo>
                  <a:lnTo>
                    <a:pt x="250" y="9"/>
                  </a:lnTo>
                  <a:lnTo>
                    <a:pt x="24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09800" y="4410000"/>
              <a:ext cx="420840" cy="314280"/>
            </a:xfrm>
            <a:custGeom>
              <a:avLst/>
              <a:gdLst/>
              <a:ahLst/>
              <a:rect l="l" t="t" r="r" b="b"/>
              <a:pathLst>
                <a:path w="179" h="143">
                  <a:moveTo>
                    <a:pt x="4" y="0"/>
                  </a:moveTo>
                  <a:lnTo>
                    <a:pt x="0" y="8"/>
                  </a:lnTo>
                  <a:lnTo>
                    <a:pt x="175" y="143"/>
                  </a:lnTo>
                  <a:lnTo>
                    <a:pt x="179" y="1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20920" y="4443480"/>
              <a:ext cx="325440" cy="280800"/>
            </a:xfrm>
            <a:custGeom>
              <a:avLst/>
              <a:gdLst/>
              <a:ahLst/>
              <a:rect l="l" t="t" r="r" b="b"/>
              <a:pathLst>
                <a:path w="138" h="128">
                  <a:moveTo>
                    <a:pt x="0" y="121"/>
                  </a:moveTo>
                  <a:lnTo>
                    <a:pt x="4" y="128"/>
                  </a:lnTo>
                  <a:lnTo>
                    <a:pt x="138" y="8"/>
                  </a:lnTo>
                  <a:lnTo>
                    <a:pt x="134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5200" y="4443480"/>
              <a:ext cx="274680" cy="32040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5" y="0"/>
                  </a:moveTo>
                  <a:lnTo>
                    <a:pt x="0" y="6"/>
                  </a:lnTo>
                  <a:lnTo>
                    <a:pt x="111" y="146"/>
                  </a:lnTo>
                  <a:lnTo>
                    <a:pt x="117" y="1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3760" y="4672080"/>
              <a:ext cx="223560" cy="9684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35"/>
                  </a:moveTo>
                  <a:lnTo>
                    <a:pt x="1" y="44"/>
                  </a:lnTo>
                  <a:lnTo>
                    <a:pt x="95" y="9"/>
                  </a:lnTo>
                  <a:lnTo>
                    <a:pt x="9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24440" y="4662360"/>
              <a:ext cx="188640" cy="2880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4"/>
                  </a:moveTo>
                  <a:lnTo>
                    <a:pt x="0" y="13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06960" y="4408560"/>
              <a:ext cx="180720" cy="269640"/>
            </a:xfrm>
            <a:custGeom>
              <a:avLst/>
              <a:gdLst/>
              <a:ahLst/>
              <a:rect l="l" t="t" r="r" b="b"/>
              <a:pathLst>
                <a:path w="77" h="123">
                  <a:moveTo>
                    <a:pt x="0" y="119"/>
                  </a:moveTo>
                  <a:lnTo>
                    <a:pt x="7" y="123"/>
                  </a:lnTo>
                  <a:lnTo>
                    <a:pt x="77" y="4"/>
                  </a:lnTo>
                  <a:lnTo>
                    <a:pt x="71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76880" y="4408560"/>
              <a:ext cx="161640" cy="225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7" y="0"/>
                  </a:moveTo>
                  <a:lnTo>
                    <a:pt x="0" y="4"/>
                  </a:lnTo>
                  <a:lnTo>
                    <a:pt x="62" y="103"/>
                  </a:lnTo>
                  <a:lnTo>
                    <a:pt x="69" y="9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19440" y="4309920"/>
              <a:ext cx="158760" cy="32220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0" y="144"/>
                  </a:moveTo>
                  <a:lnTo>
                    <a:pt x="8" y="147"/>
                  </a:lnTo>
                  <a:lnTo>
                    <a:pt x="67" y="3"/>
                  </a:lnTo>
                  <a:lnTo>
                    <a:pt x="58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56240" y="4309920"/>
              <a:ext cx="145800" cy="35568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9" y="0"/>
                  </a:moveTo>
                  <a:lnTo>
                    <a:pt x="0" y="3"/>
                  </a:lnTo>
                  <a:lnTo>
                    <a:pt x="53" y="162"/>
                  </a:lnTo>
                  <a:lnTo>
                    <a:pt x="62" y="15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81520" y="4368600"/>
              <a:ext cx="131760" cy="297000"/>
            </a:xfrm>
            <a:custGeom>
              <a:avLst/>
              <a:gdLst/>
              <a:ahLst/>
              <a:rect l="l" t="t" r="r" b="b"/>
              <a:pathLst>
                <a:path w="56" h="135">
                  <a:moveTo>
                    <a:pt x="0" y="132"/>
                  </a:moveTo>
                  <a:lnTo>
                    <a:pt x="9" y="13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94200" y="4370400"/>
              <a:ext cx="125640" cy="352440"/>
            </a:xfrm>
            <a:custGeom>
              <a:avLst/>
              <a:gdLst/>
              <a:ahLst/>
              <a:rect l="l" t="t" r="r" b="b"/>
              <a:pathLst>
                <a:path w="53" h="160">
                  <a:moveTo>
                    <a:pt x="8" y="0"/>
                  </a:moveTo>
                  <a:lnTo>
                    <a:pt x="0" y="2"/>
                  </a:lnTo>
                  <a:lnTo>
                    <a:pt x="45" y="160"/>
                  </a:lnTo>
                  <a:lnTo>
                    <a:pt x="53" y="15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0760" y="4394160"/>
              <a:ext cx="117360" cy="32868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0" y="147"/>
                  </a:moveTo>
                  <a:lnTo>
                    <a:pt x="8" y="149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9040" y="4394160"/>
              <a:ext cx="111240" cy="244440"/>
            </a:xfrm>
            <a:custGeom>
              <a:avLst/>
              <a:gdLst/>
              <a:ahLst/>
              <a:rect l="l" t="t" r="r" b="b"/>
              <a:pathLst>
                <a:path w="47" h="111">
                  <a:moveTo>
                    <a:pt x="8" y="0"/>
                  </a:moveTo>
                  <a:lnTo>
                    <a:pt x="0" y="3"/>
                  </a:lnTo>
                  <a:lnTo>
                    <a:pt x="39" y="111"/>
                  </a:lnTo>
                  <a:lnTo>
                    <a:pt x="47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91200" y="4226040"/>
              <a:ext cx="102960" cy="412560"/>
            </a:xfrm>
            <a:custGeom>
              <a:avLst/>
              <a:gdLst/>
              <a:ahLst/>
              <a:rect l="l" t="t" r="r" b="b"/>
              <a:pathLst>
                <a:path w="44" h="188">
                  <a:moveTo>
                    <a:pt x="0" y="186"/>
                  </a:moveTo>
                  <a:lnTo>
                    <a:pt x="8" y="188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8320" y="4226040"/>
              <a:ext cx="98640" cy="406080"/>
            </a:xfrm>
            <a:custGeom>
              <a:avLst/>
              <a:gdLst/>
              <a:ahLst/>
              <a:rect l="l" t="t" r="r" b="b"/>
              <a:pathLst>
                <a:path w="42" h="185">
                  <a:moveTo>
                    <a:pt x="8" y="0"/>
                  </a:moveTo>
                  <a:lnTo>
                    <a:pt x="0" y="2"/>
                  </a:lnTo>
                  <a:lnTo>
                    <a:pt x="34" y="185"/>
                  </a:lnTo>
                  <a:lnTo>
                    <a:pt x="42" y="18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9320" y="4195800"/>
              <a:ext cx="95400" cy="436320"/>
            </a:xfrm>
            <a:custGeom>
              <a:avLst/>
              <a:gdLst/>
              <a:ahLst/>
              <a:rect l="l" t="t" r="r" b="b"/>
              <a:pathLst>
                <a:path w="41" h="198">
                  <a:moveTo>
                    <a:pt x="0" y="196"/>
                  </a:moveTo>
                  <a:lnTo>
                    <a:pt x="8" y="198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195800"/>
              <a:ext cx="90720" cy="500040"/>
            </a:xfrm>
            <a:custGeom>
              <a:avLst/>
              <a:gdLst/>
              <a:ahLst/>
              <a:rect l="l" t="t" r="r" b="b"/>
              <a:pathLst>
                <a:path w="39" h="227">
                  <a:moveTo>
                    <a:pt x="8" y="0"/>
                  </a:moveTo>
                  <a:lnTo>
                    <a:pt x="0" y="1"/>
                  </a:lnTo>
                  <a:lnTo>
                    <a:pt x="31" y="227"/>
                  </a:lnTo>
                  <a:lnTo>
                    <a:pt x="39" y="2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0160" y="4228920"/>
              <a:ext cx="84240" cy="466920"/>
            </a:xfrm>
            <a:custGeom>
              <a:avLst/>
              <a:gdLst/>
              <a:ahLst/>
              <a:rect l="l" t="t" r="r" b="b"/>
              <a:pathLst>
                <a:path w="36" h="212">
                  <a:moveTo>
                    <a:pt x="0" y="210"/>
                  </a:moveTo>
                  <a:lnTo>
                    <a:pt x="8" y="212"/>
                  </a:lnTo>
                  <a:lnTo>
                    <a:pt x="36" y="1"/>
                  </a:lnTo>
                  <a:lnTo>
                    <a:pt x="28" y="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80000" y="4228920"/>
              <a:ext cx="82440" cy="876600"/>
            </a:xfrm>
            <a:custGeom>
              <a:avLst/>
              <a:gdLst/>
              <a:ahLst/>
              <a:rect l="l" t="t" r="r" b="b"/>
              <a:pathLst>
                <a:path w="35" h="399">
                  <a:moveTo>
                    <a:pt x="8" y="0"/>
                  </a:moveTo>
                  <a:lnTo>
                    <a:pt x="0" y="0"/>
                  </a:lnTo>
                  <a:lnTo>
                    <a:pt x="27" y="399"/>
                  </a:lnTo>
                  <a:lnTo>
                    <a:pt x="35" y="3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43720" y="4191120"/>
              <a:ext cx="82440" cy="914400"/>
            </a:xfrm>
            <a:custGeom>
              <a:avLst/>
              <a:gdLst/>
              <a:ahLst/>
              <a:rect l="l" t="t" r="r" b="b"/>
              <a:pathLst>
                <a:path w="35" h="417">
                  <a:moveTo>
                    <a:pt x="0" y="417"/>
                  </a:moveTo>
                  <a:lnTo>
                    <a:pt x="8" y="417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07080" y="4191120"/>
              <a:ext cx="81000" cy="655560"/>
            </a:xfrm>
            <a:custGeom>
              <a:avLst/>
              <a:gdLst/>
              <a:ahLst/>
              <a:rect l="l" t="t" r="r" b="b"/>
              <a:pathLst>
                <a:path w="34" h="299">
                  <a:moveTo>
                    <a:pt x="8" y="0"/>
                  </a:moveTo>
                  <a:lnTo>
                    <a:pt x="0" y="0"/>
                  </a:lnTo>
                  <a:lnTo>
                    <a:pt x="26" y="299"/>
                  </a:lnTo>
                  <a:lnTo>
                    <a:pt x="34" y="2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69000" y="4152960"/>
              <a:ext cx="74520" cy="693720"/>
            </a:xfrm>
            <a:custGeom>
              <a:avLst/>
              <a:gdLst/>
              <a:ahLst/>
              <a:rect l="l" t="t" r="r" b="b"/>
              <a:pathLst>
                <a:path w="32" h="316">
                  <a:moveTo>
                    <a:pt x="0" y="316"/>
                  </a:moveTo>
                  <a:lnTo>
                    <a:pt x="8" y="316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24440" y="4152960"/>
              <a:ext cx="73080" cy="522000"/>
            </a:xfrm>
            <a:custGeom>
              <a:avLst/>
              <a:gdLst/>
              <a:ahLst/>
              <a:rect l="l" t="t" r="r" b="b"/>
              <a:pathLst>
                <a:path w="31" h="238">
                  <a:moveTo>
                    <a:pt x="8" y="0"/>
                  </a:moveTo>
                  <a:lnTo>
                    <a:pt x="0" y="0"/>
                  </a:lnTo>
                  <a:lnTo>
                    <a:pt x="23" y="238"/>
                  </a:lnTo>
                  <a:lnTo>
                    <a:pt x="31" y="23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84920" y="4178160"/>
              <a:ext cx="69840" cy="496800"/>
            </a:xfrm>
            <a:custGeom>
              <a:avLst/>
              <a:gdLst/>
              <a:ahLst/>
              <a:rect l="l" t="t" r="r" b="b"/>
              <a:pathLst>
                <a:path w="30" h="227">
                  <a:moveTo>
                    <a:pt x="0" y="227"/>
                  </a:moveTo>
                  <a:lnTo>
                    <a:pt x="8" y="227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34240" y="4178160"/>
              <a:ext cx="69840" cy="492120"/>
            </a:xfrm>
            <a:custGeom>
              <a:avLst/>
              <a:gdLst/>
              <a:ahLst/>
              <a:rect l="l" t="t" r="r" b="b"/>
              <a:pathLst>
                <a:path w="30" h="223">
                  <a:moveTo>
                    <a:pt x="9" y="0"/>
                  </a:moveTo>
                  <a:lnTo>
                    <a:pt x="0" y="0"/>
                  </a:lnTo>
                  <a:lnTo>
                    <a:pt x="22" y="223"/>
                  </a:lnTo>
                  <a:lnTo>
                    <a:pt x="30" y="22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87880" y="4259160"/>
              <a:ext cx="68400" cy="412920"/>
            </a:xfrm>
            <a:custGeom>
              <a:avLst/>
              <a:gdLst/>
              <a:ahLst/>
              <a:rect l="l" t="t" r="r" b="b"/>
              <a:pathLst>
                <a:path w="29" h="188">
                  <a:moveTo>
                    <a:pt x="0" y="187"/>
                  </a:moveTo>
                  <a:lnTo>
                    <a:pt x="9" y="188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37200" y="4259160"/>
              <a:ext cx="66600" cy="442800"/>
            </a:xfrm>
            <a:custGeom>
              <a:avLst/>
              <a:gdLst/>
              <a:ahLst/>
              <a:rect l="l" t="t" r="r" b="b"/>
              <a:pathLst>
                <a:path w="28" h="202">
                  <a:moveTo>
                    <a:pt x="8" y="0"/>
                  </a:moveTo>
                  <a:lnTo>
                    <a:pt x="0" y="2"/>
                  </a:lnTo>
                  <a:lnTo>
                    <a:pt x="20" y="202"/>
                  </a:lnTo>
                  <a:lnTo>
                    <a:pt x="28" y="20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84720" y="4292640"/>
              <a:ext cx="68400" cy="409320"/>
            </a:xfrm>
            <a:custGeom>
              <a:avLst/>
              <a:gdLst/>
              <a:ahLst/>
              <a:rect l="l" t="t" r="r" b="b"/>
              <a:pathLst>
                <a:path w="29" h="187">
                  <a:moveTo>
                    <a:pt x="0" y="185"/>
                  </a:moveTo>
                  <a:lnTo>
                    <a:pt x="8" y="18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34040" y="4292640"/>
              <a:ext cx="58680" cy="490320"/>
            </a:xfrm>
            <a:custGeom>
              <a:avLst/>
              <a:gdLst/>
              <a:ahLst/>
              <a:rect l="l" t="t" r="r" b="b"/>
              <a:pathLst>
                <a:path w="25" h="224">
                  <a:moveTo>
                    <a:pt x="8" y="0"/>
                  </a:moveTo>
                  <a:lnTo>
                    <a:pt x="0" y="0"/>
                  </a:lnTo>
                  <a:lnTo>
                    <a:pt x="17" y="224"/>
                  </a:lnTo>
                  <a:lnTo>
                    <a:pt x="25" y="2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8680" y="4327560"/>
              <a:ext cx="58680" cy="45540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7"/>
                  </a:moveTo>
                  <a:lnTo>
                    <a:pt x="8" y="207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18280" y="4330800"/>
              <a:ext cx="61920" cy="411120"/>
            </a:xfrm>
            <a:custGeom>
              <a:avLst/>
              <a:gdLst/>
              <a:ahLst/>
              <a:rect l="l" t="t" r="r" b="b"/>
              <a:pathLst>
                <a:path w="26" h="187">
                  <a:moveTo>
                    <a:pt x="8" y="0"/>
                  </a:moveTo>
                  <a:lnTo>
                    <a:pt x="0" y="0"/>
                  </a:lnTo>
                  <a:lnTo>
                    <a:pt x="18" y="187"/>
                  </a:lnTo>
                  <a:lnTo>
                    <a:pt x="26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120" y="4376520"/>
              <a:ext cx="61920" cy="366840"/>
            </a:xfrm>
            <a:custGeom>
              <a:avLst/>
              <a:gdLst/>
              <a:ahLst/>
              <a:rect l="l" t="t" r="r" b="b"/>
              <a:pathLst>
                <a:path w="26" h="167">
                  <a:moveTo>
                    <a:pt x="0" y="166"/>
                  </a:moveTo>
                  <a:lnTo>
                    <a:pt x="8" y="167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05400" y="4376520"/>
              <a:ext cx="57240" cy="331920"/>
            </a:xfrm>
            <a:custGeom>
              <a:avLst/>
              <a:gdLst/>
              <a:ahLst/>
              <a:rect l="l" t="t" r="r" b="b"/>
              <a:pathLst>
                <a:path w="24" h="151">
                  <a:moveTo>
                    <a:pt x="8" y="0"/>
                  </a:moveTo>
                  <a:lnTo>
                    <a:pt x="0" y="2"/>
                  </a:lnTo>
                  <a:lnTo>
                    <a:pt x="16" y="151"/>
                  </a:lnTo>
                  <a:lnTo>
                    <a:pt x="24" y="14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43560" y="4449600"/>
              <a:ext cx="58680" cy="25884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0" y="116"/>
                  </a:moveTo>
                  <a:lnTo>
                    <a:pt x="8" y="118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3160" y="4449600"/>
              <a:ext cx="57240" cy="25236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8" y="0"/>
                  </a:moveTo>
                  <a:lnTo>
                    <a:pt x="0" y="2"/>
                  </a:lnTo>
                  <a:lnTo>
                    <a:pt x="16" y="115"/>
                  </a:lnTo>
                  <a:lnTo>
                    <a:pt x="24" y="1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21320" y="4556160"/>
              <a:ext cx="54000" cy="14580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0" y="65"/>
                  </a:moveTo>
                  <a:lnTo>
                    <a:pt x="8" y="67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56240" y="4556160"/>
              <a:ext cx="57240" cy="258840"/>
            </a:xfrm>
            <a:custGeom>
              <a:avLst/>
              <a:gdLst/>
              <a:ahLst/>
              <a:rect l="l" t="t" r="r" b="b"/>
              <a:pathLst>
                <a:path w="24" h="118">
                  <a:moveTo>
                    <a:pt x="8" y="0"/>
                  </a:moveTo>
                  <a:lnTo>
                    <a:pt x="0" y="2"/>
                  </a:lnTo>
                  <a:lnTo>
                    <a:pt x="16" y="118"/>
                  </a:lnTo>
                  <a:lnTo>
                    <a:pt x="24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94400" y="4614840"/>
              <a:ext cx="54000" cy="20016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0" y="89"/>
                  </a:moveTo>
                  <a:lnTo>
                    <a:pt x="8" y="9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29320" y="4614840"/>
              <a:ext cx="52560" cy="306360"/>
            </a:xfrm>
            <a:custGeom>
              <a:avLst/>
              <a:gdLst/>
              <a:ahLst/>
              <a:rect l="l" t="t" r="r" b="b"/>
              <a:pathLst>
                <a:path w="22" h="140">
                  <a:moveTo>
                    <a:pt x="8" y="0"/>
                  </a:moveTo>
                  <a:lnTo>
                    <a:pt x="0" y="0"/>
                  </a:lnTo>
                  <a:lnTo>
                    <a:pt x="14" y="140"/>
                  </a:lnTo>
                  <a:lnTo>
                    <a:pt x="22" y="1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62800" y="4614840"/>
              <a:ext cx="54000" cy="31104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0" y="140"/>
                  </a:moveTo>
                  <a:lnTo>
                    <a:pt x="8" y="142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97720" y="4619520"/>
              <a:ext cx="49320" cy="26352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8" y="0"/>
                  </a:moveTo>
                  <a:lnTo>
                    <a:pt x="0" y="1"/>
                  </a:lnTo>
                  <a:lnTo>
                    <a:pt x="13" y="120"/>
                  </a:lnTo>
                  <a:lnTo>
                    <a:pt x="21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4705200"/>
              <a:ext cx="50760" cy="17784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0" y="80"/>
                  </a:moveTo>
                  <a:lnTo>
                    <a:pt x="8" y="81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61080" y="4705200"/>
              <a:ext cx="50760" cy="13500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8" y="0"/>
                  </a:moveTo>
                  <a:lnTo>
                    <a:pt x="0" y="2"/>
                  </a:lnTo>
                  <a:lnTo>
                    <a:pt x="13" y="62"/>
                  </a:lnTo>
                  <a:lnTo>
                    <a:pt x="21" y="6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92760" y="4836960"/>
              <a:ext cx="49320" cy="101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8" y="0"/>
                  </a:moveTo>
                  <a:lnTo>
                    <a:pt x="0" y="2"/>
                  </a:lnTo>
                  <a:lnTo>
                    <a:pt x="12" y="47"/>
                  </a:lnTo>
                  <a:lnTo>
                    <a:pt x="21" y="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27680" y="4895640"/>
              <a:ext cx="42840" cy="460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5"/>
                  </a:moveTo>
                  <a:lnTo>
                    <a:pt x="6" y="21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61160" y="4900680"/>
              <a:ext cx="36360" cy="37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4" y="0"/>
                  </a:moveTo>
                  <a:lnTo>
                    <a:pt x="0" y="7"/>
                  </a:lnTo>
                  <a:lnTo>
                    <a:pt x="12" y="18"/>
                  </a:lnTo>
                  <a:lnTo>
                    <a:pt x="1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86720" y="4929120"/>
              <a:ext cx="44280" cy="6984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6" y="0"/>
                  </a:moveTo>
                  <a:lnTo>
                    <a:pt x="0" y="3"/>
                  </a:lnTo>
                  <a:lnTo>
                    <a:pt x="12" y="32"/>
                  </a:lnTo>
                  <a:lnTo>
                    <a:pt x="19" y="2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15160" y="4933800"/>
              <a:ext cx="44280" cy="651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lnTo>
                    <a:pt x="7" y="30"/>
                  </a:lnTo>
                  <a:lnTo>
                    <a:pt x="19" y="3"/>
                  </a:lnTo>
                  <a:lnTo>
                    <a:pt x="1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0080" y="4925880"/>
              <a:ext cx="25560" cy="20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65920" y="4938480"/>
              <a:ext cx="47520" cy="1461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8" y="0"/>
                  </a:moveTo>
                  <a:lnTo>
                    <a:pt x="0" y="1"/>
                  </a:lnTo>
                  <a:lnTo>
                    <a:pt x="12" y="66"/>
                  </a:lnTo>
                  <a:lnTo>
                    <a:pt x="20" y="6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94360" y="4902120"/>
              <a:ext cx="46080" cy="182520"/>
            </a:xfrm>
            <a:custGeom>
              <a:avLst/>
              <a:gdLst/>
              <a:ahLst/>
              <a:rect l="l" t="t" r="r" b="b"/>
              <a:pathLst>
                <a:path w="19" h="83">
                  <a:moveTo>
                    <a:pt x="0" y="81"/>
                  </a:moveTo>
                  <a:lnTo>
                    <a:pt x="8" y="83"/>
                  </a:lnTo>
                  <a:lnTo>
                    <a:pt x="19" y="2"/>
                  </a:lnTo>
                  <a:lnTo>
                    <a:pt x="11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21360" y="4905360"/>
              <a:ext cx="44640" cy="20484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8" y="0"/>
                  </a:moveTo>
                  <a:lnTo>
                    <a:pt x="0" y="1"/>
                  </a:lnTo>
                  <a:lnTo>
                    <a:pt x="11" y="93"/>
                  </a:lnTo>
                  <a:lnTo>
                    <a:pt x="19" y="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46920" y="4935600"/>
              <a:ext cx="44280" cy="174600"/>
            </a:xfrm>
            <a:custGeom>
              <a:avLst/>
              <a:gdLst/>
              <a:ahLst/>
              <a:rect l="l" t="t" r="r" b="b"/>
              <a:pathLst>
                <a:path w="19" h="80">
                  <a:moveTo>
                    <a:pt x="0" y="78"/>
                  </a:moveTo>
                  <a:lnTo>
                    <a:pt x="8" y="80"/>
                  </a:lnTo>
                  <a:lnTo>
                    <a:pt x="19" y="2"/>
                  </a:lnTo>
                  <a:lnTo>
                    <a:pt x="1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77160" y="4929120"/>
              <a:ext cx="36360" cy="396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0"/>
                  </a:moveTo>
                  <a:lnTo>
                    <a:pt x="0" y="8"/>
                  </a:lnTo>
                  <a:lnTo>
                    <a:pt x="11" y="18"/>
                  </a:lnTo>
                  <a:lnTo>
                    <a:pt x="15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96240" y="4959360"/>
              <a:ext cx="42840" cy="108000"/>
            </a:xfrm>
            <a:custGeom>
              <a:avLst/>
              <a:gdLst/>
              <a:ahLst/>
              <a:rect l="l" t="t" r="r" b="b"/>
              <a:pathLst>
                <a:path w="18" h="49">
                  <a:moveTo>
                    <a:pt x="8" y="0"/>
                  </a:moveTo>
                  <a:lnTo>
                    <a:pt x="0" y="1"/>
                  </a:lnTo>
                  <a:lnTo>
                    <a:pt x="10" y="49"/>
                  </a:lnTo>
                  <a:lnTo>
                    <a:pt x="18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21440" y="5006880"/>
              <a:ext cx="42840" cy="60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8" y="27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45200" y="5011560"/>
              <a:ext cx="41400" cy="73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8" y="0"/>
                  </a:moveTo>
                  <a:lnTo>
                    <a:pt x="0" y="1"/>
                  </a:lnTo>
                  <a:lnTo>
                    <a:pt x="9" y="33"/>
                  </a:lnTo>
                  <a:lnTo>
                    <a:pt x="17" y="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4000" y="5073480"/>
              <a:ext cx="34920" cy="399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5" y="0"/>
                  </a:moveTo>
                  <a:lnTo>
                    <a:pt x="0" y="6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94520" y="5067360"/>
              <a:ext cx="41400" cy="460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7"/>
                  </a:moveTo>
                  <a:lnTo>
                    <a:pt x="7" y="21"/>
                  </a:lnTo>
                  <a:lnTo>
                    <a:pt x="17" y="5"/>
                  </a:lnTo>
                  <a:lnTo>
                    <a:pt x="1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8280" y="4994280"/>
              <a:ext cx="38160" cy="79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0" y="35"/>
                  </a:moveTo>
                  <a:lnTo>
                    <a:pt x="8" y="36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37360" y="4994280"/>
              <a:ext cx="42840" cy="7128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0"/>
                  </a:moveTo>
                  <a:lnTo>
                    <a:pt x="0" y="2"/>
                  </a:lnTo>
                  <a:lnTo>
                    <a:pt x="10" y="32"/>
                  </a:lnTo>
                  <a:lnTo>
                    <a:pt x="18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61120" y="4954680"/>
              <a:ext cx="39960" cy="11088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8"/>
                  </a:moveTo>
                  <a:lnTo>
                    <a:pt x="8" y="50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82000" y="4954680"/>
              <a:ext cx="42840" cy="19836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8" y="0"/>
                  </a:moveTo>
                  <a:lnTo>
                    <a:pt x="0" y="2"/>
                  </a:lnTo>
                  <a:lnTo>
                    <a:pt x="10" y="90"/>
                  </a:lnTo>
                  <a:lnTo>
                    <a:pt x="18" y="8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05760" y="5014800"/>
              <a:ext cx="39600" cy="13824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2"/>
                  </a:moveTo>
                  <a:lnTo>
                    <a:pt x="8" y="63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27720" y="5014800"/>
              <a:ext cx="36720" cy="285840"/>
            </a:xfrm>
            <a:custGeom>
              <a:avLst/>
              <a:gdLst/>
              <a:ahLst/>
              <a:rect l="l" t="t" r="r" b="b"/>
              <a:pathLst>
                <a:path w="16" h="130">
                  <a:moveTo>
                    <a:pt x="8" y="0"/>
                  </a:moveTo>
                  <a:lnTo>
                    <a:pt x="0" y="0"/>
                  </a:lnTo>
                  <a:lnTo>
                    <a:pt x="8" y="130"/>
                  </a:lnTo>
                  <a:lnTo>
                    <a:pt x="16" y="1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5360" y="5027400"/>
              <a:ext cx="42840" cy="273240"/>
            </a:xfrm>
            <a:custGeom>
              <a:avLst/>
              <a:gdLst/>
              <a:ahLst/>
              <a:rect l="l" t="t" r="r" b="b"/>
              <a:pathLst>
                <a:path w="18" h="124">
                  <a:moveTo>
                    <a:pt x="0" y="124"/>
                  </a:moveTo>
                  <a:lnTo>
                    <a:pt x="8" y="124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69120" y="5027400"/>
              <a:ext cx="38160" cy="258840"/>
            </a:xfrm>
            <a:custGeom>
              <a:avLst/>
              <a:gdLst/>
              <a:ahLst/>
              <a:rect l="l" t="t" r="r" b="b"/>
              <a:pathLst>
                <a:path w="16" h="118">
                  <a:moveTo>
                    <a:pt x="8" y="0"/>
                  </a:moveTo>
                  <a:lnTo>
                    <a:pt x="0" y="0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88200" y="5005440"/>
              <a:ext cx="38160" cy="280800"/>
            </a:xfrm>
            <a:custGeom>
              <a:avLst/>
              <a:gdLst/>
              <a:ahLst/>
              <a:rect l="l" t="t" r="r" b="b"/>
              <a:pathLst>
                <a:path w="16" h="128">
                  <a:moveTo>
                    <a:pt x="0" y="128"/>
                  </a:moveTo>
                  <a:lnTo>
                    <a:pt x="8" y="12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07280" y="5005440"/>
              <a:ext cx="38160" cy="255600"/>
            </a:xfrm>
            <a:custGeom>
              <a:avLst/>
              <a:gdLst/>
              <a:ahLst/>
              <a:rect l="l" t="t" r="r" b="b"/>
              <a:pathLst>
                <a:path w="16" h="116">
                  <a:moveTo>
                    <a:pt x="8" y="0"/>
                  </a:moveTo>
                  <a:lnTo>
                    <a:pt x="0" y="0"/>
                  </a:lnTo>
                  <a:lnTo>
                    <a:pt x="8" y="116"/>
                  </a:lnTo>
                  <a:lnTo>
                    <a:pt x="16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31040" y="4998960"/>
              <a:ext cx="33480" cy="262080"/>
            </a:xfrm>
            <a:custGeom>
              <a:avLst/>
              <a:gdLst/>
              <a:ahLst/>
              <a:rect l="l" t="t" r="r" b="b"/>
              <a:pathLst>
                <a:path w="14" h="119">
                  <a:moveTo>
                    <a:pt x="0" y="119"/>
                  </a:moveTo>
                  <a:lnTo>
                    <a:pt x="8" y="119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50120" y="4998960"/>
              <a:ext cx="38160" cy="287280"/>
            </a:xfrm>
            <a:custGeom>
              <a:avLst/>
              <a:gdLst/>
              <a:ahLst/>
              <a:rect l="l" t="t" r="r" b="b"/>
              <a:pathLst>
                <a:path w="16" h="131">
                  <a:moveTo>
                    <a:pt x="8" y="0"/>
                  </a:moveTo>
                  <a:lnTo>
                    <a:pt x="0" y="0"/>
                  </a:lnTo>
                  <a:lnTo>
                    <a:pt x="8" y="131"/>
                  </a:lnTo>
                  <a:lnTo>
                    <a:pt x="16" y="1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69200" y="5065560"/>
              <a:ext cx="34920" cy="220680"/>
            </a:xfrm>
            <a:custGeom>
              <a:avLst/>
              <a:gdLst/>
              <a:ahLst/>
              <a:rect l="l" t="t" r="r" b="b"/>
              <a:pathLst>
                <a:path w="15" h="101">
                  <a:moveTo>
                    <a:pt x="0" y="101"/>
                  </a:moveTo>
                  <a:lnTo>
                    <a:pt x="8" y="10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88280" y="5065560"/>
              <a:ext cx="36360" cy="260280"/>
            </a:xfrm>
            <a:custGeom>
              <a:avLst/>
              <a:gdLst/>
              <a:ahLst/>
              <a:rect l="l" t="t" r="r" b="b"/>
              <a:pathLst>
                <a:path w="16" h="119">
                  <a:moveTo>
                    <a:pt x="8" y="0"/>
                  </a:moveTo>
                  <a:lnTo>
                    <a:pt x="0" y="0"/>
                  </a:lnTo>
                  <a:lnTo>
                    <a:pt x="8" y="119"/>
                  </a:lnTo>
                  <a:lnTo>
                    <a:pt x="16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5560" y="5194080"/>
              <a:ext cx="36720" cy="13500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8" y="61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23200" y="5197320"/>
              <a:ext cx="38160" cy="16992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8" y="0"/>
                  </a:moveTo>
                  <a:lnTo>
                    <a:pt x="0" y="2"/>
                  </a:lnTo>
                  <a:lnTo>
                    <a:pt x="8" y="78"/>
                  </a:lnTo>
                  <a:lnTo>
                    <a:pt x="16" y="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42280" y="5156280"/>
              <a:ext cx="34920" cy="209520"/>
            </a:xfrm>
            <a:custGeom>
              <a:avLst/>
              <a:gdLst/>
              <a:ahLst/>
              <a:rect l="l" t="t" r="r" b="b"/>
              <a:pathLst>
                <a:path w="15" h="95">
                  <a:moveTo>
                    <a:pt x="0" y="95"/>
                  </a:moveTo>
                  <a:lnTo>
                    <a:pt x="8" y="95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1360" y="5156280"/>
              <a:ext cx="410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8" y="0"/>
                  </a:moveTo>
                  <a:lnTo>
                    <a:pt x="0" y="1"/>
                  </a:lnTo>
                  <a:lnTo>
                    <a:pt x="10" y="96"/>
                  </a:lnTo>
                  <a:lnTo>
                    <a:pt x="18" y="9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83320" y="5165640"/>
              <a:ext cx="28800" cy="20016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0" y="91"/>
                  </a:moveTo>
                  <a:lnTo>
                    <a:pt x="8" y="91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96280" y="5165640"/>
              <a:ext cx="34920" cy="16848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8" y="0"/>
                  </a:moveTo>
                  <a:lnTo>
                    <a:pt x="0" y="0"/>
                  </a:lnTo>
                  <a:lnTo>
                    <a:pt x="7" y="76"/>
                  </a:lnTo>
                  <a:lnTo>
                    <a:pt x="15" y="7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15360" y="5288040"/>
              <a:ext cx="34920" cy="460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18"/>
                  </a:moveTo>
                  <a:lnTo>
                    <a:pt x="7" y="21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34440" y="5288040"/>
              <a:ext cx="31680" cy="41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0" y="3"/>
                  </a:lnTo>
                  <a:lnTo>
                    <a:pt x="7" y="18"/>
                  </a:lnTo>
                  <a:lnTo>
                    <a:pt x="14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50280" y="5321160"/>
              <a:ext cx="33120" cy="30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0" y="5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5338800"/>
              <a:ext cx="252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0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11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85200" y="5338800"/>
              <a:ext cx="270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6"/>
                  </a:moveTo>
                  <a:lnTo>
                    <a:pt x="4" y="13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99240" y="5342040"/>
              <a:ext cx="30240" cy="298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0120" y="5351400"/>
              <a:ext cx="28440" cy="223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0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47120" y="5348160"/>
              <a:ext cx="11160" cy="237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2"/>
                  </a:moveTo>
                  <a:lnTo>
                    <a:pt x="3" y="11"/>
                  </a:lnTo>
                  <a:lnTo>
                    <a:pt x="5" y="9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56480" y="5348160"/>
              <a:ext cx="2556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0" y="9"/>
                  </a:lnTo>
                  <a:lnTo>
                    <a:pt x="11" y="11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75560" y="5329080"/>
              <a:ext cx="17640" cy="31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80240" y="5329080"/>
              <a:ext cx="27000" cy="31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0" y="3"/>
                  </a:lnTo>
                  <a:lnTo>
                    <a:pt x="5" y="15"/>
                  </a:lnTo>
                  <a:lnTo>
                    <a:pt x="12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93200" y="5329080"/>
              <a:ext cx="33120" cy="367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2"/>
                  </a:moveTo>
                  <a:lnTo>
                    <a:pt x="7" y="17"/>
                  </a:lnTo>
                  <a:lnTo>
                    <a:pt x="14" y="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0480" y="5329080"/>
              <a:ext cx="2844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0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29560" y="5342040"/>
              <a:ext cx="23760" cy="252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0" y="8"/>
                  </a:lnTo>
                  <a:lnTo>
                    <a:pt x="6" y="12"/>
                  </a:lnTo>
                  <a:lnTo>
                    <a:pt x="1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38920" y="5325840"/>
              <a:ext cx="32040" cy="349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3"/>
                  </a:moveTo>
                  <a:lnTo>
                    <a:pt x="7" y="16"/>
                  </a:lnTo>
                  <a:lnTo>
                    <a:pt x="14" y="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54760" y="5329080"/>
              <a:ext cx="28800" cy="30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69160" y="5317920"/>
              <a:ext cx="3024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3"/>
                  </a:moveTo>
                  <a:lnTo>
                    <a:pt x="6" y="16"/>
                  </a:lnTo>
                  <a:lnTo>
                    <a:pt x="13" y="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12400" y="622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4720" y="5497560"/>
              <a:ext cx="204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43640" y="549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44720" y="5133960"/>
              <a:ext cx="204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4720" y="47703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43640" y="477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4720" y="44085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44720" y="4043160"/>
              <a:ext cx="20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3640" y="404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44720" y="368136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4720" y="331452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3640" y="3314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4720" y="2954160"/>
              <a:ext cx="2044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81000" y="2592360"/>
              <a:ext cx="270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79560" y="2592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85840" y="6424560"/>
              <a:ext cx="247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5480" y="6424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13240" y="6424560"/>
              <a:ext cx="338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12880" y="6424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43520" y="6424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40360" y="6338880"/>
              <a:ext cx="633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09640" y="230508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F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23200" y="23050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G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37360" y="2317680"/>
              <a:ext cx="40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18240" y="5405400"/>
              <a:ext cx="2022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Ultimate 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ppga" descr=""/>
            <p:cNvPicPr/>
            <p:nvPr/>
          </p:nvPicPr>
          <p:blipFill>
            <a:blip r:embed="rId1"/>
            <a:stretch/>
          </p:blipFill>
          <p:spPr>
            <a:xfrm>
              <a:off x="1411200" y="2601720"/>
              <a:ext cx="180684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pga" descr=""/>
            <p:cNvPicPr/>
            <p:nvPr/>
          </p:nvPicPr>
          <p:blipFill>
            <a:blip r:embed="rId2"/>
            <a:stretch/>
          </p:blipFill>
          <p:spPr>
            <a:xfrm>
              <a:off x="1563840" y="4168800"/>
              <a:ext cx="180648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643040" y="294624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84600" y="457200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187880" y="2635200"/>
              <a:ext cx="1206360" cy="353880"/>
              <a:chOff x="4187880" y="2635200"/>
              <a:chExt cx="1206360" cy="353880"/>
            </a:xfrm>
          </p:grpSpPr>
          <p:sp>
            <p:nvSpPr>
              <p:cNvPr id="404" name=""/>
              <p:cNvSpPr/>
              <p:nvPr/>
            </p:nvSpPr>
            <p:spPr>
              <a:xfrm>
                <a:off x="4187880" y="2635200"/>
                <a:ext cx="1206360" cy="3538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60600" y="2729160"/>
                <a:ext cx="237600" cy="232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68480" y="2729160"/>
                <a:ext cx="529920" cy="10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1270080" y="5821200"/>
              <a:ext cx="65372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8040" y="5587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120" y="45831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371800">
              <a:off x="6594480" y="4998960"/>
              <a:ext cx="1085760" cy="558720"/>
            </a:xfrm>
            <a:custGeom>
              <a:avLst/>
              <a:gdLst>
                <a:gd name="textAreaLeft" fmla="*/ 135720 w 1085760"/>
                <a:gd name="textAreaRight" fmla="*/ 950040 w 1085760"/>
                <a:gd name="textAreaTop" fmla="*/ 139680 h 558720"/>
                <a:gd name="textAreaBottom" fmla="*/ 41904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99ff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553160" y="3633840"/>
              <a:ext cx="438480" cy="1436040"/>
              <a:chOff x="7553160" y="3633840"/>
              <a:chExt cx="438480" cy="1436040"/>
            </a:xfrm>
          </p:grpSpPr>
          <p:sp>
            <p:nvSpPr>
              <p:cNvPr id="412" name=""/>
              <p:cNvSpPr/>
              <p:nvPr/>
            </p:nvSpPr>
            <p:spPr>
              <a:xfrm>
                <a:off x="7553160" y="4056120"/>
                <a:ext cx="438480" cy="1013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887960" y="3633840"/>
                <a:ext cx="69120" cy="433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10760" y="4161960"/>
                <a:ext cx="322920" cy="2955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7622280" y="4510440"/>
                <a:ext cx="334440" cy="432720"/>
                <a:chOff x="7622280" y="4510440"/>
                <a:chExt cx="334440" cy="4327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7622280" y="4510440"/>
                  <a:ext cx="92160" cy="432720"/>
                  <a:chOff x="7622280" y="4510440"/>
                  <a:chExt cx="92160" cy="43272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762228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62228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62228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743240" y="4510440"/>
                  <a:ext cx="92160" cy="432720"/>
                  <a:chOff x="7743240" y="4510440"/>
                  <a:chExt cx="92160" cy="432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774324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74324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74324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864560" y="4510440"/>
                  <a:ext cx="92160" cy="432720"/>
                  <a:chOff x="7864560" y="4510440"/>
                  <a:chExt cx="92160" cy="4327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786456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86456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86456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8" name=""/>
            <p:cNvSpPr/>
            <p:nvPr/>
          </p:nvSpPr>
          <p:spPr>
            <a:xfrm>
              <a:off x="3529080" y="5006880"/>
              <a:ext cx="304308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80"/>
                  </a:solidFill>
                  <a:latin typeface="Arial"/>
                </a:rPr>
                <a:t>Probably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32400" y="2976480"/>
              <a:ext cx="183816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248160" y="3087720"/>
              <a:ext cx="28548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35720" y="3179880"/>
              <a:ext cx="30492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23040" y="2709720"/>
              <a:ext cx="251460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Not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23800" y="1787400"/>
            <a:ext cx="57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Low parasitic emission is a key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38920" y="3087720"/>
            <a:ext cx="253800" cy="181080"/>
          </a:xfrm>
          <a:prstGeom prst="hexagon">
            <a:avLst>
              <a:gd name="adj" fmla="val 35040"/>
              <a:gd name="vf" fmla="val 11547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84760" y="4118040"/>
            <a:ext cx="254160" cy="181080"/>
          </a:xfrm>
          <a:prstGeom prst="hexagon">
            <a:avLst>
              <a:gd name="adj" fmla="val 35089"/>
              <a:gd name="vf" fmla="val 11547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700-0B45-4939-B2F7-1D62ED1B67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1828800" y="3048120"/>
          <a:ext cx="572292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7229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ORTB001" descr=""/>
          <p:cNvPicPr/>
          <p:nvPr/>
        </p:nvPicPr>
        <p:blipFill>
          <a:blip r:embed="rId3"/>
          <a:stretch/>
        </p:blipFill>
        <p:spPr>
          <a:xfrm>
            <a:off x="6016680" y="1738440"/>
            <a:ext cx="1447920" cy="1212840"/>
          </a:xfrm>
          <a:prstGeom prst="rect">
            <a:avLst/>
          </a:prstGeom>
          <a:ln w="0">
            <a:noFill/>
          </a:ln>
        </p:spPr>
      </p:pic>
      <p:pic>
        <p:nvPicPr>
          <p:cNvPr id="440" name="TELE062" descr=""/>
          <p:cNvPicPr/>
          <p:nvPr/>
        </p:nvPicPr>
        <p:blipFill>
          <a:blip r:embed="rId4"/>
          <a:stretch/>
        </p:blipFill>
        <p:spPr>
          <a:xfrm>
            <a:off x="7831080" y="3073320"/>
            <a:ext cx="517680" cy="18194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368960" y="2962440"/>
            <a:ext cx="1868400" cy="190332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29280" y="2825640"/>
            <a:ext cx="2145960" cy="217656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22640" y="2622600"/>
            <a:ext cx="2490840" cy="251460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990720"/>
            <a:ext cx="6553080" cy="586728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rot="1995000">
            <a:off x="2649240" y="2803320"/>
            <a:ext cx="2309760" cy="533160"/>
          </a:xfrm>
          <a:prstGeom prst="leftArrow">
            <a:avLst>
              <a:gd name="adj1" fmla="val 50000"/>
              <a:gd name="adj2" fmla="val 108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2920" y="191916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Parasites on local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433 MHz, 2.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38680" y="45561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Parasite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your mobile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900, 1800,19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6040" y="45561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Parasites internal devices 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1919160"/>
            <a:ext cx="222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Example for automo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805280" y="3746520"/>
            <a:ext cx="839880" cy="490320"/>
            <a:chOff x="4805280" y="3746520"/>
            <a:chExt cx="839880" cy="490320"/>
          </a:xfrm>
        </p:grpSpPr>
        <p:sp>
          <p:nvSpPr>
            <p:cNvPr id="452" name=""/>
            <p:cNvSpPr/>
            <p:nvPr/>
          </p:nvSpPr>
          <p:spPr>
            <a:xfrm>
              <a:off x="5163840" y="3766320"/>
              <a:ext cx="0" cy="14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3" name=""/>
            <p:cNvGraphicFramePr/>
            <p:nvPr/>
          </p:nvGraphicFramePr>
          <p:xfrm>
            <a:off x="4805280" y="3746520"/>
            <a:ext cx="839880" cy="40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5280" y="3746520"/>
                      <a:ext cx="83988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5" name=""/>
            <p:cNvSpPr/>
            <p:nvPr/>
          </p:nvSpPr>
          <p:spPr>
            <a:xfrm>
              <a:off x="4913280" y="3779280"/>
              <a:ext cx="585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186000" y="3913200"/>
            <a:ext cx="1619280" cy="74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CapteursABS1" descr=""/>
          <p:cNvPicPr/>
          <p:nvPr/>
        </p:nvPicPr>
        <p:blipFill>
          <a:blip r:embed="rId7"/>
          <a:srcRect l="26631" t="0" r="0" b="0"/>
          <a:stretch/>
        </p:blipFill>
        <p:spPr>
          <a:xfrm>
            <a:off x="2951280" y="4307040"/>
            <a:ext cx="1071360" cy="695160"/>
          </a:xfrm>
          <a:prstGeom prst="rect">
            <a:avLst/>
          </a:prstGeom>
          <a:ln w="9360">
            <a:solidFill>
              <a:srgbClr val="fc0128"/>
            </a:solidFill>
            <a:miter/>
          </a:ln>
        </p:spPr>
      </p:pic>
      <p:pic>
        <p:nvPicPr>
          <p:cNvPr id="458" name="a380" descr=""/>
          <p:cNvPicPr/>
          <p:nvPr/>
        </p:nvPicPr>
        <p:blipFill>
          <a:blip r:embed="rId8"/>
          <a:stretch/>
        </p:blipFill>
        <p:spPr>
          <a:xfrm>
            <a:off x="4022640" y="5365800"/>
            <a:ext cx="1625760" cy="11811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723960" y="5567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Similar EMC problems in aero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10B-C8F0-47C9-BD9A-BD344A1D97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520" y="160596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European Research Centre on Electronics for Transportation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identifies and co-ordinate co-operative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097000" y="2470320"/>
            <a:ext cx="6864120" cy="2213280"/>
            <a:chOff x="2097000" y="2470320"/>
            <a:chExt cx="6864120" cy="2213280"/>
          </a:xfrm>
        </p:grpSpPr>
        <p:sp>
          <p:nvSpPr>
            <p:cNvPr id="463" name=""/>
            <p:cNvSpPr/>
            <p:nvPr/>
          </p:nvSpPr>
          <p:spPr>
            <a:xfrm>
              <a:off x="3223800" y="3154680"/>
              <a:ext cx="4536720" cy="13244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337640" y="3477960"/>
            <a:ext cx="2174040" cy="79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7640" y="3477960"/>
                      <a:ext cx="2174040" cy="79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6486840" y="2742480"/>
            <a:ext cx="189144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86840" y="2742480"/>
                      <a:ext cx="18914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8" name=""/>
            <p:cNvGraphicFramePr/>
            <p:nvPr/>
          </p:nvGraphicFramePr>
          <p:xfrm>
            <a:off x="2119680" y="3901320"/>
            <a:ext cx="1734120" cy="48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9680" y="3901320"/>
                      <a:ext cx="1734120" cy="48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0" name=""/>
            <p:cNvGraphicFramePr/>
            <p:nvPr/>
          </p:nvGraphicFramePr>
          <p:xfrm>
            <a:off x="4816080" y="2572200"/>
            <a:ext cx="1278720" cy="64872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16080" y="2572200"/>
                      <a:ext cx="1278720" cy="64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6606000" y="3912480"/>
              <a:ext cx="2355120" cy="4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9"/>
            <a:stretch/>
          </p:blipFill>
          <p:spPr>
            <a:xfrm>
              <a:off x="6540840" y="3947400"/>
              <a:ext cx="2209320" cy="5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487240" y="3471120"/>
              <a:ext cx="89316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IR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00120" y="4408560"/>
              <a:ext cx="12686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TOUL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97000" y="4319640"/>
              <a:ext cx="178488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UTOMOTIVE 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7" name=""/>
            <p:cNvGraphicFramePr/>
            <p:nvPr/>
          </p:nvGraphicFramePr>
          <p:xfrm>
            <a:off x="2554200" y="2470320"/>
            <a:ext cx="1185480" cy="1123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54200" y="2470320"/>
                      <a:ext cx="1185480" cy="112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9" name=""/>
          <p:cNvSpPr/>
          <p:nvPr/>
        </p:nvSpPr>
        <p:spPr>
          <a:xfrm>
            <a:off x="228600" y="4591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Study and evaluation of emission /susceptibility measurement methods for integrated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Definition and validation of a model to be used in PCB CAD tools to guarantee the EMC of electroni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2711160"/>
            <a:ext cx="1411200" cy="119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11440" y="3033720"/>
            <a:ext cx="582480" cy="438120"/>
          </a:xfrm>
          <a:prstGeom prst="rightArrow">
            <a:avLst>
              <a:gd name="adj1" fmla="val 50000"/>
              <a:gd name="adj2" fmla="val 332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5FC-17BE-4FD5-87E3-1848B74032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2209680"/>
            <a:ext cx="3962160" cy="35816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289548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chitec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3657600"/>
            <a:ext cx="167616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ign Archi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905120" y="3124080"/>
            <a:ext cx="761760" cy="533520"/>
          </a:xfrm>
          <a:custGeom>
            <a:avLst/>
            <a:gdLst>
              <a:gd name="textAreaLeft" fmla="*/ 253800 w 761760"/>
              <a:gd name="textAreaRight" fmla="*/ 652680 w 76176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2743200"/>
            <a:ext cx="228600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76920" y="3352680"/>
            <a:ext cx="167616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1a34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4419720"/>
            <a:ext cx="281916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5880" y="2819520"/>
            <a:ext cx="2743200" cy="28191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6587" y="3831"/>
                </a:moveTo>
                <a:arcTo wR="-8143" hR="-8143" stAng="-7269265" swAng="-10813444"/>
                <a:lnTo>
                  <a:pt x="5177" y="1580"/>
                </a:lnTo>
                <a:arcTo wR="10800" hR="10800" stAng="-7282709" swAng="10813444"/>
                <a:lnTo>
                  <a:pt x="17784" y="22353"/>
                </a:lnTo>
                <a:lnTo>
                  <a:pt x="12253" y="20990"/>
                </a:lnTo>
                <a:lnTo>
                  <a:pt x="13616" y="15458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81680" y="5181480"/>
            <a:ext cx="685800" cy="60984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5181480"/>
            <a:ext cx="838440" cy="60984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8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0" y="58672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3733920"/>
            <a:ext cx="3047760" cy="259056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18843" y="12084"/>
                </a:moveTo>
                <a:arcTo wR="-8145" hR="-8145" stAng="544149" swAng="-9184217"/>
                <a:lnTo>
                  <a:pt x="19538" y="17148"/>
                </a:lnTo>
                <a:arcTo wR="10800" hR="10800" stAng="2159932" swAng="9184217"/>
                <a:lnTo>
                  <a:pt x="-2531" y="8672"/>
                </a:lnTo>
                <a:lnTo>
                  <a:pt x="2081" y="5330"/>
                </a:lnTo>
                <a:lnTo>
                  <a:pt x="5423" y="994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057400"/>
            <a:ext cx="2743200" cy="25909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21600" h="21600">
                <a:moveTo>
                  <a:pt x="6275" y="17470"/>
                </a:moveTo>
                <a:arcTo wR="-8060" hR="-8060" stAng="7448964" swAng="-8247708"/>
                <a:lnTo>
                  <a:pt x="290" y="13287"/>
                </a:lnTo>
                <a:arcTo wR="10800" hR="10800" stAng="10001256" swAng="8247708"/>
                <a:lnTo>
                  <a:pt x="18378" y="-372"/>
                </a:lnTo>
                <a:lnTo>
                  <a:pt x="19462" y="5281"/>
                </a:lnTo>
                <a:lnTo>
                  <a:pt x="13809" y="6364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9558200">
            <a:off x="3351240" y="5715000"/>
            <a:ext cx="1295640" cy="56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6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$$$$$$$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44320" y="480060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ianc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350532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0c18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6197760"/>
            <a:ext cx="1676160" cy="496800"/>
          </a:xfrm>
          <a:prstGeom prst="flowChartAlternateProcess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C 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880" y="17874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bsolete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BAA-180D-474A-8D8E-C0AAAFEB33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28600" y="2244600"/>
            <a:ext cx="5638680" cy="41911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724280"/>
            <a:ext cx="1828800" cy="1600200"/>
          </a:xfrm>
          <a:prstGeom prst="flowChartAlternateProcess">
            <a:avLst/>
          </a:prstGeom>
          <a:gradFill rotWithShape="0">
            <a:gsLst>
              <a:gs pos="0">
                <a:srgbClr val="ccffff"/>
              </a:gs>
              <a:gs pos="100000">
                <a:srgbClr val="93b8b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C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ianc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4724280"/>
            <a:ext cx="1981440" cy="9907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IC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" y="259092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chitec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14600" y="365760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ign Archi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905120" y="2819520"/>
            <a:ext cx="2546280" cy="838080"/>
          </a:xfrm>
          <a:custGeom>
            <a:avLst/>
            <a:gdLst>
              <a:gd name="textAreaLeft" fmla="*/ 848880 w 2546280"/>
              <a:gd name="textAreaRight" fmla="*/ 1937880 w 2546280"/>
              <a:gd name="textAreaTop" fmla="*/ 547200 h 838080"/>
              <a:gd name="textAreaBottom" fmla="*/ 63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9263"/>
                </a:moveTo>
                <a:lnTo>
                  <a:pt x="14102" y="19263"/>
                </a:lnTo>
                <a:lnTo>
                  <a:pt x="14102" y="7200"/>
                </a:lnTo>
                <a:lnTo>
                  <a:pt x="8941" y="7200"/>
                </a:lnTo>
                <a:lnTo>
                  <a:pt x="15271" y="0"/>
                </a:lnTo>
                <a:lnTo>
                  <a:pt x="21600" y="7200"/>
                </a:lnTo>
                <a:lnTo>
                  <a:pt x="16439" y="7200"/>
                </a:lnTo>
                <a:lnTo>
                  <a:pt x="16439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4800600"/>
            <a:ext cx="228600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5410080"/>
            <a:ext cx="1676160" cy="685800"/>
          </a:xfrm>
          <a:prstGeom prst="flowChartAlternateProcess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C 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6200000">
            <a:off x="5410080" y="4876920"/>
            <a:ext cx="533520" cy="1752480"/>
          </a:xfrm>
          <a:prstGeom prst="downArrow">
            <a:avLst>
              <a:gd name="adj1" fmla="val 39889"/>
              <a:gd name="adj2" fmla="val 69132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191120" y="38862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3120 h 838080"/>
              <a:gd name="textAreaBottom" fmla="*/ 718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5562720"/>
            <a:ext cx="609840" cy="38088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81280"/>
            <a:ext cx="182880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sign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3520" y="4419720"/>
            <a:ext cx="1371600" cy="6094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 Narrow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28680" y="3276720"/>
            <a:ext cx="13716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IC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4160" y="17874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rget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287-0A70-4044-BBC3-656A4A9C4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3:38:00Z</dcterms:created>
  <dc:creator>DGEI</dc:creator>
  <dc:description/>
  <dc:language>en-US</dc:language>
  <cp:lastModifiedBy>DGEI</cp:lastModifiedBy>
  <cp:lastPrinted>2001-02-15T09:02:17Z</cp:lastPrinted>
  <dcterms:modified xsi:type="dcterms:W3CDTF">2001-02-15T11:15:10Z</dcterms:modified>
  <cp:revision>8</cp:revision>
  <dc:subject>EMC model for ICs</dc:subject>
  <dc:title>Aucun titre de diapositive</dc:title>
</cp:coreProperties>
</file>