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wmf" ContentType="image/x-wmf"/>
  <Override PartName="/ppt/media/image11.jpeg" ContentType="image/jpeg"/>
  <Override PartName="/ppt/media/image10.png" ContentType="image/png"/>
  <Override PartName="/ppt/media/image7.png" ContentType="image/png"/>
  <Override PartName="/ppt/media/image15.wmf" ContentType="image/x-wmf"/>
  <Override PartName="/ppt/media/image6.png" ContentType="image/png"/>
  <Override PartName="/ppt/media/image22.wmf" ContentType="image/x-wmf"/>
  <Override PartName="/ppt/media/image19.png" ContentType="image/png"/>
  <Override PartName="/ppt/media/image1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wmf" ContentType="image/x-wmf"/>
  <Override PartName="/ppt/media/image3.wmf" ContentType="image/x-wmf"/>
  <Override PartName="/ppt/media/image4.jpeg" ContentType="image/jpeg"/>
  <Override PartName="/ppt/media/image2.png" ContentType="image/png"/>
  <Override PartName="/ppt/media/image20.wmf" ContentType="image/x-wmf"/>
  <Override PartName="/ppt/media/image5.jpeg" ContentType="image/jpeg"/>
  <Override PartName="/ppt/media/image9.wmf" ContentType="image/x-wmf"/>
  <Override PartName="/ppt/media/image14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2.docx" ContentType="application/vnd.openxmlformats-officedocument.wordprocessingml.documen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000" y="6434280"/>
            <a:ext cx="372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IS Summit meeting /PARIS, March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log1" descr=""/>
          <p:cNvPicPr/>
          <p:nvPr/>
        </p:nvPicPr>
        <p:blipFill>
          <a:blip r:embed="rId2"/>
          <a:stretch/>
        </p:blipFill>
        <p:spPr>
          <a:xfrm>
            <a:off x="6854760" y="144360"/>
            <a:ext cx="2060640" cy="6559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6477120" y="624852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791320" y="645012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RIN Jean Claude / HUET Cla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971800" y="9036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EC 62014 -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1333440" y="198360"/>
            <a:ext cx="2057400" cy="487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204440" y="64692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2D33-7172-4332-955F-7781150C8B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114480" y="61920"/>
          <a:ext cx="990360" cy="7905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4480" y="61920"/>
                    <a:ext cx="99036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package" Target="../embeddings/oleObject5.docx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Fou%20de%20Bassan%201%20ICEM%20" descr=""/>
          <p:cNvPicPr/>
          <p:nvPr/>
        </p:nvPicPr>
        <p:blipFill>
          <a:blip r:embed="rId1"/>
          <a:stretch/>
        </p:blipFill>
        <p:spPr>
          <a:xfrm>
            <a:off x="260280" y="911160"/>
            <a:ext cx="8680680" cy="5472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189160" y="2728800"/>
            <a:ext cx="53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1" lang="en-GB" sz="3600" spc="-1" strike="noStrike">
                <a:solidFill>
                  <a:srgbClr val="006600"/>
                </a:solidFill>
                <a:latin typeface="Arial"/>
              </a:rPr>
              <a:t>ntegrated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1" lang="en-GB" sz="3600" spc="-1" strike="noStrike">
                <a:solidFill>
                  <a:srgbClr val="006600"/>
                </a:solidFill>
                <a:latin typeface="Arial"/>
              </a:rPr>
              <a:t>ircuits </a:t>
            </a: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E</a:t>
            </a:r>
            <a:r>
              <a:rPr b="1" lang="en-GB" sz="3600" spc="-1" strike="noStrike">
                <a:solidFill>
                  <a:srgbClr val="006600"/>
                </a:solidFill>
                <a:latin typeface="Arial"/>
              </a:rPr>
              <a:t>lectromagnetic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M</a:t>
            </a:r>
            <a:r>
              <a:rPr b="1" lang="en-GB" sz="3600" spc="-1" strike="noStrike">
                <a:solidFill>
                  <a:srgbClr val="006600"/>
                </a:solidFill>
                <a:latin typeface="Arial"/>
              </a:rPr>
              <a:t>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19280" y="5300640"/>
            <a:ext cx="44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C 62014 – 3 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84120" y="1038240"/>
          <a:ext cx="4430880" cy="20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1038240"/>
                    <a:ext cx="4430880" cy="20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84120" y="3200400"/>
          <a:ext cx="6435720" cy="324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4120" y="3200400"/>
                    <a:ext cx="6435720" cy="32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5419800" y="170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41840" y="1709640"/>
            <a:ext cx="43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lines con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08400" y="274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04080" y="4041720"/>
            <a:ext cx="29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s con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76280" y="2143080"/>
            <a:ext cx="835488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ICEM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 IMPLEMENT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IN 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IBIS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 DATAB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295280" y="110664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URRENT GENERATOR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ib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2971800" cy="3962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352680" y="1981080"/>
            <a:ext cx="4953240" cy="39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Ib generato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Cb capacito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| Variable         Typ           Min           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_pkg          2.045e-13     8.363e-14     3.75e-1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Vdd Vss Pin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Ib current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riabl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b (mA)     1     10     50   100  80   60   40   2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  (nS)         .5      1    1.5   2   2.5     3   3.5   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Frequency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| Variable         Typ           Min           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(MHz)             13          6            5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1071720"/>
            <a:ext cx="847080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CEM in IBIS-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IBIS mark-up language (IBIS-X) makes ICEM implementation very ea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04920" y="2534760"/>
            <a:ext cx="8557920" cy="3561840"/>
            <a:chOff x="304920" y="2534760"/>
            <a:chExt cx="8557920" cy="3561840"/>
          </a:xfrm>
        </p:grpSpPr>
        <p:pic>
          <p:nvPicPr>
            <p:cNvPr id="84" name="ibisML" descr=""/>
            <p:cNvPicPr/>
            <p:nvPr/>
          </p:nvPicPr>
          <p:blipFill>
            <a:blip r:embed="rId1"/>
            <a:stretch/>
          </p:blipFill>
          <p:spPr>
            <a:xfrm>
              <a:off x="304920" y="2535120"/>
              <a:ext cx="4443120" cy="1731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85" name=""/>
            <p:cNvSpPr/>
            <p:nvPr/>
          </p:nvSpPr>
          <p:spPr>
            <a:xfrm>
              <a:off x="5052960" y="2534760"/>
              <a:ext cx="3809880" cy="3561840"/>
            </a:xfrm>
            <a:prstGeom prst="rect">
              <a:avLst/>
            </a:prstGeom>
            <a:solidFill>
              <a:srgbClr val="faf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[define model] IC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| on chip cap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capacitor c_dec (vcc vss) C=5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| Serial supply resisto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resistor r_vdd (vcc vcc_int) R=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resistor r_vss (vss vss_int) R=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| curr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Ib (vcc_int vss_int) I=It(TIM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[It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time I(typ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0.0 0.3e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0.1e-9 0.3e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0.2e-9 0.5e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0.3e-9 0.8e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[end It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[end define model] IC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26000" y="4360320"/>
              <a:ext cx="3015360" cy="1554120"/>
            </a:xfrm>
            <a:prstGeom prst="rect">
              <a:avLst/>
            </a:prstGeom>
            <a:solidFill>
              <a:srgbClr val="faf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Call of the user-defined model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[begin header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[ibis-ml version] 0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[filename] mpc755.ib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[data] Nov 27,2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[model] IC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urier New"/>
                </a:rPr>
                <a:t>[end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14480" y="5430960"/>
              <a:ext cx="1295280" cy="304560"/>
            </a:xfrm>
            <a:prstGeom prst="ellipse">
              <a:avLst/>
            </a:prstGeom>
            <a:noFill/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52880" y="4897440"/>
              <a:ext cx="1000080" cy="304920"/>
            </a:xfrm>
            <a:prstGeom prst="rightArrow">
              <a:avLst>
                <a:gd name="adj1" fmla="val 50000"/>
                <a:gd name="adj2" fmla="val 81995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76280" y="2692440"/>
            <a:ext cx="835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ICEM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 VALID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09600"/>
            <a:ext cx="777240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MODEL VERIF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817640"/>
            <a:ext cx="77724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cc"/>
                </a:solidFill>
                <a:latin typeface="Times New Roman"/>
              </a:rPr>
              <a:t>IERSET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 VA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11360" y="2762280"/>
            <a:ext cx="7771680" cy="2833200"/>
            <a:chOff x="711360" y="2762280"/>
            <a:chExt cx="7771680" cy="2833200"/>
          </a:xfrm>
        </p:grpSpPr>
        <p:grpSp>
          <p:nvGrpSpPr>
            <p:cNvPr id="93" name=""/>
            <p:cNvGrpSpPr/>
            <p:nvPr/>
          </p:nvGrpSpPr>
          <p:grpSpPr>
            <a:xfrm>
              <a:off x="711360" y="2762280"/>
              <a:ext cx="7771680" cy="2833200"/>
              <a:chOff x="711360" y="2762280"/>
              <a:chExt cx="7771680" cy="2833200"/>
            </a:xfrm>
          </p:grpSpPr>
          <p:sp>
            <p:nvSpPr>
              <p:cNvPr id="94" name=""/>
              <p:cNvSpPr/>
              <p:nvPr/>
            </p:nvSpPr>
            <p:spPr>
              <a:xfrm>
                <a:off x="1987200" y="3574440"/>
                <a:ext cx="5136840" cy="18478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507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95" name=""/>
              <p:cNvGraphicFramePr/>
              <p:nvPr/>
            </p:nvGraphicFramePr>
            <p:xfrm>
              <a:off x="3247200" y="4025880"/>
              <a:ext cx="2462400" cy="1104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247200" y="4025880"/>
                        <a:ext cx="2462400" cy="110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7" name=""/>
              <p:cNvGraphicFramePr/>
              <p:nvPr/>
            </p:nvGraphicFramePr>
            <p:xfrm>
              <a:off x="5680800" y="3000960"/>
              <a:ext cx="2142360" cy="797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680800" y="3000960"/>
                        <a:ext cx="2142360" cy="797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9" name=""/>
              <p:cNvGraphicFramePr/>
              <p:nvPr/>
            </p:nvGraphicFramePr>
            <p:xfrm>
              <a:off x="736560" y="4614840"/>
              <a:ext cx="1964520" cy="6703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00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36560" y="4614840"/>
                        <a:ext cx="1964520" cy="670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1" name=""/>
              <p:cNvGraphicFramePr/>
              <p:nvPr/>
            </p:nvGraphicFramePr>
            <p:xfrm>
              <a:off x="3790080" y="2762280"/>
              <a:ext cx="1446840" cy="904680"/>
            </p:xfrm>
            <a:graphic>
              <a:graphicData uri="http://schemas.openxmlformats.org/presentationml/2006/ole">
                <p:oleObj progId="Word.Document.12" r:id="rId7" spid="">
                  <p:embed/>
                  <p:pic>
                    <p:nvPicPr>
                      <p:cNvPr id="102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790080" y="2762280"/>
                        <a:ext cx="1446840" cy="904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3" name=""/>
              <p:cNvSpPr/>
              <p:nvPr/>
            </p:nvSpPr>
            <p:spPr>
              <a:xfrm>
                <a:off x="5815800" y="4630320"/>
                <a:ext cx="2667240" cy="66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742000" y="4681080"/>
                <a:ext cx="2501640" cy="71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>
                <a:off x="6153840" y="5320440"/>
                <a:ext cx="1430640" cy="27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TOULOU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1360" y="5199120"/>
                <a:ext cx="2021760" cy="27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VEDEO Automotiv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07" name=""/>
            <p:cNvGraphicFramePr/>
            <p:nvPr/>
          </p:nvGraphicFramePr>
          <p:xfrm>
            <a:off x="1286280" y="2923200"/>
            <a:ext cx="1121760" cy="1102320"/>
          </p:xfrm>
          <a:graphic>
            <a:graphicData uri="http://schemas.openxmlformats.org/presentationml/2006/ole">
              <p:oleObj progId="Word.Document.12" r:id="rId10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286280" y="2923200"/>
                      <a:ext cx="1121760" cy="110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042560"/>
            <a:ext cx="77724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mission  Model with 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93760" y="2031840"/>
            <a:ext cx="69976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89820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mission  in TEM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04920" y="1673280"/>
            <a:ext cx="8305560" cy="4279320"/>
            <a:chOff x="304920" y="1673280"/>
            <a:chExt cx="8305560" cy="4279320"/>
          </a:xfrm>
        </p:grpSpPr>
        <p:sp>
          <p:nvSpPr>
            <p:cNvPr id="113" name=""/>
            <p:cNvSpPr/>
            <p:nvPr/>
          </p:nvSpPr>
          <p:spPr>
            <a:xfrm>
              <a:off x="610200" y="1673280"/>
              <a:ext cx="6933240" cy="62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</a:rPr>
                <a:t>Validation for the core &amp; I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43720" y="2709720"/>
              <a:ext cx="2066760" cy="29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4000"/>
            </a:bodyPr>
            <a:p>
              <a:pPr marL="322200" indent="-322200">
                <a:spcBef>
                  <a:spcPts val="601"/>
                </a:spcBef>
                <a:buClr>
                  <a:srgbClr val="0033cc"/>
                </a:buClr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Model fits correctly up to 800MH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22200" indent="-322200">
                <a:spcBef>
                  <a:spcPts val="601"/>
                </a:spcBef>
                <a:buClr>
                  <a:srgbClr val="0033cc"/>
                </a:buClr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22200" indent="-322200">
                <a:spcBef>
                  <a:spcPts val="601"/>
                </a:spcBef>
                <a:buClr>
                  <a:srgbClr val="0033cc"/>
                </a:buClr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At high frequencies, IO effects domin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TemEmission" descr=""/>
            <p:cNvPicPr/>
            <p:nvPr/>
          </p:nvPicPr>
          <p:blipFill>
            <a:blip r:embed="rId1"/>
            <a:stretch/>
          </p:blipFill>
          <p:spPr>
            <a:xfrm>
              <a:off x="304920" y="2124000"/>
              <a:ext cx="6238800" cy="38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103356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DIRECT IC RADIATION</a:t>
            </a:r>
            <a:br>
              <a:rPr sz="2800"/>
            </a:br>
            <a:br>
              <a:rPr sz="2800"/>
            </a:b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ORRELATION BASED ON TEM CELL MEASURE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26880" y="2162160"/>
          <a:ext cx="3699000" cy="39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880" y="2162160"/>
                    <a:ext cx="3699000" cy="39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570560" y="2162160"/>
          <a:ext cx="4573440" cy="373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0560" y="2162160"/>
                    <a:ext cx="4573440" cy="37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523880" y="601020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M CE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08840" y="595008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76280" y="2692440"/>
            <a:ext cx="835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ICEM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’S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COOK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95320" y="1674720"/>
            <a:ext cx="7864560" cy="42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TE EMC  task force and program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CEM model technical basis, technical remin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CEM implementation in IBIS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CEM val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CEM cook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958680"/>
            <a:ext cx="35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10340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COOK BOOK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16000" y="1968120"/>
            <a:ext cx="871200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UTE TEAM WORKING ON COOK BOO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E COMPLETED 1st JULY 200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5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DIVA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”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ROJECT IN 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MEDEA+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”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NTRIBUTORS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: EADS CRC, INSA,  AIR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PPLY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ICE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DEL TO SIMULATE COMPLEX PCB LAYO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ALIDATE  THE COOK BOOK (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TRACTION BASED ON COOK BOOK PROCESS)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3913200" y="3370320"/>
          <a:ext cx="5002200" cy="285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13200" y="3370320"/>
                    <a:ext cx="50022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19040" y="2530440"/>
          <a:ext cx="4076640" cy="3694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040" y="2530440"/>
                    <a:ext cx="4076640" cy="36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85724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ARAMETERS EXTRACTION BASED ON MEASU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987480"/>
            <a:ext cx="77724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OOK BOOK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76280" y="2692440"/>
            <a:ext cx="835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812960" y="976320"/>
            <a:ext cx="57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6880" y="1631880"/>
            <a:ext cx="8089920" cy="32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IC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gives a  capability to simulate EMC due to internal activity and of I/Os noise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IC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del is easy to add as a modification or add in the files of usual standards like IB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IC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del parameters can be  obtained by measurement (cook book)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data are not available from ICs manufacturer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ICE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 easily implemented in commercial simulatio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Oiseau%201%20ICEM%202" descr=""/>
          <p:cNvPicPr/>
          <p:nvPr/>
        </p:nvPicPr>
        <p:blipFill>
          <a:blip r:embed="rId1"/>
          <a:stretch/>
        </p:blipFill>
        <p:spPr>
          <a:xfrm>
            <a:off x="3505320" y="4900680"/>
            <a:ext cx="25146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79320" y="2922480"/>
            <a:ext cx="769140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UTE  EMC  TASK  FO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AND  PROGRAM  HIS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91960" y="1744560"/>
            <a:ext cx="8623440" cy="45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RIN Jean Claude       TEXAS INSTR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b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ET Clau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AIRBUS 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VANT Jean Lu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ATM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OT Christian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SIEMENS VEDEO Automo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URICE Olivi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VA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RAUD Rich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EADS C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INTOT  Pier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ST MICRO ELECTRO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BEYRAN Amau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EADS C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CARD Etienne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MDANI Moham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ES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33600" y="949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TE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819520" y="10666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70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3440" y="1523880"/>
            <a:ext cx="839772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3300"/>
                </a:solidFill>
                <a:latin typeface="Arial"/>
                <a:ea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4  : WORKING GROUP  UTE/CEF 93GT5 E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06 / 1997 : IEC 93 / 67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8 : DATE 98 / INTERNATIONAL TASK FO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2000 : DATE 2000 / IEC INTERNATIONAL  EXPERTS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3 / 2001 : IEC 62014 - 3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V proposal sent to IE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standard appro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3 / 2001 : DATE 2001 MUNICH IBIS SUMMIT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CDV93-146" descr=""/>
          <p:cNvPicPr/>
          <p:nvPr/>
        </p:nvPicPr>
        <p:blipFill>
          <a:blip r:embed="rId1"/>
          <a:stretch/>
        </p:blipFill>
        <p:spPr>
          <a:xfrm>
            <a:off x="4572000" y="3311640"/>
            <a:ext cx="4259160" cy="26128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pic>
        <p:nvPicPr>
          <p:cNvPr id="59" name="Oiseau%201%20ICEM%202" descr=""/>
          <p:cNvPicPr/>
          <p:nvPr/>
        </p:nvPicPr>
        <p:blipFill>
          <a:blip r:embed="rId2"/>
          <a:stretch/>
        </p:blipFill>
        <p:spPr>
          <a:xfrm>
            <a:off x="1219320" y="4532400"/>
            <a:ext cx="25146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57080" y="1246320"/>
            <a:ext cx="795528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 STAT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EC 62014-3 DOCUMENT COMPLETION AND IEC APPROV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NTA CLARA PRESENTATION (End of JANUARY 20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K BOOK UNDER 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 2002 PARIS IBIS SUMMIT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9880" y="5326560"/>
            <a:ext cx="7919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ICEM and cookbook documents available on the UTE we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www.ute-fr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63480" y="1461960"/>
            <a:ext cx="762012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ICEM 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ntegrated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ircuits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E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lectromagnetic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M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TECHNICAL BAS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TECHNICAL REMIN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990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LECTROMAGNETIC AND HF NOISE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523880"/>
            <a:ext cx="807732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ower supply lines emis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itching activity in different modules (Internal/periphe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frequency current through package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I/O connections noise emiss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ise due to output fast signals and package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ise coupling through package to the other I/O p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ise coupling through package to other pow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IC Direct emiss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age Bonding and metal die connecti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1200" y="1727280"/>
            <a:ext cx="60962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Mechanisms for parasitic emis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covered by ICEM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23960" y="2838600"/>
            <a:ext cx="5811840" cy="332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6535800" y="2108160"/>
          <a:ext cx="2044800" cy="155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35800" y="2108160"/>
                    <a:ext cx="2044800" cy="1550880"/>
                  </a:xfrm>
                  <a:prstGeom prst="rect">
                    <a:avLst/>
                  </a:prstGeom>
                  <a:ln w="1260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6337440" y="1118160"/>
            <a:ext cx="2243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Origin of parasitic emission in CMO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gate swit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6T08:05:46Z</dcterms:created>
  <dc:creator>AT2CHMA3</dc:creator>
  <dc:description/>
  <dc:language>en-US</dc:language>
  <cp:lastModifiedBy>TIF</cp:lastModifiedBy>
  <cp:lastPrinted>2002-03-04T18:08:29Z</cp:lastPrinted>
  <dcterms:modified xsi:type="dcterms:W3CDTF">2002-03-05T14:41:20Z</dcterms:modified>
  <cp:revision>189</cp:revision>
  <dc:subject/>
  <dc:title>No Slide Title</dc:title>
</cp:coreProperties>
</file>