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42113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720" y="643428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IS Summit meeting / Munich, march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log1" descr=""/>
          <p:cNvPicPr/>
          <p:nvPr/>
        </p:nvPicPr>
        <p:blipFill>
          <a:blip r:embed="rId2"/>
          <a:stretch/>
        </p:blipFill>
        <p:spPr>
          <a:xfrm>
            <a:off x="6854760" y="144360"/>
            <a:ext cx="2060640" cy="65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477120" y="62485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914400"/>
            <a:ext cx="8736120" cy="5410080"/>
          </a:xfrm>
          <a:prstGeom prst="roundRect">
            <a:avLst>
              <a:gd name="adj" fmla="val 1245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791320" y="64501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RIN Jean Claude / HUET Cla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971800" y="9036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DEL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EC 62014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333440" y="198360"/>
            <a:ext cx="2057400" cy="48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185760" y="144360"/>
          <a:ext cx="914400" cy="594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5760" y="144360"/>
                    <a:ext cx="9144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4204440" y="64692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84AE-54FD-4AB9-B6A0-25E676FED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90920" y="1600200"/>
            <a:ext cx="4267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ntegrated Circuits modeling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880920" y="2590920"/>
            <a:ext cx="769176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>
                <a:solidFill>
                  <a:srgbClr val="008000"/>
                </a:solidFill>
                <a:latin typeface="Times New Roman"/>
              </a:rPr>
              <a:t>IC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ntegrated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ircuits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lectromagnetic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AL :  IEC 62014 -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9080" y="1063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CE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4920" y="1600200"/>
            <a:ext cx="8534160" cy="4345920"/>
            <a:chOff x="304920" y="1600200"/>
            <a:chExt cx="8534160" cy="43459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066680" y="1600200"/>
              <a:ext cx="693432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04920" y="5486400"/>
              <a:ext cx="853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chanisms for parasitic emission covered by ICEM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54360" y="4308480"/>
            <a:ext cx="7444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98440" y="1371600"/>
            <a:ext cx="7304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8112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wer lines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2286000"/>
          <a:ext cx="79232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7923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0020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10666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/Os contribution, </a:t>
            </a:r>
            <a:r>
              <a:rPr b="1" lang="fr-FR" sz="2400" spc="-1" strike="noStrike">
                <a:solidFill>
                  <a:srgbClr val="0000cc"/>
                </a:solidFill>
                <a:latin typeface="Arial"/>
                <a:ea typeface="?? ??"/>
              </a:rPr>
              <a:t>single supply structur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55680" y="2209680"/>
          <a:ext cx="86122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2209680"/>
                    <a:ext cx="86122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3840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2000160"/>
          <a:ext cx="822780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00160"/>
                    <a:ext cx="822780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171440" y="1114560"/>
            <a:ext cx="68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/Os contribution, </a:t>
            </a:r>
            <a:r>
              <a:rPr b="1" lang="fr-FR" sz="2400" spc="-1" strike="noStrike">
                <a:solidFill>
                  <a:srgbClr val="0000cc"/>
                </a:solidFill>
                <a:latin typeface="Arial"/>
                <a:ea typeface="?? ??"/>
              </a:rPr>
              <a:t>multiple supply structur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76280" y="2143080"/>
            <a:ext cx="835488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CEM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IMPLEMEN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N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BIS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1793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CKAGE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8600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define package mode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anufacture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cond orde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escriptio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umber of pin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pin number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11320" y="13953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ACKAGE L, R, C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519280"/>
            <a:ext cx="784872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pin number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l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onding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package pin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0396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Example of Package description from manufactur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677960"/>
            <a:ext cx="678168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Packag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| Variable     Typ           Min          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_pkg          0.1034        0.048         0.2592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_pkg          2.263e-09     1.098e-09     4.827e-09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_pkg          2.045e-13     8.363e-14     3.75e-1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Pin]   signal_name             R_pin         L_pin         C_p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      PIN_1        NC          0.07963       1.849e-09     1.187e-1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      PIN_2        NC          0.08791       2.116e-09     1.73e-13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      PIN_3        NC          0.1445        3.071e-09     2.239e-1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      PIN_4        NC          0.08285       1.841e-09     1.315e-1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4600" y="1039680"/>
            <a:ext cx="78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Example of Package description from manufactur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787400"/>
            <a:ext cx="808056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DUCTOR LAYER NAME   TYPE     HEIGHT(MM)     THICKNESS(MM)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    11                 LF       0.46000        0.0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    10                 BW       0.47000        0.025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MI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ectrical Data By Pin (at DC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n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R (ohms)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L (nH)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C (p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ole     BW                  Whole    BW                     Whole     B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              0.080      0.072                1.849     1.643                    0.119     0.1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              0.088      0.065                2.116     1.489                    0.173     0.1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              0.144      0.063                3.071     1.432                    0.224     0.1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               0.083      0.061                1.841     1.390                    0.132     0.1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               0.060     0.060                 1.372     1.372                    0.105     0.1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10664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URRENT GENERATOR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ib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971800" cy="3962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52680" y="1981080"/>
            <a:ext cx="4953240" cy="39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Ib generato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Cb capacito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| Variable         Typ           Min          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_pkg          2.045e-13     8.363e-14     3.75e-1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Vdd Vss Pi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Ib curre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riab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b (mA)     1     10     50   100  80   60   40   2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  (nS)         .5      1    1.5   2   2.5     3   3.5   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Frequency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| Variable         Typ           Min          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(MHz)             13          6            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87920" y="1022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95320" y="1878120"/>
            <a:ext cx="715644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Cs AND EMC SIMULATION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TE EMC TASK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Power lines con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I/Os  con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IMPLEMENTATION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ATAB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67000" y="1081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 COUPLING POWER SUPLIES Zsu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zsub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181320" cy="3686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1981080"/>
            <a:ext cx="4572000" cy="39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Zsub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Csub capacito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| Variable         Typ           Min          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_pkg          2.045e-13     8.363e-14     3.75e-1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vss1 vss2 pin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z impedanc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riable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(mA)       .01    1       2        5     10     50    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v  (nS)       .1       .2      .3       .4    .5      .6      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Frequency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| Variable         Typ           Min           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(MHz)             13          6            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RECT IC ELECTROMAGNETIC E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179sagem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152960" cy="3700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952880" y="1981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mission Mainly due to pack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3048120"/>
            <a:ext cx="358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Vari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C ( Resonanc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840" y="2778120"/>
            <a:ext cx="835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8120" y="1646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424240"/>
            <a:ext cx="7848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 Gives a  capability to simulate EMC due to internal activity and of I/Os noise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model easy to add as modification od add on files to standards like IBI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M model parameter can be  obtained  if data are not available from ICs manufactur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8120" y="1065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133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280" y="1644480"/>
            <a:ext cx="844380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MS Mincho"/>
              </a:rPr>
              <a:t>ACTIONS PLAN TO PER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COOK BOOK to be writen to explain how to ob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ICEM Model parameters. (First draft is on go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Evaluation through IBIS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Integration in  standard models database ( For ex IBIS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PCB simulation  tools integration to provide EM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simulation cap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MS Mincho"/>
              </a:rPr>
              <a:t>Softwares Valid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" y="2590920"/>
            <a:ext cx="76917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8000"/>
                </a:solidFill>
                <a:latin typeface="Arial"/>
                <a:ea typeface="Arial"/>
              </a:rPr>
              <a:t>ICs AND EM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8000"/>
                </a:solidFill>
                <a:latin typeface="Arial"/>
                <a:ea typeface="Arial"/>
              </a:rPr>
              <a:t>SIMULATION NE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82880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040" bIns="4104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2080" y="1447920"/>
            <a:ext cx="8881920" cy="52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  <a:ea typeface="Arial"/>
              </a:rPr>
              <a:t>INTEGRATED CIRCUITS MANUFACTUR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ew ICs design have to take into account EMC/E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include EMC in development phenomena need to be sim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  <a:ea typeface="Arial"/>
              </a:rPr>
              <a:t>PRINTED CARD BOAR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  <a:ea typeface="Arial"/>
              </a:rPr>
              <a:t>COMPLY  EMC DIRECTIVES AND STANDARD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edict and improve EMC performances requires to be able to simulate phenom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  <a:ea typeface="Arial"/>
              </a:rPr>
              <a:t>SIMULATION TOOL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or behavioural model (like IBIS ) available on the market  for PCB simulation  do not take into account EMC phenomena, mainly signal integr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990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cc"/>
                </a:solidFill>
                <a:latin typeface="Arial"/>
                <a:ea typeface="Arial"/>
              </a:rPr>
              <a:t>ICs AND EMC SIMULATION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79320" y="2922480"/>
            <a:ext cx="769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UTE  EMC  TASK 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541520"/>
            <a:ext cx="8381880" cy="45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RIN Jean Claude       TEXAS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ET Clau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EADS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ANT Jean Lu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ATM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OT Christia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IEMENS AUTOMO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URICE Oliv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VA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RAUD Rich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ADS C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INTOT  Pier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T MICRO ELECTRO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BEYRAN Amau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ADS M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CARD Etienne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DANI Moham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ES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BINEAU Mar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ER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33600" y="94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TE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19520" y="1066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GRAM 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70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3440" y="1523880"/>
            <a:ext cx="8397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1994  : WORKING GROUP  UTE/CEF 93GT5 E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06 / 1997 : IEC 93 / 67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1998 : DATE 98 / INTERNATIONAL TASK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2000 : DATE 2000 / IEC INTERNATIONAL  EXPERT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 / 2001 : IEC 62014 - 3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V proposal sent to I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tandard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 / 2001 : DATE 2001 MUNICH IBIS SUMMI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424480" y="3233880"/>
          <a:ext cx="340668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4480" y="3233880"/>
                    <a:ext cx="340668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63480" y="2158920"/>
            <a:ext cx="762012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CEM 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ntegrated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ircuits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lectromagnetic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990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LECTROMAGNETIC AND HF NOISE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23880"/>
            <a:ext cx="807732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ower supply lines emi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ing activity in different modules (Internal/periph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frequency current through packag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/O connections noise emiss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due to output fast signals and package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coupling through package to the other I/O p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coupling through package to other pow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C Direct emiss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 Bonding and metal die connec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08:05:46Z</dcterms:created>
  <dc:creator>AT2CHMA3</dc:creator>
  <dc:description/>
  <dc:language>en-US</dc:language>
  <cp:lastModifiedBy>bobr</cp:lastModifiedBy>
  <cp:lastPrinted>2001-03-13T15:23:52Z</cp:lastPrinted>
  <dcterms:modified xsi:type="dcterms:W3CDTF">2001-03-16T22:15:15Z</dcterms:modified>
  <cp:revision>150</cp:revision>
  <dc:subject/>
  <dc:title>No Slide Title</dc:title>
</cp:coreProperties>
</file>