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4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wmf" ContentType="image/x-wmf"/>
  <Override PartName="/ppt/media/image14.jpeg" ContentType="image/jpeg"/>
  <Override PartName="/ppt/media/image12.wmf" ContentType="image/x-wmf"/>
  <Override PartName="/ppt/media/image8.png" ContentType="image/png"/>
  <Override PartName="/ppt/media/image3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34.png" ContentType="image/png"/>
  <Override PartName="/ppt/media/image40.jpeg" ContentType="image/jpeg"/>
  <Override PartName="/ppt/media/image32.png" ContentType="image/png"/>
  <Override PartName="/ppt/media/image35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5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1.wmf" ContentType="image/x-wmf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CA0-F367-4CC8-A2FF-0AB1A07C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C5C-74AA-45DD-AD91-A890892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7B1-0BE6-41B7-BE98-2B924B93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364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692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364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692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270-ACC3-4F6A-851B-53F45D42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0F0-25B5-42B2-831B-8ED9FA24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2D9-E899-4BE8-8027-E7B7ADAB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A68-8F70-4666-8F14-5070C8CF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E05-D370-4FA4-8F35-976A510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87B-E06B-46B3-AA72-4540F3ED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352-FD53-4043-B874-A060DC1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A88-6E99-44F8-B9E1-91FB52A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5DD-EDD1-4AEA-A9DF-D25C4EA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835BB2-BE56-4B41-9DD7-738F1BBB1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5bf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5bfc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560" y="6561000"/>
            <a:ext cx="279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 20021 - IBIS Summit Santa C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384720" y="66600"/>
          <a:ext cx="34653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4720" y="66600"/>
                    <a:ext cx="3465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54160" y="838080"/>
            <a:ext cx="9486720" cy="716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5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9277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91540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175bfc"/>
                </a:solidFill>
                <a:latin typeface="Arial"/>
              </a:rPr>
              <a:t>Advances on the ICEM model 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175bfc"/>
                </a:solidFill>
                <a:latin typeface="Arial"/>
              </a:rPr>
              <a:t>for Emission of Integrated Circuits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352680"/>
            <a:ext cx="670536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bastien Cal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sebastien.calvet@motorola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sebastien.calvet@insa-tls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Courier New"/>
              </a:rPr>
              <a:t>http://intrage.insa-tlse.fr/~et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24680" y="5761080"/>
          <a:ext cx="1371600" cy="7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61080"/>
                    <a:ext cx="1371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838280" y="540828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ienne SI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000" y="5439960"/>
            <a:ext cx="1711440" cy="1008360"/>
            <a:chOff x="108000" y="5439960"/>
            <a:chExt cx="1711440" cy="1008360"/>
          </a:xfrm>
        </p:grpSpPr>
        <p:grpSp>
          <p:nvGrpSpPr>
            <p:cNvPr id="55" name=""/>
            <p:cNvGrpSpPr/>
            <p:nvPr/>
          </p:nvGrpSpPr>
          <p:grpSpPr>
            <a:xfrm>
              <a:off x="244440" y="5792760"/>
              <a:ext cx="1575000" cy="655560"/>
              <a:chOff x="244440" y="5792760"/>
              <a:chExt cx="1575000" cy="65556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264960" y="5792760"/>
              <a:ext cx="15292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960" y="5792760"/>
                        <a:ext cx="15292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44440" y="6173280"/>
                <a:ext cx="157500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OMOTIVE 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08000" y="54399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ristian MAR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434680" y="5439960"/>
            <a:ext cx="2329560" cy="1008360"/>
            <a:chOff x="2434680" y="5439960"/>
            <a:chExt cx="2329560" cy="100836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597040" y="5854680"/>
              <a:ext cx="2006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34680" y="543996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ré PEYRE LAVIG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559480" y="5384520"/>
            <a:ext cx="1351080" cy="1119600"/>
            <a:chOff x="5559480" y="5384520"/>
            <a:chExt cx="1351080" cy="1119600"/>
          </a:xfrm>
        </p:grpSpPr>
        <p:sp>
          <p:nvSpPr>
            <p:cNvPr id="64" name=""/>
            <p:cNvSpPr/>
            <p:nvPr/>
          </p:nvSpPr>
          <p:spPr>
            <a:xfrm>
              <a:off x="5561640" y="538452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ude HU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559480" y="5737320"/>
            <a:ext cx="1351080" cy="7668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59480" y="5737320"/>
                      <a:ext cx="135108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3B9-27FA-43DD-B5A0-7D544F2A20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s22" descr=""/>
          <p:cNvPicPr/>
          <p:nvPr/>
        </p:nvPicPr>
        <p:blipFill>
          <a:blip r:embed="rId1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307560" y="2244600"/>
            <a:ext cx="3123720" cy="3852360"/>
            <a:chOff x="6307560" y="2244600"/>
            <a:chExt cx="3123720" cy="385236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6477120" y="3292560"/>
              <a:ext cx="27716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6477120" y="2244600"/>
              <a:ext cx="2209680" cy="8175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cor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07560" y="5393160"/>
              <a:ext cx="312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Good forecast of radi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66440" y="5975280"/>
            <a:ext cx="81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A core model is mandatory for accurate emission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352680" y="2244600"/>
            <a:ext cx="2959200" cy="3628440"/>
            <a:chOff x="3352680" y="2244600"/>
            <a:chExt cx="2959200" cy="3628440"/>
          </a:xfrm>
        </p:grpSpPr>
        <p:sp>
          <p:nvSpPr>
            <p:cNvPr id="546" name=""/>
            <p:cNvSpPr/>
            <p:nvPr/>
          </p:nvSpPr>
          <p:spPr>
            <a:xfrm>
              <a:off x="3416400" y="2244600"/>
              <a:ext cx="2895480" cy="6238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52680" y="5169240"/>
              <a:ext cx="29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Wrong prediction of the radiated 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ScanMarot2" descr=""/>
            <p:cNvPicPr/>
            <p:nvPr/>
          </p:nvPicPr>
          <p:blipFill>
            <a:blip r:embed="rId3"/>
            <a:stretch/>
          </p:blipFill>
          <p:spPr>
            <a:xfrm>
              <a:off x="3949560" y="2958840"/>
              <a:ext cx="2362320" cy="19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6EF-A771-4939-AFB8-CCD0BDA20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160596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uropean Research Centre on Electronics for Transport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identifies and co-ordinate co-operative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97000" y="2470320"/>
            <a:ext cx="6864120" cy="2213280"/>
            <a:chOff x="2097000" y="2470320"/>
            <a:chExt cx="6864120" cy="2213280"/>
          </a:xfrm>
        </p:grpSpPr>
        <p:sp>
          <p:nvSpPr>
            <p:cNvPr id="552" name=""/>
            <p:cNvSpPr/>
            <p:nvPr/>
          </p:nvSpPr>
          <p:spPr>
            <a:xfrm>
              <a:off x="3223800" y="3154680"/>
              <a:ext cx="4536720" cy="13244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3" name=""/>
            <p:cNvGraphicFramePr/>
            <p:nvPr/>
          </p:nvGraphicFramePr>
          <p:xfrm>
            <a:off x="4337640" y="3477960"/>
            <a:ext cx="2174040" cy="79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7640" y="3477960"/>
                      <a:ext cx="2174040" cy="79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"/>
            <p:cNvGraphicFramePr/>
            <p:nvPr/>
          </p:nvGraphicFramePr>
          <p:xfrm>
            <a:off x="6486840" y="2742480"/>
            <a:ext cx="18914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6840" y="2742480"/>
                      <a:ext cx="18914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2119680" y="3901320"/>
            <a:ext cx="1734120" cy="48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9680" y="3901320"/>
                      <a:ext cx="173412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"/>
            <p:cNvGraphicFramePr/>
            <p:nvPr/>
          </p:nvGraphicFramePr>
          <p:xfrm>
            <a:off x="4816080" y="2572200"/>
            <a:ext cx="1278720" cy="6487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16080" y="2572200"/>
                      <a:ext cx="127872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" name=""/>
            <p:cNvSpPr/>
            <p:nvPr/>
          </p:nvSpPr>
          <p:spPr>
            <a:xfrm>
              <a:off x="6606000" y="3912480"/>
              <a:ext cx="235512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9"/>
            <a:stretch/>
          </p:blipFill>
          <p:spPr>
            <a:xfrm>
              <a:off x="6540840" y="3947400"/>
              <a:ext cx="220932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2487240" y="3471120"/>
              <a:ext cx="8931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IR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00120" y="4408560"/>
              <a:ext cx="1268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UL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97000" y="4319640"/>
              <a:ext cx="178488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UTOMOTIVE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2554200" y="2470320"/>
            <a:ext cx="1185480" cy="112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4200" y="2470320"/>
                      <a:ext cx="1185480" cy="11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228600" y="4591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Definition and validation of a model to be used in PCB CAD tools to guarantee the EMC of electron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ne model from 1MHz to 1GHz, for conducted </a:t>
            </a: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radia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2711160"/>
            <a:ext cx="1411200" cy="119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11440" y="3033720"/>
            <a:ext cx="582480" cy="438120"/>
          </a:xfrm>
          <a:prstGeom prst="rightArrow">
            <a:avLst>
              <a:gd name="adj1" fmla="val 50000"/>
              <a:gd name="adj2" fmla="val 33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F41-4E92-4F10-82D6-4D710E04F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09800"/>
            <a:ext cx="7010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75bfc"/>
                </a:solidFill>
                <a:latin typeface="Arial"/>
              </a:rPr>
              <a:t>ICEM (</a:t>
            </a:r>
            <a:r>
              <a:rPr b="0" i="1" lang="en-US" sz="2400" spc="-1" strike="noStrike">
                <a:solidFill>
                  <a:srgbClr val="175bfc"/>
                </a:solidFill>
                <a:latin typeface="Arial"/>
              </a:rPr>
              <a:t>Integrated Circuit Electromagnet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3477960"/>
            <a:ext cx="151128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echnical work at IERSET Toulouse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8640" y="5083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997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05120" y="396396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70320" y="2640960"/>
            <a:ext cx="1511280" cy="120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38160" y="38440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2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14760" y="275904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49960" y="6135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1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2764440"/>
            <a:ext cx="358164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ee Draft for Voting at 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70320" y="4471560"/>
            <a:ext cx="151128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k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ersion 1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ug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38160" y="57682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8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4320" y="61351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Document on the UTE web www.ute-f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8040" y="3290040"/>
            <a:ext cx="57880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UT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PERRIN Jean Claud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HUET Claud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 AIR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LEVANT Jean Luc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ATM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MAROT Christian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SIEMENS AUTOMO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MAURICE Olivier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VA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PERRAUD Richard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C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AINTOT Pierr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MICRO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OUBEYRAN Amaury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M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ICARD Etienn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I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RAMDANI Mohamed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S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LUBINEAU Marc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IER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7920" y="35787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53440" y="38437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9680" y="52567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81C-75E7-424A-8F25-3710B7B833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062080"/>
            <a:ext cx="9068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ICEM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Now draft technical report 93/146 C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CDV93-14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5148000" cy="3159000"/>
          </a:xfrm>
          <a:prstGeom prst="rect">
            <a:avLst/>
          </a:prstGeom>
          <a:ln w="9360">
            <a:solidFill>
              <a:srgbClr val="618ffd"/>
            </a:solidFill>
            <a:miter/>
          </a:ln>
        </p:spPr>
      </p:pic>
      <p:pic>
        <p:nvPicPr>
          <p:cNvPr id="590" name="FouDeBassan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2852640" cy="1774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6877800" y="4143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u de Bassan © J.C Per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9C2-C0F2-45CE-86BD-F03A32654C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522756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82600" y="2289240"/>
            <a:ext cx="0" cy="370044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8192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91080" y="2286000"/>
            <a:ext cx="0" cy="31384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2600" y="3200400"/>
            <a:ext cx="9200880" cy="533520"/>
          </a:xfrm>
          <a:custGeom>
            <a:avLst/>
            <a:gdLst>
              <a:gd name="textAreaLeft" fmla="*/ 1437480 w 9200880"/>
              <a:gd name="textAreaRight" fmla="*/ 8388720 w 9200880"/>
              <a:gd name="textAreaTop" fmla="*/ 122040 h 533520"/>
              <a:gd name="textAreaBottom" fmla="*/ 41148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950"/>
                </a:moveTo>
                <a:lnTo>
                  <a:pt x="18079" y="4950"/>
                </a:lnTo>
                <a:lnTo>
                  <a:pt x="18079" y="0"/>
                </a:lnTo>
                <a:lnTo>
                  <a:pt x="21600" y="10800"/>
                </a:lnTo>
                <a:lnTo>
                  <a:pt x="18079" y="21600"/>
                </a:lnTo>
                <a:lnTo>
                  <a:pt x="18079" y="16650"/>
                </a:lnTo>
                <a:lnTo>
                  <a:pt x="3375" y="16650"/>
                </a:lnTo>
                <a:close/>
              </a:path>
              <a:path w="21600" h="21600">
                <a:moveTo>
                  <a:pt x="0" y="4950"/>
                </a:moveTo>
                <a:lnTo>
                  <a:pt x="675" y="4950"/>
                </a:lnTo>
                <a:lnTo>
                  <a:pt x="675" y="16650"/>
                </a:lnTo>
                <a:lnTo>
                  <a:pt x="0" y="16650"/>
                </a:lnTo>
                <a:close/>
              </a:path>
              <a:path w="21600" h="21600">
                <a:moveTo>
                  <a:pt x="1350" y="4950"/>
                </a:moveTo>
                <a:lnTo>
                  <a:pt x="2700" y="4950"/>
                </a:lnTo>
                <a:lnTo>
                  <a:pt x="2700" y="16650"/>
                </a:lnTo>
                <a:lnTo>
                  <a:pt x="1350" y="1665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13560" y="4917240"/>
            <a:ext cx="1473120" cy="73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co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oul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06440" y="6023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9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38560" y="2286000"/>
            <a:ext cx="0" cy="373860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5960" y="5430960"/>
            <a:ext cx="112392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 Me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03600" y="5270040"/>
            <a:ext cx="133380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ate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87800" y="600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4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8808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243480" y="5078520"/>
            <a:ext cx="106704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48320" y="600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7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86360" y="4606920"/>
            <a:ext cx="121932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CEM Greno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78200" y="5677920"/>
            <a:ext cx="12668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9000" y="6038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10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18520" y="5692320"/>
            <a:ext cx="12668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1833480"/>
            <a:ext cx="9067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Presentations of I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8520" y="6044400"/>
            <a:ext cx="702000" cy="368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1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6200" y="129528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8560" y="4368960"/>
            <a:ext cx="86976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33680" y="3587760"/>
            <a:ext cx="187308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 Narrow"/>
              </a:rPr>
              <a:t>Paper IEEE P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4120" y="3587760"/>
            <a:ext cx="1873440" cy="6094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aper IEEE 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97400" y="4286160"/>
            <a:ext cx="268452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81240" y="5396040"/>
            <a:ext cx="1422360" cy="5871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IS Design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2600" y="5396040"/>
            <a:ext cx="108108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Mu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92000" y="6038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3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436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8124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668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226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095-2F74-4242-8A4D-A9E95E7C06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990960" y="3048120"/>
            <a:ext cx="4876920" cy="35128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1905120"/>
            <a:ext cx="81057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re noise of ICs:  3 modes of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conducte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radiate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7894800" y="1905120"/>
          <a:ext cx="178272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94800" y="1905120"/>
                    <a:ext cx="1782720" cy="135252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6248520" y="21322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Origin of parasitic emission in CMO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gat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6B7-0254-4222-9CF4-D3B8B35D5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31840" y="2695680"/>
            <a:ext cx="4152960" cy="2697840"/>
            <a:chOff x="231840" y="2695680"/>
            <a:chExt cx="4152960" cy="2697840"/>
          </a:xfrm>
        </p:grpSpPr>
        <p:sp>
          <p:nvSpPr>
            <p:cNvPr id="632" name=""/>
            <p:cNvSpPr/>
            <p:nvPr/>
          </p:nvSpPr>
          <p:spPr>
            <a:xfrm>
              <a:off x="1641600" y="2763720"/>
              <a:ext cx="2743200" cy="2103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290040" y="3130560"/>
              <a:ext cx="718560" cy="1101600"/>
              <a:chOff x="3290040" y="3130560"/>
              <a:chExt cx="718560" cy="1101600"/>
            </a:xfrm>
          </p:grpSpPr>
          <p:sp>
            <p:nvSpPr>
              <p:cNvPr id="634" name=""/>
              <p:cNvSpPr/>
              <p:nvPr/>
            </p:nvSpPr>
            <p:spPr>
              <a:xfrm>
                <a:off x="3290040" y="35193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653640" y="3130560"/>
                <a:ext cx="354960" cy="1101600"/>
                <a:chOff x="3653640" y="3130560"/>
                <a:chExt cx="354960" cy="11016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825000" y="31305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3653640" y="3478680"/>
                  <a:ext cx="354960" cy="343080"/>
                  <a:chOff x="3653640" y="3478680"/>
                  <a:chExt cx="354960" cy="34308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653640" y="34786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6799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8023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 flipV="1">
                  <a:off x="3825000" y="38174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 rot="5400000">
              <a:off x="2279160" y="29494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5720" y="27018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460160" y="3130560"/>
              <a:ext cx="603360" cy="1096560"/>
              <a:chOff x="1460160" y="3130560"/>
              <a:chExt cx="603360" cy="1096560"/>
            </a:xfrm>
          </p:grpSpPr>
          <p:sp>
            <p:nvSpPr>
              <p:cNvPr id="645" name=""/>
              <p:cNvSpPr/>
              <p:nvPr/>
            </p:nvSpPr>
            <p:spPr>
              <a:xfrm>
                <a:off x="1811520" y="3597120"/>
                <a:ext cx="25200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11520" y="36838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46016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9353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353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1001880" y="313056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50880" y="4227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56000" y="31305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2828520" y="29494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76240" y="26956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5400000">
              <a:off x="2278440" y="40471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01880" y="42274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56000" y="42274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400000">
              <a:off x="2827800" y="40471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00960" y="45068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9960" y="45068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05000" y="31305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05000" y="42274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2741040" y="3130560"/>
              <a:ext cx="602280" cy="1096560"/>
              <a:chOff x="2741040" y="3130560"/>
              <a:chExt cx="602280" cy="1096560"/>
            </a:xfrm>
          </p:grpSpPr>
          <p:sp>
            <p:nvSpPr>
              <p:cNvPr id="664" name=""/>
              <p:cNvSpPr/>
              <p:nvPr/>
            </p:nvSpPr>
            <p:spPr>
              <a:xfrm>
                <a:off x="3091680" y="35971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091680" y="36838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4104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151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151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573200" y="30956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92280" y="41893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840" y="2701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8440" y="441468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87680" y="50562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1909800"/>
            <a:ext cx="8105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CEM includes a simple core model, not handled by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172200" y="2577960"/>
          <a:ext cx="3124080" cy="10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77960"/>
                    <a:ext cx="3124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1272600" y="5011560"/>
            <a:ext cx="3111840" cy="1557360"/>
            <a:chOff x="1272600" y="5011560"/>
            <a:chExt cx="3111840" cy="1557360"/>
          </a:xfrm>
        </p:grpSpPr>
        <p:sp>
          <p:nvSpPr>
            <p:cNvPr id="679" name=""/>
            <p:cNvSpPr/>
            <p:nvPr/>
          </p:nvSpPr>
          <p:spPr>
            <a:xfrm>
              <a:off x="1344960" y="5011560"/>
              <a:ext cx="3039480" cy="155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84840" y="50371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44960" y="5819760"/>
              <a:ext cx="30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94560" y="519984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13440" y="51998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, 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72600" y="602532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anced pa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63400" y="603324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L,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16440" y="579600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16440" y="51274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16440" y="47941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16440" y="4459320"/>
            <a:ext cx="4605480" cy="1440"/>
          </a:xfrm>
          <a:prstGeom prst="line">
            <a:avLst/>
          </a:prstGeom>
          <a:ln w="1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440" y="412596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16440" y="37940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6440" y="34606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16440" y="31273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16440" y="279252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783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97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405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89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120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1149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024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81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137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75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424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470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5000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37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166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487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6202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8138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61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08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1854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2725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5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883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42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164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81520" y="579600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81520" y="54608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81520" y="51274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81520" y="47941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81520" y="44593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81520" y="412596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81520" y="37940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81520" y="34606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81520" y="31273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81520" y="27925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16440" y="54608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81644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35148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88320" y="5460840"/>
            <a:ext cx="144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72000" y="5721480"/>
            <a:ext cx="2253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92880" y="572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68840" y="5388120"/>
            <a:ext cx="123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93680" y="539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08360" y="5054760"/>
            <a:ext cx="18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30680" y="505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08360" y="472284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30680" y="4722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08360" y="438948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30680" y="4389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08360" y="405432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30680" y="405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08360" y="372096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30680" y="372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08360" y="3387600"/>
            <a:ext cx="189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30680" y="33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08360" y="305280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30680" y="3056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08360" y="27194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30680" y="272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88000" y="5891040"/>
            <a:ext cx="12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10320" y="5891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92800" y="58910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11520" y="5891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00840" y="5891040"/>
            <a:ext cx="250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14160" y="5891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06000" y="5891040"/>
            <a:ext cx="3157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319680" y="5891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88320" y="585936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7320" y="58611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000" y="287964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µ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64240" y="5084640"/>
            <a:ext cx="2427120" cy="711360"/>
          </a:xfrm>
          <a:prstGeom prst="rect">
            <a:avLst/>
          </a:prstGeom>
          <a:solidFill>
            <a:srgbClr val="eaeaea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738760" y="5237280"/>
            <a:ext cx="649440" cy="19080"/>
            <a:chOff x="5738760" y="5237280"/>
            <a:chExt cx="649440" cy="19080"/>
          </a:xfrm>
        </p:grpSpPr>
        <p:sp>
          <p:nvSpPr>
            <p:cNvPr id="772" name=""/>
            <p:cNvSpPr/>
            <p:nvPr/>
          </p:nvSpPr>
          <p:spPr>
            <a:xfrm>
              <a:off x="573876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7548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118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5000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86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2452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6124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976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576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72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028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466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83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215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5788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9604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324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369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467400" y="5135400"/>
            <a:ext cx="9572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55160" y="5137200"/>
            <a:ext cx="98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746680" y="5418000"/>
            <a:ext cx="669960" cy="20880"/>
            <a:chOff x="5746680" y="5418000"/>
            <a:chExt cx="669960" cy="20880"/>
          </a:xfrm>
        </p:grpSpPr>
        <p:sp>
          <p:nvSpPr>
            <p:cNvPr id="793" name=""/>
            <p:cNvSpPr/>
            <p:nvPr/>
          </p:nvSpPr>
          <p:spPr>
            <a:xfrm>
              <a:off x="574668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51520" y="54180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2604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30880" y="5418000"/>
              <a:ext cx="176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05400" y="5418000"/>
              <a:ext cx="1112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467400" y="533700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37160" y="5340240"/>
            <a:ext cx="1540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Cd, 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19960" y="2697120"/>
            <a:ext cx="10033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404840" y="2698920"/>
            <a:ext cx="107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ak harm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2970360"/>
            <a:ext cx="1925640" cy="145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9080" y="4154400"/>
            <a:ext cx="1338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68200" y="4156200"/>
            <a:ext cx="126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589960" y="3516480"/>
            <a:ext cx="10875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807040" y="3513240"/>
            <a:ext cx="71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816760" y="3678120"/>
            <a:ext cx="70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07520" y="3881520"/>
            <a:ext cx="1089000" cy="91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46680" y="5600880"/>
            <a:ext cx="6699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7120" y="555768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460560" y="5560920"/>
            <a:ext cx="97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para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248520" y="2957400"/>
            <a:ext cx="3192480" cy="2106720"/>
          </a:xfrm>
          <a:custGeom>
            <a:avLst/>
            <a:gdLst/>
            <a:ahLst/>
            <a:rect l="l" t="t" r="r" b="b"/>
            <a:pathLst>
              <a:path w="2011" h="1327">
                <a:moveTo>
                  <a:pt x="0" y="229"/>
                </a:moveTo>
                <a:lnTo>
                  <a:pt x="0" y="247"/>
                </a:lnTo>
                <a:lnTo>
                  <a:pt x="264" y="247"/>
                </a:lnTo>
                <a:lnTo>
                  <a:pt x="264" y="237"/>
                </a:lnTo>
                <a:lnTo>
                  <a:pt x="259" y="245"/>
                </a:lnTo>
                <a:lnTo>
                  <a:pt x="417" y="360"/>
                </a:lnTo>
                <a:lnTo>
                  <a:pt x="422" y="360"/>
                </a:lnTo>
                <a:lnTo>
                  <a:pt x="428" y="358"/>
                </a:lnTo>
                <a:lnTo>
                  <a:pt x="429" y="357"/>
                </a:lnTo>
                <a:lnTo>
                  <a:pt x="587" y="13"/>
                </a:lnTo>
                <a:lnTo>
                  <a:pt x="580" y="8"/>
                </a:lnTo>
                <a:lnTo>
                  <a:pt x="574" y="14"/>
                </a:lnTo>
                <a:lnTo>
                  <a:pt x="580" y="16"/>
                </a:lnTo>
                <a:lnTo>
                  <a:pt x="586" y="14"/>
                </a:lnTo>
                <a:lnTo>
                  <a:pt x="574" y="13"/>
                </a:lnTo>
                <a:lnTo>
                  <a:pt x="732" y="242"/>
                </a:lnTo>
                <a:lnTo>
                  <a:pt x="738" y="237"/>
                </a:lnTo>
                <a:lnTo>
                  <a:pt x="731" y="241"/>
                </a:lnTo>
                <a:lnTo>
                  <a:pt x="783" y="413"/>
                </a:lnTo>
                <a:lnTo>
                  <a:pt x="785" y="416"/>
                </a:lnTo>
                <a:lnTo>
                  <a:pt x="790" y="419"/>
                </a:lnTo>
                <a:lnTo>
                  <a:pt x="843" y="419"/>
                </a:lnTo>
                <a:lnTo>
                  <a:pt x="949" y="419"/>
                </a:lnTo>
                <a:lnTo>
                  <a:pt x="949" y="409"/>
                </a:lnTo>
                <a:lnTo>
                  <a:pt x="943" y="416"/>
                </a:lnTo>
                <a:lnTo>
                  <a:pt x="943" y="413"/>
                </a:lnTo>
                <a:lnTo>
                  <a:pt x="1048" y="699"/>
                </a:lnTo>
                <a:lnTo>
                  <a:pt x="1048" y="703"/>
                </a:lnTo>
                <a:lnTo>
                  <a:pt x="1054" y="704"/>
                </a:lnTo>
                <a:lnTo>
                  <a:pt x="1060" y="703"/>
                </a:lnTo>
                <a:lnTo>
                  <a:pt x="1061" y="699"/>
                </a:lnTo>
                <a:lnTo>
                  <a:pt x="1114" y="527"/>
                </a:lnTo>
                <a:lnTo>
                  <a:pt x="1107" y="524"/>
                </a:lnTo>
                <a:lnTo>
                  <a:pt x="1101" y="531"/>
                </a:lnTo>
                <a:lnTo>
                  <a:pt x="1107" y="532"/>
                </a:lnTo>
                <a:lnTo>
                  <a:pt x="1112" y="531"/>
                </a:lnTo>
                <a:lnTo>
                  <a:pt x="1099" y="527"/>
                </a:lnTo>
                <a:lnTo>
                  <a:pt x="1152" y="699"/>
                </a:lnTo>
                <a:lnTo>
                  <a:pt x="1153" y="703"/>
                </a:lnTo>
                <a:lnTo>
                  <a:pt x="1159" y="706"/>
                </a:lnTo>
                <a:lnTo>
                  <a:pt x="1212" y="706"/>
                </a:lnTo>
                <a:lnTo>
                  <a:pt x="1212" y="696"/>
                </a:lnTo>
                <a:lnTo>
                  <a:pt x="1206" y="703"/>
                </a:lnTo>
                <a:lnTo>
                  <a:pt x="1205" y="698"/>
                </a:lnTo>
                <a:lnTo>
                  <a:pt x="1257" y="927"/>
                </a:lnTo>
                <a:lnTo>
                  <a:pt x="1259" y="932"/>
                </a:lnTo>
                <a:lnTo>
                  <a:pt x="1265" y="934"/>
                </a:lnTo>
                <a:lnTo>
                  <a:pt x="1270" y="932"/>
                </a:lnTo>
                <a:lnTo>
                  <a:pt x="1272" y="930"/>
                </a:lnTo>
                <a:lnTo>
                  <a:pt x="1377" y="701"/>
                </a:lnTo>
                <a:lnTo>
                  <a:pt x="1370" y="696"/>
                </a:lnTo>
                <a:lnTo>
                  <a:pt x="1363" y="696"/>
                </a:lnTo>
                <a:lnTo>
                  <a:pt x="1364" y="703"/>
                </a:lnTo>
                <a:lnTo>
                  <a:pt x="1370" y="704"/>
                </a:lnTo>
                <a:lnTo>
                  <a:pt x="1376" y="703"/>
                </a:lnTo>
                <a:lnTo>
                  <a:pt x="1363" y="696"/>
                </a:lnTo>
                <a:lnTo>
                  <a:pt x="1363" y="926"/>
                </a:lnTo>
                <a:lnTo>
                  <a:pt x="1363" y="926"/>
                </a:lnTo>
                <a:lnTo>
                  <a:pt x="1364" y="932"/>
                </a:lnTo>
                <a:lnTo>
                  <a:pt x="1370" y="934"/>
                </a:lnTo>
                <a:lnTo>
                  <a:pt x="1376" y="932"/>
                </a:lnTo>
                <a:lnTo>
                  <a:pt x="1377" y="929"/>
                </a:lnTo>
                <a:lnTo>
                  <a:pt x="1430" y="757"/>
                </a:lnTo>
                <a:lnTo>
                  <a:pt x="1423" y="754"/>
                </a:lnTo>
                <a:lnTo>
                  <a:pt x="1417" y="760"/>
                </a:lnTo>
                <a:lnTo>
                  <a:pt x="1423" y="762"/>
                </a:lnTo>
                <a:lnTo>
                  <a:pt x="1428" y="760"/>
                </a:lnTo>
                <a:lnTo>
                  <a:pt x="1417" y="758"/>
                </a:lnTo>
                <a:lnTo>
                  <a:pt x="1469" y="873"/>
                </a:lnTo>
                <a:lnTo>
                  <a:pt x="1469" y="875"/>
                </a:lnTo>
                <a:lnTo>
                  <a:pt x="1475" y="876"/>
                </a:lnTo>
                <a:lnTo>
                  <a:pt x="1481" y="875"/>
                </a:lnTo>
                <a:lnTo>
                  <a:pt x="1484" y="868"/>
                </a:lnTo>
                <a:lnTo>
                  <a:pt x="1484" y="811"/>
                </a:lnTo>
                <a:lnTo>
                  <a:pt x="1475" y="811"/>
                </a:lnTo>
                <a:lnTo>
                  <a:pt x="1469" y="817"/>
                </a:lnTo>
                <a:lnTo>
                  <a:pt x="1475" y="819"/>
                </a:lnTo>
                <a:lnTo>
                  <a:pt x="1481" y="817"/>
                </a:lnTo>
                <a:lnTo>
                  <a:pt x="1469" y="816"/>
                </a:lnTo>
                <a:lnTo>
                  <a:pt x="1575" y="988"/>
                </a:lnTo>
                <a:lnTo>
                  <a:pt x="1575" y="989"/>
                </a:lnTo>
                <a:lnTo>
                  <a:pt x="1581" y="991"/>
                </a:lnTo>
                <a:lnTo>
                  <a:pt x="1586" y="989"/>
                </a:lnTo>
                <a:lnTo>
                  <a:pt x="1639" y="932"/>
                </a:lnTo>
                <a:lnTo>
                  <a:pt x="1633" y="926"/>
                </a:lnTo>
                <a:lnTo>
                  <a:pt x="1633" y="935"/>
                </a:lnTo>
                <a:lnTo>
                  <a:pt x="1686" y="935"/>
                </a:lnTo>
                <a:lnTo>
                  <a:pt x="1686" y="926"/>
                </a:lnTo>
                <a:lnTo>
                  <a:pt x="1680" y="930"/>
                </a:lnTo>
                <a:lnTo>
                  <a:pt x="1733" y="1045"/>
                </a:lnTo>
                <a:lnTo>
                  <a:pt x="1733" y="1047"/>
                </a:lnTo>
                <a:lnTo>
                  <a:pt x="1739" y="1048"/>
                </a:lnTo>
                <a:lnTo>
                  <a:pt x="1744" y="1047"/>
                </a:lnTo>
                <a:lnTo>
                  <a:pt x="1746" y="1044"/>
                </a:lnTo>
                <a:lnTo>
                  <a:pt x="1799" y="872"/>
                </a:lnTo>
                <a:lnTo>
                  <a:pt x="1791" y="868"/>
                </a:lnTo>
                <a:lnTo>
                  <a:pt x="1785" y="875"/>
                </a:lnTo>
                <a:lnTo>
                  <a:pt x="1791" y="876"/>
                </a:lnTo>
                <a:lnTo>
                  <a:pt x="1797" y="875"/>
                </a:lnTo>
                <a:lnTo>
                  <a:pt x="1784" y="870"/>
                </a:lnTo>
                <a:lnTo>
                  <a:pt x="1837" y="1099"/>
                </a:lnTo>
                <a:lnTo>
                  <a:pt x="1838" y="1104"/>
                </a:lnTo>
                <a:lnTo>
                  <a:pt x="1844" y="1106"/>
                </a:lnTo>
                <a:lnTo>
                  <a:pt x="1850" y="1104"/>
                </a:lnTo>
                <a:lnTo>
                  <a:pt x="1851" y="1103"/>
                </a:lnTo>
                <a:lnTo>
                  <a:pt x="1904" y="988"/>
                </a:lnTo>
                <a:lnTo>
                  <a:pt x="1897" y="983"/>
                </a:lnTo>
                <a:lnTo>
                  <a:pt x="1891" y="989"/>
                </a:lnTo>
                <a:lnTo>
                  <a:pt x="1897" y="991"/>
                </a:lnTo>
                <a:lnTo>
                  <a:pt x="1902" y="989"/>
                </a:lnTo>
                <a:lnTo>
                  <a:pt x="1889" y="986"/>
                </a:lnTo>
                <a:lnTo>
                  <a:pt x="1942" y="1158"/>
                </a:lnTo>
                <a:lnTo>
                  <a:pt x="1943" y="1160"/>
                </a:lnTo>
                <a:lnTo>
                  <a:pt x="1996" y="1275"/>
                </a:lnTo>
                <a:lnTo>
                  <a:pt x="2002" y="1270"/>
                </a:lnTo>
                <a:lnTo>
                  <a:pt x="1995" y="1270"/>
                </a:lnTo>
                <a:lnTo>
                  <a:pt x="1995" y="1327"/>
                </a:lnTo>
                <a:lnTo>
                  <a:pt x="2011" y="1327"/>
                </a:lnTo>
                <a:lnTo>
                  <a:pt x="2011" y="1270"/>
                </a:lnTo>
                <a:lnTo>
                  <a:pt x="2009" y="1270"/>
                </a:lnTo>
                <a:lnTo>
                  <a:pt x="2009" y="1267"/>
                </a:lnTo>
                <a:lnTo>
                  <a:pt x="1957" y="1152"/>
                </a:lnTo>
                <a:lnTo>
                  <a:pt x="1949" y="1155"/>
                </a:lnTo>
                <a:lnTo>
                  <a:pt x="1957" y="1154"/>
                </a:lnTo>
                <a:lnTo>
                  <a:pt x="1904" y="981"/>
                </a:lnTo>
                <a:lnTo>
                  <a:pt x="1902" y="977"/>
                </a:lnTo>
                <a:lnTo>
                  <a:pt x="1897" y="975"/>
                </a:lnTo>
                <a:lnTo>
                  <a:pt x="1891" y="977"/>
                </a:lnTo>
                <a:lnTo>
                  <a:pt x="1891" y="980"/>
                </a:lnTo>
                <a:lnTo>
                  <a:pt x="1838" y="1095"/>
                </a:lnTo>
                <a:lnTo>
                  <a:pt x="1850" y="1091"/>
                </a:lnTo>
                <a:lnTo>
                  <a:pt x="1844" y="1090"/>
                </a:lnTo>
                <a:lnTo>
                  <a:pt x="1838" y="1091"/>
                </a:lnTo>
                <a:lnTo>
                  <a:pt x="1844" y="1098"/>
                </a:lnTo>
                <a:lnTo>
                  <a:pt x="1851" y="1096"/>
                </a:lnTo>
                <a:lnTo>
                  <a:pt x="1799" y="867"/>
                </a:lnTo>
                <a:lnTo>
                  <a:pt x="1797" y="862"/>
                </a:lnTo>
                <a:lnTo>
                  <a:pt x="1791" y="860"/>
                </a:lnTo>
                <a:lnTo>
                  <a:pt x="1785" y="862"/>
                </a:lnTo>
                <a:lnTo>
                  <a:pt x="1784" y="868"/>
                </a:lnTo>
                <a:lnTo>
                  <a:pt x="1784" y="867"/>
                </a:lnTo>
                <a:lnTo>
                  <a:pt x="1731" y="1039"/>
                </a:lnTo>
                <a:lnTo>
                  <a:pt x="1744" y="1034"/>
                </a:lnTo>
                <a:lnTo>
                  <a:pt x="1739" y="1032"/>
                </a:lnTo>
                <a:lnTo>
                  <a:pt x="1733" y="1034"/>
                </a:lnTo>
                <a:lnTo>
                  <a:pt x="1731" y="1040"/>
                </a:lnTo>
                <a:lnTo>
                  <a:pt x="1739" y="1040"/>
                </a:lnTo>
                <a:lnTo>
                  <a:pt x="1746" y="1037"/>
                </a:lnTo>
                <a:lnTo>
                  <a:pt x="1693" y="922"/>
                </a:lnTo>
                <a:lnTo>
                  <a:pt x="1692" y="919"/>
                </a:lnTo>
                <a:lnTo>
                  <a:pt x="1686" y="918"/>
                </a:lnTo>
                <a:lnTo>
                  <a:pt x="1633" y="918"/>
                </a:lnTo>
                <a:lnTo>
                  <a:pt x="1633" y="918"/>
                </a:lnTo>
                <a:lnTo>
                  <a:pt x="1627" y="919"/>
                </a:lnTo>
                <a:lnTo>
                  <a:pt x="1575" y="977"/>
                </a:lnTo>
                <a:lnTo>
                  <a:pt x="1586" y="977"/>
                </a:lnTo>
                <a:lnTo>
                  <a:pt x="1581" y="975"/>
                </a:lnTo>
                <a:lnTo>
                  <a:pt x="1581" y="983"/>
                </a:lnTo>
                <a:lnTo>
                  <a:pt x="1586" y="978"/>
                </a:lnTo>
                <a:lnTo>
                  <a:pt x="1481" y="806"/>
                </a:lnTo>
                <a:lnTo>
                  <a:pt x="1481" y="805"/>
                </a:lnTo>
                <a:lnTo>
                  <a:pt x="1475" y="803"/>
                </a:lnTo>
                <a:lnTo>
                  <a:pt x="1469" y="805"/>
                </a:lnTo>
                <a:lnTo>
                  <a:pt x="1468" y="811"/>
                </a:lnTo>
                <a:lnTo>
                  <a:pt x="1468" y="811"/>
                </a:lnTo>
                <a:lnTo>
                  <a:pt x="1468" y="868"/>
                </a:lnTo>
                <a:lnTo>
                  <a:pt x="1481" y="862"/>
                </a:lnTo>
                <a:lnTo>
                  <a:pt x="1475" y="860"/>
                </a:lnTo>
                <a:lnTo>
                  <a:pt x="1469" y="862"/>
                </a:lnTo>
                <a:lnTo>
                  <a:pt x="1468" y="868"/>
                </a:lnTo>
                <a:lnTo>
                  <a:pt x="1475" y="868"/>
                </a:lnTo>
                <a:lnTo>
                  <a:pt x="1483" y="865"/>
                </a:lnTo>
                <a:lnTo>
                  <a:pt x="1430" y="750"/>
                </a:lnTo>
                <a:lnTo>
                  <a:pt x="1428" y="747"/>
                </a:lnTo>
                <a:lnTo>
                  <a:pt x="1423" y="746"/>
                </a:lnTo>
                <a:lnTo>
                  <a:pt x="1417" y="747"/>
                </a:lnTo>
                <a:lnTo>
                  <a:pt x="1415" y="754"/>
                </a:lnTo>
                <a:lnTo>
                  <a:pt x="1415" y="752"/>
                </a:lnTo>
                <a:lnTo>
                  <a:pt x="1363" y="924"/>
                </a:lnTo>
                <a:lnTo>
                  <a:pt x="1377" y="926"/>
                </a:lnTo>
                <a:lnTo>
                  <a:pt x="1376" y="919"/>
                </a:lnTo>
                <a:lnTo>
                  <a:pt x="1370" y="918"/>
                </a:lnTo>
                <a:lnTo>
                  <a:pt x="1364" y="919"/>
                </a:lnTo>
                <a:lnTo>
                  <a:pt x="1363" y="926"/>
                </a:lnTo>
                <a:lnTo>
                  <a:pt x="1370" y="926"/>
                </a:lnTo>
                <a:lnTo>
                  <a:pt x="1379" y="926"/>
                </a:lnTo>
                <a:lnTo>
                  <a:pt x="1379" y="696"/>
                </a:lnTo>
                <a:lnTo>
                  <a:pt x="1377" y="696"/>
                </a:lnTo>
                <a:lnTo>
                  <a:pt x="1376" y="690"/>
                </a:lnTo>
                <a:lnTo>
                  <a:pt x="1370" y="688"/>
                </a:lnTo>
                <a:lnTo>
                  <a:pt x="1364" y="690"/>
                </a:lnTo>
                <a:lnTo>
                  <a:pt x="1364" y="693"/>
                </a:lnTo>
                <a:lnTo>
                  <a:pt x="1259" y="922"/>
                </a:lnTo>
                <a:lnTo>
                  <a:pt x="1270" y="919"/>
                </a:lnTo>
                <a:lnTo>
                  <a:pt x="1265" y="918"/>
                </a:lnTo>
                <a:lnTo>
                  <a:pt x="1259" y="919"/>
                </a:lnTo>
                <a:lnTo>
                  <a:pt x="1265" y="926"/>
                </a:lnTo>
                <a:lnTo>
                  <a:pt x="1272" y="924"/>
                </a:lnTo>
                <a:lnTo>
                  <a:pt x="1219" y="695"/>
                </a:lnTo>
                <a:lnTo>
                  <a:pt x="1218" y="690"/>
                </a:lnTo>
                <a:lnTo>
                  <a:pt x="1212" y="688"/>
                </a:lnTo>
                <a:lnTo>
                  <a:pt x="1159" y="688"/>
                </a:lnTo>
                <a:lnTo>
                  <a:pt x="1165" y="690"/>
                </a:lnTo>
                <a:lnTo>
                  <a:pt x="1159" y="696"/>
                </a:lnTo>
                <a:lnTo>
                  <a:pt x="1167" y="695"/>
                </a:lnTo>
                <a:lnTo>
                  <a:pt x="1114" y="523"/>
                </a:lnTo>
                <a:lnTo>
                  <a:pt x="1112" y="518"/>
                </a:lnTo>
                <a:lnTo>
                  <a:pt x="1107" y="516"/>
                </a:lnTo>
                <a:lnTo>
                  <a:pt x="1101" y="518"/>
                </a:lnTo>
                <a:lnTo>
                  <a:pt x="1099" y="524"/>
                </a:lnTo>
                <a:lnTo>
                  <a:pt x="1099" y="523"/>
                </a:lnTo>
                <a:lnTo>
                  <a:pt x="1047" y="695"/>
                </a:lnTo>
                <a:lnTo>
                  <a:pt x="1060" y="690"/>
                </a:lnTo>
                <a:lnTo>
                  <a:pt x="1054" y="688"/>
                </a:lnTo>
                <a:lnTo>
                  <a:pt x="1048" y="690"/>
                </a:lnTo>
                <a:lnTo>
                  <a:pt x="1047" y="696"/>
                </a:lnTo>
                <a:lnTo>
                  <a:pt x="1054" y="696"/>
                </a:lnTo>
                <a:lnTo>
                  <a:pt x="1061" y="693"/>
                </a:lnTo>
                <a:lnTo>
                  <a:pt x="956" y="406"/>
                </a:lnTo>
                <a:lnTo>
                  <a:pt x="954" y="403"/>
                </a:lnTo>
                <a:lnTo>
                  <a:pt x="949" y="401"/>
                </a:lnTo>
                <a:lnTo>
                  <a:pt x="843" y="401"/>
                </a:lnTo>
                <a:lnTo>
                  <a:pt x="790" y="401"/>
                </a:lnTo>
                <a:lnTo>
                  <a:pt x="796" y="403"/>
                </a:lnTo>
                <a:lnTo>
                  <a:pt x="790" y="409"/>
                </a:lnTo>
                <a:lnTo>
                  <a:pt x="798" y="408"/>
                </a:lnTo>
                <a:lnTo>
                  <a:pt x="745" y="236"/>
                </a:lnTo>
                <a:lnTo>
                  <a:pt x="744" y="233"/>
                </a:lnTo>
                <a:lnTo>
                  <a:pt x="586" y="3"/>
                </a:lnTo>
                <a:lnTo>
                  <a:pt x="586" y="2"/>
                </a:lnTo>
                <a:lnTo>
                  <a:pt x="580" y="0"/>
                </a:lnTo>
                <a:lnTo>
                  <a:pt x="574" y="2"/>
                </a:lnTo>
                <a:lnTo>
                  <a:pt x="574" y="5"/>
                </a:lnTo>
                <a:lnTo>
                  <a:pt x="416" y="349"/>
                </a:lnTo>
                <a:lnTo>
                  <a:pt x="422" y="344"/>
                </a:lnTo>
                <a:lnTo>
                  <a:pt x="416" y="346"/>
                </a:lnTo>
                <a:lnTo>
                  <a:pt x="422" y="352"/>
                </a:lnTo>
                <a:lnTo>
                  <a:pt x="426" y="346"/>
                </a:lnTo>
                <a:lnTo>
                  <a:pt x="268" y="231"/>
                </a:lnTo>
                <a:lnTo>
                  <a:pt x="264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242040" y="2970360"/>
            <a:ext cx="3191040" cy="2073240"/>
            <a:chOff x="6242040" y="2970360"/>
            <a:chExt cx="3191040" cy="2073240"/>
          </a:xfrm>
        </p:grpSpPr>
        <p:grpSp>
          <p:nvGrpSpPr>
            <p:cNvPr id="814" name=""/>
            <p:cNvGrpSpPr/>
            <p:nvPr/>
          </p:nvGrpSpPr>
          <p:grpSpPr>
            <a:xfrm>
              <a:off x="6242040" y="2970360"/>
              <a:ext cx="2286000" cy="1466640"/>
              <a:chOff x="6242040" y="2970360"/>
              <a:chExt cx="2286000" cy="1466640"/>
            </a:xfrm>
          </p:grpSpPr>
          <p:sp>
            <p:nvSpPr>
              <p:cNvPr id="815" name=""/>
              <p:cNvSpPr/>
              <p:nvPr/>
            </p:nvSpPr>
            <p:spPr>
              <a:xfrm>
                <a:off x="6242040" y="3597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3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625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86680" y="3549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08640" y="3524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32400" y="3498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5652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78480" y="344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02240" y="34225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2636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48320" y="3371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69200" y="3349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92960" y="3328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04120" y="3362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516720" y="3395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529320" y="3427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541920" y="3460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553080" y="349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64240" y="35258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576840" y="35593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589800" y="3592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602400" y="3625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613560" y="3657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624720" y="369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637320" y="3724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51720" y="3755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62880" y="377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7692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9276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0716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719760" y="3645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3416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750000" y="358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764400" y="355140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78800" y="3519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792840" y="3489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08680" y="3456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23080" y="3425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32440" y="3443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838920" y="3476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848640" y="351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854760" y="3544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864480" y="3579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7240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878520" y="3648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88240" y="3683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94360" y="37162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04080" y="3751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10560" y="3776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2316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3252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4044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953400" y="36399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1" y="10"/>
                    </a:lnTo>
                    <a:lnTo>
                      <a:pt x="4" y="13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6276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7392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83280" y="3541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444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0416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13520" y="3440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24680" y="3408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8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34040" y="33717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45200" y="3340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54920" y="330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6080" y="3271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75440" y="3238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85160" y="3205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95960" y="3171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05680" y="3137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118280" y="310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26200" y="3071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139160" y="303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148520" y="300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6440" y="2970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165800" y="298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74080" y="30211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80200" y="305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88120" y="3090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94600" y="3124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201080" y="3159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09000" y="3195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15120" y="3227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21600" y="32637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29520" y="329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236000" y="33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243920" y="3367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50040" y="340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256520" y="3435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64440" y="3470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7092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278840" y="3538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2849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91440" y="361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299360" y="3643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30872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315200" y="371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21680" y="3746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29600" y="3780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34280" y="3743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340760" y="371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4688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5480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359480" y="36050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65960" y="3571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73880" y="3537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380360" y="350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85040" y="3465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91520" y="3432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9944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362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10600" y="3327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1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21400" y="335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31120" y="3389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40480" y="3422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51640" y="345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61360" y="3490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72520" y="3524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481880" y="3557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49448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12120" y="357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35880" y="3554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59640" y="3529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80160" y="3511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96360" y="35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10400" y="357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2480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064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55040" y="367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72320" y="3678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93200" y="36561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716960" y="363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40720" y="360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756560" y="3622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2400" y="3656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86800" y="368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00840" y="37195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15240" y="3749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31080" y="3781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845480" y="3811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858080" y="3844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872480" y="387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888320" y="3908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902720" y="3938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918560" y="3956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942320" y="3930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66080" y="3905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88400" y="3881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05680" y="389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21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03592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48520" y="3986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66160" y="40194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8760" y="4049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01080" y="4032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123400" y="4006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147160" y="398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167680" y="3971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77040" y="40053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186760" y="4037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97920" y="4073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207280" y="4105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218440" y="4138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228160" y="417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238960" y="4206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24868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256600" y="4197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64520" y="4164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272440" y="4129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27892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28828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94760" y="40244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304120" y="399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31204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318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327880" y="38876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334360" y="3890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34408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352000" y="3959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358120" y="3992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367840" y="4027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37396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38368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389800" y="4130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397720" y="41641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07440" y="4199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41392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16800" y="4203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16800" y="4168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16800" y="4133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16800" y="40989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416800" y="4062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20040" y="4079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429760" y="4113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439120" y="4148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448840" y="4181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458200" y="42163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67560" y="42498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77280" y="4284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483760" y="43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493120" y="435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02480" y="4386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510760" y="44197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3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8520120" y="44546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529480" y="44877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537400" y="452268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545680" y="45561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5504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564400" y="46245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574120" y="4659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583480" y="46893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89960" y="4654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7880" y="4621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05800" y="45864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6137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623440" y="4518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62956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63748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45400" y="4414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53320" y="4381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663040" y="4346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667720" y="43434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67720" y="4378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667720" y="441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66772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667720" y="4484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667720" y="4521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667720" y="4556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667720" y="4591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667720" y="4627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67720" y="4662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66772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667720" y="4732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67720" y="4768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674200" y="4764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688240" y="473220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704440" y="4700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71848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731080" y="46371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48720" y="4603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763120" y="457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775720" y="45403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7901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8059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820000" y="444672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834400" y="442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834400" y="4457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34400" y="4492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34400" y="452772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34400" y="4564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34400" y="4599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834400" y="4633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83440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834400" y="47052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83440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83440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839080" y="4753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84412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85024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85816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64640" y="4616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869320" y="4581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875800" y="4546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8837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889840" y="4478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894880" y="444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01000" y="440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908920" y="437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15400" y="4338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920080" y="4351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926560" y="4386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34480" y="4419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940960" y="4454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945640" y="4491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951760" y="45259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959680" y="4559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966160" y="4594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970840" y="4629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978760" y="4664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98524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991720" y="4732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996400" y="47689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004320" y="4761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009000" y="4727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13680" y="4692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016920" y="4657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021600" y="462132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5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026640" y="4586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0313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036000" y="451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7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03924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043920" y="4446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047160" y="4411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051840" y="437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056520" y="43419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061560" y="4305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066240" y="4270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070920" y="42372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075600" y="4202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080640" y="416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085320" y="415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090000" y="4194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094680" y="422928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9099720" y="4265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04400" y="4297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4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09080" y="43340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112320" y="43689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117000" y="4403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121680" y="44402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126360" y="44751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13140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13608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14076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145440" y="461484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15048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15516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15984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16452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16956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7568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18216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18684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194760" y="4637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20124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207360" y="4565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212400" y="4530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22032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9226440" y="4462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234360" y="4427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237600" y="43941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245520" y="43592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252000" y="4330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252000" y="4365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252000" y="4402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252000" y="4437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252000" y="4471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252000" y="4508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25200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25200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252000" y="4614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25200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25200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925200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925200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252000" y="4773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6136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6784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7720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285120" y="46371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29160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301320" y="4568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307440" y="45338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31716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325080" y="4465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331200" y="442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336240" y="44416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336240" y="4478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336240" y="45133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336240" y="454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336240" y="45831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9336240" y="46195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336240" y="4654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336240" y="4689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356760" y="4667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380520" y="464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9402840" y="46162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9416880" y="4611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410760" y="4645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402840" y="46800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396360" y="4714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391680" y="474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385200" y="4782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377280" y="48196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371160" y="48546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366120" y="4888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360000" y="4923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352080" y="4957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345600" y="4994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340920" y="50259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242040" y="2957400"/>
            <a:ext cx="3068640" cy="2665440"/>
            <a:chOff x="6242040" y="2957400"/>
            <a:chExt cx="3068640" cy="2665440"/>
          </a:xfrm>
        </p:grpSpPr>
        <p:sp>
          <p:nvSpPr>
            <p:cNvPr id="1192" name=""/>
            <p:cNvSpPr/>
            <p:nvPr/>
          </p:nvSpPr>
          <p:spPr>
            <a:xfrm>
              <a:off x="6242040" y="354960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87"/>
                  </a:moveTo>
                  <a:lnTo>
                    <a:pt x="10" y="100"/>
                  </a:lnTo>
                  <a:lnTo>
                    <a:pt x="110" y="13"/>
                  </a:lnTo>
                  <a:lnTo>
                    <a:pt x="99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61280" y="34815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9"/>
                  </a:moveTo>
                  <a:lnTo>
                    <a:pt x="10" y="22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39040" y="3321000"/>
              <a:ext cx="16488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67"/>
                  </a:moveTo>
                  <a:lnTo>
                    <a:pt x="11" y="80"/>
                  </a:lnTo>
                  <a:lnTo>
                    <a:pt x="87" y="15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81" y="16"/>
                  </a:lnTo>
                  <a:lnTo>
                    <a:pt x="75" y="13"/>
                  </a:lnTo>
                  <a:lnTo>
                    <a:pt x="91" y="43"/>
                  </a:lnTo>
                  <a:lnTo>
                    <a:pt x="104" y="35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23000" y="34480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0"/>
                  </a:moveTo>
                  <a:lnTo>
                    <a:pt x="0" y="8"/>
                  </a:lnTo>
                  <a:lnTo>
                    <a:pt x="9" y="24"/>
                  </a:lnTo>
                  <a:lnTo>
                    <a:pt x="22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77000" y="354492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3" y="0"/>
                  </a:moveTo>
                  <a:lnTo>
                    <a:pt x="0" y="8"/>
                  </a:lnTo>
                  <a:lnTo>
                    <a:pt x="65" y="127"/>
                  </a:lnTo>
                  <a:lnTo>
                    <a:pt x="79" y="1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913440" y="3733920"/>
              <a:ext cx="3204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6"/>
                  </a:moveTo>
                  <a:lnTo>
                    <a:pt x="14" y="21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945480" y="3443400"/>
              <a:ext cx="88560" cy="21888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0" y="134"/>
                  </a:moveTo>
                  <a:lnTo>
                    <a:pt x="15" y="138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35840" y="334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lnTo>
                    <a:pt x="15" y="20"/>
                  </a:lnTo>
                  <a:lnTo>
                    <a:pt x="19" y="4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66080" y="3048120"/>
              <a:ext cx="88920" cy="21744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0" y="133"/>
                  </a:moveTo>
                  <a:lnTo>
                    <a:pt x="15" y="137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56440" y="295740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6"/>
                  </a:moveTo>
                  <a:lnTo>
                    <a:pt x="15" y="11"/>
                  </a:lnTo>
                  <a:lnTo>
                    <a:pt x="15" y="11"/>
                  </a:lnTo>
                  <a:lnTo>
                    <a:pt x="8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0" y="11"/>
                  </a:lnTo>
                  <a:lnTo>
                    <a:pt x="5" y="25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89920" y="3068640"/>
              <a:ext cx="85680" cy="22068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15" y="0"/>
                  </a:moveTo>
                  <a:lnTo>
                    <a:pt x="0" y="5"/>
                  </a:lnTo>
                  <a:lnTo>
                    <a:pt x="39" y="139"/>
                  </a:lnTo>
                  <a:lnTo>
                    <a:pt x="54" y="1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78840" y="335916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10520" y="346536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5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99440" y="3755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0"/>
                  </a:moveTo>
                  <a:lnTo>
                    <a:pt x="0" y="5"/>
                  </a:lnTo>
                  <a:lnTo>
                    <a:pt x="6" y="21"/>
                  </a:lnTo>
                  <a:lnTo>
                    <a:pt x="2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08800" y="3486240"/>
              <a:ext cx="25560" cy="22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16720" y="344016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7"/>
                  </a:lnTo>
                  <a:lnTo>
                    <a:pt x="6" y="23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54880" y="3544920"/>
              <a:ext cx="96840" cy="21420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13" y="0"/>
                  </a:moveTo>
                  <a:lnTo>
                    <a:pt x="0" y="6"/>
                  </a:lnTo>
                  <a:lnTo>
                    <a:pt x="48" y="135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59640" y="3827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5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07160" y="3638520"/>
              <a:ext cx="13356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16"/>
                  </a:moveTo>
                  <a:lnTo>
                    <a:pt x="12" y="125"/>
                  </a:lnTo>
                  <a:lnTo>
                    <a:pt x="84" y="9"/>
                  </a:lnTo>
                  <a:lnTo>
                    <a:pt x="7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751880" y="363996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5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8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775640" y="3749760"/>
              <a:ext cx="74520" cy="21888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4" y="0"/>
                  </a:moveTo>
                  <a:lnTo>
                    <a:pt x="0" y="3"/>
                  </a:lnTo>
                  <a:lnTo>
                    <a:pt x="32" y="138"/>
                  </a:lnTo>
                  <a:lnTo>
                    <a:pt x="47" y="1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45480" y="4044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7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67800" y="4154400"/>
              <a:ext cx="75960" cy="19368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5" y="0"/>
                  </a:moveTo>
                  <a:lnTo>
                    <a:pt x="0" y="3"/>
                  </a:lnTo>
                  <a:lnTo>
                    <a:pt x="27" y="116"/>
                  </a:lnTo>
                  <a:lnTo>
                    <a:pt x="28" y="121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1" y="118"/>
                  </a:lnTo>
                  <a:lnTo>
                    <a:pt x="48" y="94"/>
                  </a:lnTo>
                  <a:lnTo>
                    <a:pt x="34" y="89"/>
                  </a:lnTo>
                  <a:lnTo>
                    <a:pt x="27" y="113"/>
                  </a:lnTo>
                  <a:lnTo>
                    <a:pt x="40" y="108"/>
                  </a:lnTo>
                  <a:lnTo>
                    <a:pt x="34" y="106"/>
                  </a:lnTo>
                  <a:lnTo>
                    <a:pt x="28" y="108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1" y="1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43760" y="41911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6"/>
                  </a:moveTo>
                  <a:lnTo>
                    <a:pt x="15" y="21"/>
                  </a:lnTo>
                  <a:lnTo>
                    <a:pt x="21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977240" y="404964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9"/>
                  </a:moveTo>
                  <a:lnTo>
                    <a:pt x="15" y="43"/>
                  </a:lnTo>
                  <a:lnTo>
                    <a:pt x="25" y="11"/>
                  </a:lnTo>
                  <a:lnTo>
                    <a:pt x="18" y="8"/>
                  </a:lnTo>
                  <a:lnTo>
                    <a:pt x="12" y="15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12" y="11"/>
                  </a:lnTo>
                  <a:lnTo>
                    <a:pt x="47" y="109"/>
                  </a:lnTo>
                  <a:lnTo>
                    <a:pt x="60" y="102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78760" y="4290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4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118360" y="439416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13" y="0"/>
                  </a:moveTo>
                  <a:lnTo>
                    <a:pt x="0" y="6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1" y="83"/>
                  </a:lnTo>
                  <a:lnTo>
                    <a:pt x="65" y="29"/>
                  </a:lnTo>
                  <a:lnTo>
                    <a:pt x="51" y="21"/>
                  </a:lnTo>
                  <a:lnTo>
                    <a:pt x="28" y="75"/>
                  </a:lnTo>
                  <a:lnTo>
                    <a:pt x="40" y="72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1" y="7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234280" y="4322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14" y="16"/>
                  </a:lnTo>
                  <a:lnTo>
                    <a:pt x="19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69200" y="441468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4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358120" y="470232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5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89800" y="473220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15" y="48"/>
                  </a:moveTo>
                  <a:lnTo>
                    <a:pt x="0" y="53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0" y="94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14" y="94"/>
                  </a:lnTo>
                  <a:lnTo>
                    <a:pt x="27" y="88"/>
                  </a:lnTo>
                  <a:lnTo>
                    <a:pt x="21" y="87"/>
                  </a:lnTo>
                  <a:lnTo>
                    <a:pt x="15" y="88"/>
                  </a:lnTo>
                  <a:lnTo>
                    <a:pt x="14" y="94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429760" y="474336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467560" y="484668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0" y="7"/>
                  </a:lnTo>
                  <a:lnTo>
                    <a:pt x="48" y="136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72680" y="51307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11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8" y="6"/>
                  </a:lnTo>
                  <a:lnTo>
                    <a:pt x="5" y="9"/>
                  </a:lnTo>
                  <a:lnTo>
                    <a:pt x="17" y="9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639280" y="496080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76"/>
                  </a:moveTo>
                  <a:lnTo>
                    <a:pt x="12" y="89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14"/>
                  </a:lnTo>
                  <a:lnTo>
                    <a:pt x="75" y="16"/>
                  </a:lnTo>
                  <a:lnTo>
                    <a:pt x="69" y="11"/>
                  </a:lnTo>
                  <a:lnTo>
                    <a:pt x="79" y="43"/>
                  </a:lnTo>
                  <a:lnTo>
                    <a:pt x="92" y="37"/>
                  </a:lnTo>
                  <a:lnTo>
                    <a:pt x="82" y="5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4800" y="50976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831160" y="519912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14" y="0"/>
                  </a:moveTo>
                  <a:lnTo>
                    <a:pt x="0" y="6"/>
                  </a:lnTo>
                  <a:lnTo>
                    <a:pt x="49" y="137"/>
                  </a:lnTo>
                  <a:lnTo>
                    <a:pt x="62" y="1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940960" y="534024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6"/>
                  </a:moveTo>
                  <a:lnTo>
                    <a:pt x="13" y="24"/>
                  </a:lnTo>
                  <a:lnTo>
                    <a:pt x="21" y="8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986680" y="5234040"/>
              <a:ext cx="138240" cy="177840"/>
            </a:xfrm>
            <a:custGeom>
              <a:avLst/>
              <a:gdLst/>
              <a:ahLst/>
              <a:rect l="l" t="t" r="r" b="b"/>
              <a:pathLst>
                <a:path w="87" h="112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8" y="13"/>
                  </a:lnTo>
                  <a:lnTo>
                    <a:pt x="75" y="112"/>
                  </a:lnTo>
                  <a:lnTo>
                    <a:pt x="87" y="102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151920" y="54608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2" y="0"/>
                  </a:moveTo>
                  <a:lnTo>
                    <a:pt x="0" y="10"/>
                  </a:lnTo>
                  <a:lnTo>
                    <a:pt x="11" y="24"/>
                  </a:lnTo>
                  <a:lnTo>
                    <a:pt x="22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212400" y="5506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12" y="27"/>
                  </a:moveTo>
                  <a:lnTo>
                    <a:pt x="0" y="3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8" y="65"/>
                  </a:lnTo>
                  <a:lnTo>
                    <a:pt x="38" y="8"/>
                  </a:lnTo>
                  <a:lnTo>
                    <a:pt x="30" y="8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24" y="14"/>
                  </a:lnTo>
                  <a:lnTo>
                    <a:pt x="50" y="43"/>
                  </a:lnTo>
                  <a:lnTo>
                    <a:pt x="62" y="3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5"/>
                  </a:lnTo>
                  <a:lnTo>
                    <a:pt x="35" y="59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35" y="61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3F3-9BBF-4E38-8E7D-E7C996A47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4280" y="1738440"/>
            <a:ext cx="85341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ameter determination: several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84280" y="2390760"/>
            <a:ext cx="25146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756480" y="2390760"/>
            <a:ext cx="198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35360" y="2390760"/>
            <a:ext cx="24382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5400000">
            <a:off x="156492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5400000">
            <a:off x="759420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5400000">
            <a:off x="466992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84280" y="36910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Before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03440" y="3691080"/>
            <a:ext cx="28195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Measurement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Arial"/>
              </a:rPr>
              <a:t>After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575400" y="3635280"/>
            <a:ext cx="254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Standard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pproxim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262480" y="5153040"/>
            <a:ext cx="425520" cy="1185480"/>
            <a:chOff x="5262480" y="5153040"/>
            <a:chExt cx="425520" cy="1185480"/>
          </a:xfrm>
        </p:grpSpPr>
        <p:sp>
          <p:nvSpPr>
            <p:cNvPr id="1245" name=""/>
            <p:cNvSpPr/>
            <p:nvPr/>
          </p:nvSpPr>
          <p:spPr>
            <a:xfrm>
              <a:off x="5473440" y="5153040"/>
              <a:ext cx="0" cy="40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5262480" y="5558760"/>
              <a:ext cx="425520" cy="316800"/>
              <a:chOff x="5262480" y="5558760"/>
              <a:chExt cx="425520" cy="316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5262480" y="5558760"/>
                <a:ext cx="425520" cy="316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3800" y="564444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41040" y="564444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5476680" y="5862600"/>
              <a:ext cx="0" cy="47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5688000" y="549900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qui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ent generator 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9480" y="493704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5400000">
            <a:off x="3092400" y="5505480"/>
            <a:ext cx="187200" cy="36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005280" y="5257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19520" y="568656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68520" y="568656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5400000">
            <a:off x="3641760" y="5505480"/>
            <a:ext cx="187200" cy="36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89480" y="525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17880" y="5686560"/>
            <a:ext cx="1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4282920" y="5153040"/>
            <a:ext cx="601920" cy="1096560"/>
            <a:chOff x="4282920" y="5153040"/>
            <a:chExt cx="601920" cy="1096560"/>
          </a:xfrm>
        </p:grpSpPr>
        <p:sp>
          <p:nvSpPr>
            <p:cNvPr id="1261" name=""/>
            <p:cNvSpPr/>
            <p:nvPr/>
          </p:nvSpPr>
          <p:spPr>
            <a:xfrm>
              <a:off x="4633200" y="5619600"/>
              <a:ext cx="251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33200" y="5706360"/>
              <a:ext cx="245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282920" y="5627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56680" y="5153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56680" y="5701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0E4-9259-4E84-9B38-CEDD6BA80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1440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dd IBIS I/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76200" y="5235480"/>
            <a:ext cx="5610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Zsub: basically a 1-10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914400" y="2635200"/>
            <a:ext cx="7041960" cy="2257200"/>
            <a:chOff x="914400" y="2635200"/>
            <a:chExt cx="7041960" cy="2257200"/>
          </a:xfrm>
        </p:grpSpPr>
        <p:sp>
          <p:nvSpPr>
            <p:cNvPr id="1270" name=""/>
            <p:cNvSpPr/>
            <p:nvPr/>
          </p:nvSpPr>
          <p:spPr>
            <a:xfrm>
              <a:off x="22860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3934080" y="3155760"/>
              <a:ext cx="718560" cy="1101600"/>
              <a:chOff x="3934080" y="3155760"/>
              <a:chExt cx="718560" cy="1101600"/>
            </a:xfrm>
          </p:grpSpPr>
          <p:sp>
            <p:nvSpPr>
              <p:cNvPr id="1272" name=""/>
              <p:cNvSpPr/>
              <p:nvPr/>
            </p:nvSpPr>
            <p:spPr>
              <a:xfrm>
                <a:off x="39340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4297680" y="3155760"/>
                <a:ext cx="354960" cy="1101600"/>
                <a:chOff x="4297680" y="3155760"/>
                <a:chExt cx="354960" cy="11016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44690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5" name=""/>
                <p:cNvGrpSpPr/>
                <p:nvPr/>
              </p:nvGrpSpPr>
              <p:grpSpPr>
                <a:xfrm>
                  <a:off x="4297680" y="3503880"/>
                  <a:ext cx="354960" cy="343080"/>
                  <a:chOff x="4297680" y="3503880"/>
                  <a:chExt cx="354960" cy="34308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42976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43239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44463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9" name=""/>
                <p:cNvSpPr/>
                <p:nvPr/>
              </p:nvSpPr>
              <p:spPr>
                <a:xfrm flipV="1">
                  <a:off x="44690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0" name=""/>
            <p:cNvSpPr/>
            <p:nvPr/>
          </p:nvSpPr>
          <p:spPr>
            <a:xfrm rot="5400000">
              <a:off x="29235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797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144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44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031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031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2104200" y="3155760"/>
              <a:ext cx="604080" cy="1096560"/>
              <a:chOff x="2104200" y="3155760"/>
              <a:chExt cx="604080" cy="1096560"/>
            </a:xfrm>
          </p:grpSpPr>
          <p:sp>
            <p:nvSpPr>
              <p:cNvPr id="1287" name=""/>
              <p:cNvSpPr/>
              <p:nvPr/>
            </p:nvSpPr>
            <p:spPr>
              <a:xfrm>
                <a:off x="24559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4559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1042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5797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5797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21952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952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004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5400000">
              <a:off x="34729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932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5400000">
              <a:off x="29228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952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2004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5400000">
              <a:off x="34722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442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2940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494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494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3385440" y="3155760"/>
              <a:ext cx="602280" cy="1096560"/>
              <a:chOff x="3385440" y="3155760"/>
              <a:chExt cx="602280" cy="1096560"/>
            </a:xfrm>
          </p:grpSpPr>
          <p:sp>
            <p:nvSpPr>
              <p:cNvPr id="1306" name=""/>
              <p:cNvSpPr/>
              <p:nvPr/>
            </p:nvSpPr>
            <p:spPr>
              <a:xfrm>
                <a:off x="37360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360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3854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595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595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 rot="5400000">
              <a:off x="52984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897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354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807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56703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6703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5400000">
              <a:off x="48438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6652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703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926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580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580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131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023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4738320" y="3155760"/>
              <a:ext cx="601920" cy="1096560"/>
              <a:chOff x="4738320" y="3155760"/>
              <a:chExt cx="601920" cy="1096560"/>
            </a:xfrm>
          </p:grpSpPr>
          <p:sp>
            <p:nvSpPr>
              <p:cNvPr id="1326" name=""/>
              <p:cNvSpPr/>
              <p:nvPr/>
            </p:nvSpPr>
            <p:spPr>
              <a:xfrm>
                <a:off x="50886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886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83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2120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120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3402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463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905-030D-4EE0-8AE4-4889FACA2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352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76200" y="6024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O modify the spectrum at high frequencies (&gt;300MH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6705720" cy="393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B4-C580-49C5-BE52-6D91CB8018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1828800"/>
            <a:ext cx="5810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Context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 System design methodology for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 The IERSET project on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 Core emissio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 Emission model with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 Adaptation of emiss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 Emission model in TE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8. Implementation of 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.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CF5-CBAB-45B6-9BF7-733BAF4E49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Adaptation of Emission 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3657600" y="2787480"/>
          <a:ext cx="6095880" cy="26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787480"/>
                    <a:ext cx="6095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"/>
          <p:cNvSpPr/>
          <p:nvPr/>
        </p:nvSpPr>
        <p:spPr>
          <a:xfrm>
            <a:off x="609480" y="1738440"/>
            <a:ext cx="72392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se of multiple suppl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4952880" y="4572000"/>
          <a:ext cx="152892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572000"/>
                    <a:ext cx="1528920" cy="1371600"/>
                  </a:xfrm>
                  <a:prstGeom prst="rect">
                    <a:avLst/>
                  </a:prstGeom>
                  <a:ln w="12600">
                    <a:solidFill>
                      <a:srgbClr val="fc0128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5638680" y="43387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647240" y="59428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Substrate imped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52680" y="2390760"/>
            <a:ext cx="0" cy="378144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6" name=""/>
          <p:cNvGraphicFramePr/>
          <p:nvPr/>
        </p:nvGraphicFramePr>
        <p:xfrm>
          <a:off x="1046160" y="4387680"/>
          <a:ext cx="16002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6160" y="4387680"/>
                    <a:ext cx="1600200" cy="137160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790560" y="2940120"/>
          <a:ext cx="1981080" cy="13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0560" y="2940120"/>
                    <a:ext cx="1981080" cy="131580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0" name=""/>
          <p:cNvSpPr/>
          <p:nvPr/>
        </p:nvSpPr>
        <p:spPr>
          <a:xfrm>
            <a:off x="718560" y="23896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Voltage Reg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947120" y="238968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Separate supply for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808-0088-4688-9556-654D86586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4408560" y="2860560"/>
            <a:ext cx="4987440" cy="2446560"/>
            <a:chOff x="4408560" y="2860560"/>
            <a:chExt cx="4987440" cy="2446560"/>
          </a:xfrm>
        </p:grpSpPr>
        <p:sp>
          <p:nvSpPr>
            <p:cNvPr id="1354" name=""/>
            <p:cNvSpPr/>
            <p:nvPr/>
          </p:nvSpPr>
          <p:spPr>
            <a:xfrm>
              <a:off x="7333920" y="3317760"/>
              <a:ext cx="771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603840" y="468792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357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883120" y="3422520"/>
              <a:ext cx="856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6968880" y="4050000"/>
              <a:ext cx="364680" cy="639360"/>
              <a:chOff x="6968880" y="4050000"/>
              <a:chExt cx="364680" cy="639360"/>
            </a:xfrm>
          </p:grpSpPr>
          <p:sp>
            <p:nvSpPr>
              <p:cNvPr id="1369" name=""/>
              <p:cNvSpPr/>
              <p:nvPr/>
            </p:nvSpPr>
            <p:spPr>
              <a:xfrm>
                <a:off x="7151040" y="4050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151040" y="44154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68880" y="44150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968880" y="43236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5962320" y="4586760"/>
              <a:ext cx="714240" cy="193320"/>
              <a:chOff x="5962320" y="4586760"/>
              <a:chExt cx="714240" cy="193320"/>
            </a:xfrm>
          </p:grpSpPr>
          <p:sp>
            <p:nvSpPr>
              <p:cNvPr id="1374" name=""/>
              <p:cNvSpPr/>
              <p:nvPr/>
            </p:nvSpPr>
            <p:spPr>
              <a:xfrm flipH="1" flipV="1">
                <a:off x="614088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6175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621216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624708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8344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319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35472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631980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6462360" y="4683960"/>
                <a:ext cx="214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5962320" y="4683960"/>
                <a:ext cx="179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5817960" y="4867200"/>
              <a:ext cx="10076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4500000" y="46879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387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 flipV="1">
              <a:off x="4443120" y="3668040"/>
              <a:ext cx="123480" cy="563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7812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450036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4408560" y="3126240"/>
              <a:ext cx="228240" cy="118440"/>
              <a:chOff x="4408560" y="3126240"/>
              <a:chExt cx="228240" cy="118440"/>
            </a:xfrm>
          </p:grpSpPr>
          <p:sp>
            <p:nvSpPr>
              <p:cNvPr id="1401" name=""/>
              <p:cNvSpPr/>
              <p:nvPr/>
            </p:nvSpPr>
            <p:spPr>
              <a:xfrm flipV="1">
                <a:off x="4408560" y="3202200"/>
                <a:ext cx="22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4453920" y="3168000"/>
                <a:ext cx="114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4488120" y="3126240"/>
                <a:ext cx="65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4504680" y="3201840"/>
                <a:ext cx="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 flipV="1">
              <a:off x="4500360" y="32364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8832600" y="3669480"/>
              <a:ext cx="123480" cy="5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96760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888984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8797680" y="3125520"/>
              <a:ext cx="228240" cy="120600"/>
              <a:chOff x="8797680" y="3125520"/>
              <a:chExt cx="228240" cy="120600"/>
            </a:xfrm>
          </p:grpSpPr>
          <p:sp>
            <p:nvSpPr>
              <p:cNvPr id="1410" name=""/>
              <p:cNvSpPr/>
              <p:nvPr/>
            </p:nvSpPr>
            <p:spPr>
              <a:xfrm flipV="1">
                <a:off x="8797680" y="320256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843040" y="31680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8877240" y="312552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893800" y="3202560"/>
                <a:ext cx="3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 flipV="1">
              <a:off x="8889840" y="32382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94200" y="3774960"/>
              <a:ext cx="10062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6968880" y="3135600"/>
              <a:ext cx="364680" cy="639360"/>
              <a:chOff x="6968880" y="3135600"/>
              <a:chExt cx="364680" cy="639360"/>
            </a:xfrm>
          </p:grpSpPr>
          <p:sp>
            <p:nvSpPr>
              <p:cNvPr id="1417" name=""/>
              <p:cNvSpPr/>
              <p:nvPr/>
            </p:nvSpPr>
            <p:spPr>
              <a:xfrm>
                <a:off x="7151040" y="31356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51040" y="3501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68880" y="35006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68880" y="34092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7051320" y="3025440"/>
              <a:ext cx="228240" cy="119160"/>
              <a:chOff x="7051320" y="3025440"/>
              <a:chExt cx="228240" cy="119160"/>
            </a:xfrm>
          </p:grpSpPr>
          <p:sp>
            <p:nvSpPr>
              <p:cNvPr id="1422" name=""/>
              <p:cNvSpPr/>
              <p:nvPr/>
            </p:nvSpPr>
            <p:spPr>
              <a:xfrm flipV="1">
                <a:off x="7051320" y="310140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7096680" y="30672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7130880" y="302544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7147440" y="3101400"/>
                <a:ext cx="3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7426080" y="4324320"/>
              <a:ext cx="1096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5962320" y="32274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237000" y="414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22600" y="4322880"/>
              <a:ext cx="1007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97280" y="2860560"/>
              <a:ext cx="77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P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1" name=""/>
          <p:cNvGraphicFramePr/>
          <p:nvPr/>
        </p:nvGraphicFramePr>
        <p:xfrm>
          <a:off x="698400" y="2333520"/>
          <a:ext cx="338292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333520"/>
                    <a:ext cx="338292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3" name=""/>
          <p:cNvGrpSpPr/>
          <p:nvPr/>
        </p:nvGrpSpPr>
        <p:grpSpPr>
          <a:xfrm>
            <a:off x="620640" y="4689360"/>
            <a:ext cx="2745000" cy="1719360"/>
            <a:chOff x="620640" y="4689360"/>
            <a:chExt cx="2745000" cy="1719360"/>
          </a:xfrm>
        </p:grpSpPr>
        <p:sp>
          <p:nvSpPr>
            <p:cNvPr id="1434" name=""/>
            <p:cNvSpPr/>
            <p:nvPr/>
          </p:nvSpPr>
          <p:spPr>
            <a:xfrm>
              <a:off x="1297080" y="6060960"/>
              <a:ext cx="798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44720" y="4930920"/>
              <a:ext cx="250920" cy="36360"/>
            </a:xfrm>
            <a:prstGeom prst="rect">
              <a:avLst/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93440" y="4902120"/>
              <a:ext cx="59220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65520" y="4902120"/>
              <a:ext cx="59364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793440" y="5415120"/>
              <a:ext cx="59220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2765520" y="5415120"/>
              <a:ext cx="593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84200" y="592776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92080" y="5415120"/>
              <a:ext cx="2417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5640" y="5411880"/>
              <a:ext cx="7776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90680" y="49021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1422360" y="4901760"/>
              <a:ext cx="3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28840" y="4960800"/>
              <a:ext cx="5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2658960" y="4901760"/>
              <a:ext cx="95400" cy="60840"/>
              <a:chOff x="2658960" y="4901760"/>
              <a:chExt cx="95400" cy="60840"/>
            </a:xfrm>
          </p:grpSpPr>
          <p:sp>
            <p:nvSpPr>
              <p:cNvPr id="1447" name=""/>
              <p:cNvSpPr/>
              <p:nvPr/>
            </p:nvSpPr>
            <p:spPr>
              <a:xfrm flipH="1">
                <a:off x="2724840" y="4902120"/>
                <a:ext cx="29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2719800" y="49017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2658960" y="496044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H="1">
              <a:off x="2201400" y="490860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45728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960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212920" y="5153040"/>
              <a:ext cx="1000080" cy="268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3120" y="5411880"/>
              <a:ext cx="777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286080" y="5415120"/>
              <a:ext cx="795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79560" y="490536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2305080" y="4795920"/>
              <a:ext cx="347760" cy="64800"/>
              <a:chOff x="2305080" y="4795920"/>
              <a:chExt cx="347760" cy="64800"/>
            </a:xfrm>
          </p:grpSpPr>
          <p:sp>
            <p:nvSpPr>
              <p:cNvPr id="1458" name=""/>
              <p:cNvSpPr/>
              <p:nvPr/>
            </p:nvSpPr>
            <p:spPr>
              <a:xfrm>
                <a:off x="2362320" y="4795920"/>
                <a:ext cx="2246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259524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230508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1506600" y="4799160"/>
              <a:ext cx="331200" cy="64440"/>
              <a:chOff x="1506600" y="4799160"/>
              <a:chExt cx="331200" cy="64440"/>
            </a:xfrm>
          </p:grpSpPr>
          <p:sp>
            <p:nvSpPr>
              <p:cNvPr id="1462" name=""/>
              <p:cNvSpPr/>
              <p:nvPr/>
            </p:nvSpPr>
            <p:spPr>
              <a:xfrm>
                <a:off x="1560960" y="4799160"/>
                <a:ext cx="2138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178272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150660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1450800" y="4902120"/>
              <a:ext cx="1212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454040" y="48895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457280" y="48769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54040" y="486720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0640" y="5411880"/>
              <a:ext cx="676440" cy="825480"/>
            </a:xfrm>
            <a:custGeom>
              <a:avLst/>
              <a:gdLst/>
              <a:ahLst/>
              <a:rect l="l" t="t" r="r" b="b"/>
              <a:pathLst>
                <a:path w="1065" h="1300">
                  <a:moveTo>
                    <a:pt x="214" y="0"/>
                  </a:moveTo>
                  <a:cubicBezTo>
                    <a:pt x="107" y="137"/>
                    <a:pt x="0" y="275"/>
                    <a:pt x="10" y="460"/>
                  </a:cubicBezTo>
                  <a:cubicBezTo>
                    <a:pt x="20" y="645"/>
                    <a:pt x="97" y="968"/>
                    <a:pt x="273" y="1108"/>
                  </a:cubicBezTo>
                  <a:cubicBezTo>
                    <a:pt x="449" y="1248"/>
                    <a:pt x="976" y="1270"/>
                    <a:pt x="1065" y="1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7200" y="4689360"/>
              <a:ext cx="350640" cy="244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1841400" y="5006880"/>
              <a:ext cx="184320" cy="3668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d model: capacitance &amp; inductanc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847-711B-4E6E-9D5D-FE4067A57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38088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15200" y="2819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4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close from nois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609480" y="249696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718-EC91-4B89-8F4E-7248FAC1C7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80880" y="106668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62120" y="173988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&amp;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43800" y="2819520"/>
            <a:ext cx="2362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8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IO effects do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TemEmission" descr=""/>
          <p:cNvPicPr/>
          <p:nvPr/>
        </p:nvPicPr>
        <p:blipFill>
          <a:blip r:embed="rId1"/>
          <a:stretch/>
        </p:blipFill>
        <p:spPr>
          <a:xfrm>
            <a:off x="412920" y="2209680"/>
            <a:ext cx="7130880" cy="398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9E3-DD0A-4F71-977D-6743AF590D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8. Implementation of ICEM in IBIS-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38080" y="2876040"/>
            <a:ext cx="32767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define model] IC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on chip c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apacitor c_dec (vcc vss) C=5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Serial supply resis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sistor r_vdd (vcc vcc_int) R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sistor r_vss (vss vss_int) R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b (vcc_int vss_int) I=It(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I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ime I(ty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0 0.3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1e-9 0.3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2e-9 0.5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3e-9 0.8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end I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end define model] IC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97720" y="4884120"/>
            <a:ext cx="301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all of the user-defined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ibis-ml version]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filename] uC.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data] Nov 27,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ibisML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4267440" cy="16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5" name=""/>
          <p:cNvSpPr/>
          <p:nvPr/>
        </p:nvSpPr>
        <p:spPr>
          <a:xfrm>
            <a:off x="609480" y="1738440"/>
            <a:ext cx="90680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IBIS mark-up language (IBIS-X) makes ICEM implementation very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IBIS-ML draft on the IBIS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B9E-7BAB-4EDF-97F6-D899C9A25E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9.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terest in Suscep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tend model to higher frequencies (&gt; 1 GHz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2782800" y="4419720"/>
          <a:ext cx="283860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4419720"/>
                    <a:ext cx="283860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0" name=""/>
          <p:cNvGrpSpPr/>
          <p:nvPr/>
        </p:nvGrpSpPr>
        <p:grpSpPr>
          <a:xfrm>
            <a:off x="5297400" y="2438280"/>
            <a:ext cx="3304800" cy="1443240"/>
            <a:chOff x="5297400" y="2438280"/>
            <a:chExt cx="3304800" cy="1443240"/>
          </a:xfrm>
        </p:grpSpPr>
        <p:grpSp>
          <p:nvGrpSpPr>
            <p:cNvPr id="1491" name=""/>
            <p:cNvGrpSpPr/>
            <p:nvPr/>
          </p:nvGrpSpPr>
          <p:grpSpPr>
            <a:xfrm>
              <a:off x="5835240" y="2438280"/>
              <a:ext cx="2305800" cy="1443240"/>
              <a:chOff x="5835240" y="2438280"/>
              <a:chExt cx="2305800" cy="144324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5240" y="2438280"/>
                <a:ext cx="2305800" cy="14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3" name=""/>
              <p:cNvSpPr/>
              <p:nvPr/>
            </p:nvSpPr>
            <p:spPr>
              <a:xfrm>
                <a:off x="6065640" y="2668680"/>
                <a:ext cx="76680" cy="84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5297400" y="2822400"/>
              <a:ext cx="768600" cy="49932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48"/>
                  </a:moveTo>
                  <a:lnTo>
                    <a:pt x="48" y="0"/>
                  </a:lnTo>
                  <a:lnTo>
                    <a:pt x="144" y="192"/>
                  </a:lnTo>
                  <a:lnTo>
                    <a:pt x="0" y="288"/>
                  </a:lnTo>
                  <a:lnTo>
                    <a:pt x="144" y="480"/>
                  </a:lnTo>
                  <a:lnTo>
                    <a:pt x="48" y="624"/>
                  </a:lnTo>
                  <a:lnTo>
                    <a:pt x="960" y="624"/>
                  </a:lnTo>
                  <a:lnTo>
                    <a:pt x="96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03200" y="3014640"/>
              <a:ext cx="115200" cy="192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7718040" y="3014640"/>
              <a:ext cx="883800" cy="15372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48"/>
                  </a:moveTo>
                  <a:lnTo>
                    <a:pt x="48" y="0"/>
                  </a:lnTo>
                  <a:lnTo>
                    <a:pt x="144" y="192"/>
                  </a:lnTo>
                  <a:lnTo>
                    <a:pt x="0" y="288"/>
                  </a:lnTo>
                  <a:lnTo>
                    <a:pt x="144" y="480"/>
                  </a:lnTo>
                  <a:lnTo>
                    <a:pt x="48" y="624"/>
                  </a:lnTo>
                  <a:lnTo>
                    <a:pt x="960" y="624"/>
                  </a:lnTo>
                  <a:lnTo>
                    <a:pt x="96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8142120" y="2322360"/>
            <a:ext cx="1190880" cy="615960"/>
          </a:xfrm>
          <a:prstGeom prst="wedgeEllipseCallout">
            <a:avLst>
              <a:gd name="adj1" fmla="val -52013"/>
              <a:gd name="adj2" fmla="val 7161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ystem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43760" y="2322360"/>
            <a:ext cx="1190520" cy="424080"/>
          </a:xfrm>
          <a:prstGeom prst="wedgeEllipseCallout">
            <a:avLst>
              <a:gd name="adj1" fmla="val -37902"/>
              <a:gd name="adj2" fmla="val 13295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rdware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96120" y="1900080"/>
            <a:ext cx="1190520" cy="614520"/>
          </a:xfrm>
          <a:prstGeom prst="wedgeEllipseCallout">
            <a:avLst>
              <a:gd name="adj1" fmla="val -90268"/>
              <a:gd name="adj2" fmla="val 146125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05520" y="2130480"/>
            <a:ext cx="515880" cy="884160"/>
          </a:xfrm>
          <a:prstGeom prst="lightningBol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834320" y="3591000"/>
            <a:ext cx="1190520" cy="307800"/>
          </a:xfrm>
          <a:prstGeom prst="wedgeEllipseCallout">
            <a:avLst>
              <a:gd name="adj1" fmla="val -68412"/>
              <a:gd name="adj2" fmla="val -97916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nction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453000" y="304020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µ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44560" y="3346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916160" y="2079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153-8254-493A-8160-D74780C4EA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scale down illu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re complex chips increase parasi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 EMC model for ICs is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simple model has been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actory prediction of conduc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diction of the core emission in TEM investi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del proposal standardized by UTE (IC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ation and promotion to CAD &amp; IC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105-A410-43EF-A3D6-F4B57CC19C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9440" y="1752480"/>
          <a:ext cx="423864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52480"/>
                    <a:ext cx="423864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57720" y="1690560"/>
          <a:ext cx="38466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1690560"/>
                    <a:ext cx="38466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71600" y="4495680"/>
            <a:ext cx="44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7µm, 2 metal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100,000 devices on a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5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8240" y="4465800"/>
            <a:ext cx="33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12µm, 6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200,000,000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160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7992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39880" y="5753160"/>
            <a:ext cx="2366640" cy="821880"/>
            <a:chOff x="839880" y="5753160"/>
            <a:chExt cx="2366640" cy="821880"/>
          </a:xfrm>
        </p:grpSpPr>
        <p:sp>
          <p:nvSpPr>
            <p:cNvPr id="84" name=""/>
            <p:cNvSpPr/>
            <p:nvPr/>
          </p:nvSpPr>
          <p:spPr>
            <a:xfrm>
              <a:off x="1850040" y="5793480"/>
              <a:ext cx="0" cy="29916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39880" y="5753160"/>
            <a:ext cx="2366640" cy="82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9880" y="5753160"/>
                      <a:ext cx="23666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1141920" y="5821920"/>
              <a:ext cx="1652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3880" y="616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pga" descr=""/>
          <p:cNvPicPr/>
          <p:nvPr/>
        </p:nvPicPr>
        <p:blipFill>
          <a:blip r:embed="rId7"/>
          <a:stretch/>
        </p:blipFill>
        <p:spPr>
          <a:xfrm>
            <a:off x="5656320" y="5753160"/>
            <a:ext cx="2913120" cy="110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138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8320" y="586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6880" y="5502240"/>
            <a:ext cx="2311200" cy="112716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year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318-4351-4FBC-B98A-772337E72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806480"/>
            <a:ext cx="58672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410080" y="3787920"/>
            <a:ext cx="3048120" cy="1113840"/>
            <a:chOff x="5410080" y="3787920"/>
            <a:chExt cx="3048120" cy="1113840"/>
          </a:xfrm>
        </p:grpSpPr>
        <p:sp>
          <p:nvSpPr>
            <p:cNvPr id="96" name=""/>
            <p:cNvSpPr/>
            <p:nvPr/>
          </p:nvSpPr>
          <p:spPr>
            <a:xfrm>
              <a:off x="5410080" y="4502880"/>
              <a:ext cx="304812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tronger di/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787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98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974880" y="2615760"/>
            <a:ext cx="0" cy="299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5608800"/>
            <a:ext cx="50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93480" y="2416320"/>
            <a:ext cx="2835720" cy="3125520"/>
            <a:chOff x="1293480" y="2416320"/>
            <a:chExt cx="2835720" cy="3125520"/>
          </a:xfrm>
        </p:grpSpPr>
        <p:sp>
          <p:nvSpPr>
            <p:cNvPr id="101" name=""/>
            <p:cNvSpPr/>
            <p:nvPr/>
          </p:nvSpPr>
          <p:spPr>
            <a:xfrm>
              <a:off x="1682640" y="4133880"/>
              <a:ext cx="2446560" cy="1208160"/>
            </a:xfrm>
            <a:custGeom>
              <a:avLst/>
              <a:gdLst/>
              <a:ahLst/>
              <a:rect l="l" t="t" r="r" b="b"/>
              <a:pathLst>
                <a:path w="1824" h="872">
                  <a:moveTo>
                    <a:pt x="0" y="872"/>
                  </a:moveTo>
                  <a:cubicBezTo>
                    <a:pt x="140" y="652"/>
                    <a:pt x="280" y="432"/>
                    <a:pt x="384" y="296"/>
                  </a:cubicBezTo>
                  <a:cubicBezTo>
                    <a:pt x="488" y="160"/>
                    <a:pt x="504" y="104"/>
                    <a:pt x="624" y="56"/>
                  </a:cubicBezTo>
                  <a:cubicBezTo>
                    <a:pt x="744" y="8"/>
                    <a:pt x="904" y="16"/>
                    <a:pt x="1104" y="8"/>
                  </a:cubicBezTo>
                  <a:cubicBezTo>
                    <a:pt x="1304" y="0"/>
                    <a:pt x="1564" y="4"/>
                    <a:pt x="1824" y="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24160" y="2781360"/>
              <a:ext cx="1996920" cy="2760480"/>
            </a:xfrm>
            <a:custGeom>
              <a:avLst/>
              <a:gdLst/>
              <a:ahLst/>
              <a:rect l="l" t="t" r="r" b="b"/>
              <a:pathLst>
                <a:path w="1488" h="1992">
                  <a:moveTo>
                    <a:pt x="0" y="1848"/>
                  </a:moveTo>
                  <a:cubicBezTo>
                    <a:pt x="24" y="1616"/>
                    <a:pt x="48" y="1384"/>
                    <a:pt x="96" y="1128"/>
                  </a:cubicBezTo>
                  <a:cubicBezTo>
                    <a:pt x="144" y="872"/>
                    <a:pt x="224" y="496"/>
                    <a:pt x="288" y="312"/>
                  </a:cubicBezTo>
                  <a:cubicBezTo>
                    <a:pt x="352" y="128"/>
                    <a:pt x="416" y="0"/>
                    <a:pt x="480" y="24"/>
                  </a:cubicBezTo>
                  <a:cubicBezTo>
                    <a:pt x="544" y="48"/>
                    <a:pt x="624" y="320"/>
                    <a:pt x="672" y="456"/>
                  </a:cubicBezTo>
                  <a:cubicBezTo>
                    <a:pt x="720" y="592"/>
                    <a:pt x="728" y="680"/>
                    <a:pt x="768" y="840"/>
                  </a:cubicBezTo>
                  <a:cubicBezTo>
                    <a:pt x="808" y="1000"/>
                    <a:pt x="856" y="1248"/>
                    <a:pt x="912" y="1416"/>
                  </a:cubicBezTo>
                  <a:cubicBezTo>
                    <a:pt x="968" y="1584"/>
                    <a:pt x="1008" y="1752"/>
                    <a:pt x="1104" y="1848"/>
                  </a:cubicBezTo>
                  <a:cubicBezTo>
                    <a:pt x="1200" y="1944"/>
                    <a:pt x="1392" y="1968"/>
                    <a:pt x="1488" y="199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3480" y="241632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Times New Roman"/>
                </a:rPr>
                <a:t>Scaled 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257800" y="1959120"/>
            <a:ext cx="3505320" cy="12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oltage supply de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rent amplitude keep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ster 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62720" y="5083200"/>
            <a:ext cx="3047760" cy="1586160"/>
            <a:chOff x="5562720" y="5083200"/>
            <a:chExt cx="3047760" cy="1586160"/>
          </a:xfrm>
        </p:grpSpPr>
        <p:sp>
          <p:nvSpPr>
            <p:cNvPr id="106" name=""/>
            <p:cNvSpPr/>
            <p:nvPr/>
          </p:nvSpPr>
          <p:spPr>
            <a:xfrm>
              <a:off x="6705720" y="50832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5843880"/>
              <a:ext cx="3047760" cy="8254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Increased EMC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657600" y="546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800" y="2949120"/>
            <a:ext cx="837720" cy="2133720"/>
            <a:chOff x="838800" y="2949120"/>
            <a:chExt cx="837720" cy="2133720"/>
          </a:xfrm>
        </p:grpSpPr>
        <p:sp>
          <p:nvSpPr>
            <p:cNvPr id="110" name=""/>
            <p:cNvSpPr/>
            <p:nvPr/>
          </p:nvSpPr>
          <p:spPr>
            <a:xfrm>
              <a:off x="838800" y="3177000"/>
              <a:ext cx="70956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371600" y="2949120"/>
              <a:ext cx="304920" cy="2133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88960" y="2614680"/>
            <a:ext cx="4911840" cy="2927160"/>
            <a:chOff x="1488960" y="2614680"/>
            <a:chExt cx="4911840" cy="2927160"/>
          </a:xfrm>
        </p:grpSpPr>
        <p:sp>
          <p:nvSpPr>
            <p:cNvPr id="113" name=""/>
            <p:cNvSpPr/>
            <p:nvPr/>
          </p:nvSpPr>
          <p:spPr>
            <a:xfrm>
              <a:off x="1488960" y="3413160"/>
              <a:ext cx="3992760" cy="1928880"/>
            </a:xfrm>
            <a:custGeom>
              <a:avLst/>
              <a:gdLst/>
              <a:ahLst/>
              <a:rect l="l" t="t" r="r" b="b"/>
              <a:pathLst>
                <a:path w="3360" h="1296">
                  <a:moveTo>
                    <a:pt x="0" y="1296"/>
                  </a:moveTo>
                  <a:cubicBezTo>
                    <a:pt x="268" y="1116"/>
                    <a:pt x="536" y="936"/>
                    <a:pt x="720" y="816"/>
                  </a:cubicBezTo>
                  <a:cubicBezTo>
                    <a:pt x="904" y="696"/>
                    <a:pt x="968" y="672"/>
                    <a:pt x="1104" y="576"/>
                  </a:cubicBezTo>
                  <a:cubicBezTo>
                    <a:pt x="1240" y="480"/>
                    <a:pt x="1416" y="320"/>
                    <a:pt x="1536" y="240"/>
                  </a:cubicBezTo>
                  <a:cubicBezTo>
                    <a:pt x="1656" y="160"/>
                    <a:pt x="1704" y="128"/>
                    <a:pt x="1824" y="96"/>
                  </a:cubicBezTo>
                  <a:cubicBezTo>
                    <a:pt x="1944" y="64"/>
                    <a:pt x="2000" y="64"/>
                    <a:pt x="2256" y="48"/>
                  </a:cubicBezTo>
                  <a:cubicBezTo>
                    <a:pt x="2512" y="32"/>
                    <a:pt x="2936" y="16"/>
                    <a:pt x="33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88960" y="2792520"/>
              <a:ext cx="4911840" cy="2749320"/>
            </a:xfrm>
            <a:custGeom>
              <a:avLst/>
              <a:gdLst/>
              <a:ahLst/>
              <a:rect l="l" t="t" r="r" b="b"/>
              <a:pathLst>
                <a:path w="2592" h="1984">
                  <a:moveTo>
                    <a:pt x="0" y="1792"/>
                  </a:moveTo>
                  <a:cubicBezTo>
                    <a:pt x="80" y="1440"/>
                    <a:pt x="160" y="1088"/>
                    <a:pt x="240" y="832"/>
                  </a:cubicBezTo>
                  <a:cubicBezTo>
                    <a:pt x="320" y="576"/>
                    <a:pt x="408" y="392"/>
                    <a:pt x="480" y="256"/>
                  </a:cubicBezTo>
                  <a:cubicBezTo>
                    <a:pt x="552" y="120"/>
                    <a:pt x="616" y="32"/>
                    <a:pt x="672" y="16"/>
                  </a:cubicBezTo>
                  <a:cubicBezTo>
                    <a:pt x="728" y="0"/>
                    <a:pt x="760" y="72"/>
                    <a:pt x="816" y="160"/>
                  </a:cubicBezTo>
                  <a:cubicBezTo>
                    <a:pt x="872" y="248"/>
                    <a:pt x="944" y="424"/>
                    <a:pt x="1008" y="544"/>
                  </a:cubicBezTo>
                  <a:cubicBezTo>
                    <a:pt x="1072" y="664"/>
                    <a:pt x="1120" y="736"/>
                    <a:pt x="1200" y="880"/>
                  </a:cubicBezTo>
                  <a:cubicBezTo>
                    <a:pt x="1280" y="1024"/>
                    <a:pt x="1392" y="1272"/>
                    <a:pt x="1488" y="1408"/>
                  </a:cubicBezTo>
                  <a:cubicBezTo>
                    <a:pt x="1584" y="1544"/>
                    <a:pt x="1680" y="1616"/>
                    <a:pt x="1776" y="1696"/>
                  </a:cubicBezTo>
                  <a:cubicBezTo>
                    <a:pt x="1872" y="1776"/>
                    <a:pt x="1928" y="1840"/>
                    <a:pt x="2064" y="1888"/>
                  </a:cubicBezTo>
                  <a:cubicBezTo>
                    <a:pt x="2200" y="1936"/>
                    <a:pt x="2396" y="1960"/>
                    <a:pt x="2592" y="198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4320" y="367992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03400" y="2614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ae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447920" y="3254040"/>
            <a:ext cx="1472040" cy="1981080"/>
            <a:chOff x="1447920" y="3254040"/>
            <a:chExt cx="1472040" cy="1981080"/>
          </a:xfrm>
        </p:grpSpPr>
        <p:sp>
          <p:nvSpPr>
            <p:cNvPr id="118" name=""/>
            <p:cNvSpPr/>
            <p:nvPr/>
          </p:nvSpPr>
          <p:spPr>
            <a:xfrm>
              <a:off x="2210400" y="3710520"/>
              <a:ext cx="709560" cy="459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47920" y="3254040"/>
              <a:ext cx="685800" cy="19810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60080" y="1957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Voltage &amp;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329-1759-4D84-A49D-62A21DDDD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3120" y="2305080"/>
            <a:ext cx="8444520" cy="4376160"/>
            <a:chOff x="393120" y="2305080"/>
            <a:chExt cx="8444520" cy="4376160"/>
          </a:xfrm>
        </p:grpSpPr>
        <p:sp>
          <p:nvSpPr>
            <p:cNvPr id="123" name=""/>
            <p:cNvSpPr/>
            <p:nvPr/>
          </p:nvSpPr>
          <p:spPr>
            <a:xfrm>
              <a:off x="1249200" y="4724280"/>
              <a:ext cx="6537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3880" y="6321240"/>
              <a:ext cx="422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5600" y="631512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7440" y="2305080"/>
              <a:ext cx="78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dBµ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67520" y="2657520"/>
              <a:ext cx="493560" cy="363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2400" y="2665440"/>
              <a:ext cx="281160" cy="3630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8480" y="2663640"/>
              <a:ext cx="493560" cy="3635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8280" y="2663640"/>
              <a:ext cx="6539040" cy="36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8280" y="593244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8280" y="55688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8280" y="5207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8280" y="48416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8280" y="44798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8280" y="411480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8280" y="37526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8280" y="338616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02580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663640"/>
              <a:ext cx="653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51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744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3856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5140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3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2912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812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8768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1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9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041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2164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33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75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836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64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7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7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68280" y="2663640"/>
              <a:ext cx="6540480" cy="36356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82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0480" y="6296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0480" y="593244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0480" y="55688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0480" y="5207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0480" y="48416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0480" y="4479840"/>
              <a:ext cx="3492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0480" y="411480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0480" y="375264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480" y="338616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0480" y="302580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2663640"/>
              <a:ext cx="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68280" y="6296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268280" y="629604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53708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80732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8280" y="3981240"/>
              <a:ext cx="982800" cy="49320"/>
            </a:xfrm>
            <a:custGeom>
              <a:avLst/>
              <a:gdLst/>
              <a:ahLst/>
              <a:rect l="l" t="t" r="r" b="b"/>
              <a:pathLst>
                <a:path w="417" h="22">
                  <a:moveTo>
                    <a:pt x="0" y="0"/>
                  </a:moveTo>
                  <a:lnTo>
                    <a:pt x="0" y="9"/>
                  </a:lnTo>
                  <a:lnTo>
                    <a:pt x="417" y="22"/>
                  </a:lnTo>
                  <a:lnTo>
                    <a:pt x="41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1080" y="3859200"/>
              <a:ext cx="579600" cy="1713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69"/>
                  </a:moveTo>
                  <a:lnTo>
                    <a:pt x="2" y="78"/>
                  </a:lnTo>
                  <a:lnTo>
                    <a:pt x="246" y="9"/>
                  </a:lnTo>
                  <a:lnTo>
                    <a:pt x="24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22400" y="3863880"/>
              <a:ext cx="416160" cy="24300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3" y="0"/>
                  </a:moveTo>
                  <a:lnTo>
                    <a:pt x="0" y="7"/>
                  </a:lnTo>
                  <a:lnTo>
                    <a:pt x="173" y="111"/>
                  </a:lnTo>
                  <a:lnTo>
                    <a:pt x="176" y="1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33880" y="4089240"/>
              <a:ext cx="322200" cy="228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4" y="0"/>
                  </a:moveTo>
                  <a:lnTo>
                    <a:pt x="0" y="8"/>
                  </a:lnTo>
                  <a:lnTo>
                    <a:pt x="133" y="104"/>
                  </a:lnTo>
                  <a:lnTo>
                    <a:pt x="137" y="9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41680" y="3665520"/>
              <a:ext cx="281160" cy="646200"/>
            </a:xfrm>
            <a:custGeom>
              <a:avLst/>
              <a:gdLst/>
              <a:ahLst/>
              <a:rect l="l" t="t" r="r" b="b"/>
              <a:pathLst>
                <a:path w="119" h="294">
                  <a:moveTo>
                    <a:pt x="0" y="291"/>
                  </a:moveTo>
                  <a:lnTo>
                    <a:pt x="8" y="294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5200" y="3660840"/>
              <a:ext cx="228600" cy="244440"/>
            </a:xfrm>
            <a:custGeom>
              <a:avLst/>
              <a:gdLst/>
              <a:ahLst/>
              <a:rect l="l" t="t" r="r" b="b"/>
              <a:pathLst>
                <a:path w="97" h="111">
                  <a:moveTo>
                    <a:pt x="6" y="0"/>
                  </a:moveTo>
                  <a:lnTo>
                    <a:pt x="0" y="6"/>
                  </a:lnTo>
                  <a:lnTo>
                    <a:pt x="91" y="111"/>
                  </a:lnTo>
                  <a:lnTo>
                    <a:pt x="97" y="10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9120" y="3889440"/>
              <a:ext cx="193680" cy="810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0"/>
                  </a:moveTo>
                  <a:lnTo>
                    <a:pt x="0" y="9"/>
                  </a:lnTo>
                  <a:lnTo>
                    <a:pt x="80" y="37"/>
                  </a:lnTo>
                  <a:lnTo>
                    <a:pt x="82" y="2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3080" y="3292560"/>
              <a:ext cx="200160" cy="67608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0" y="102"/>
                  </a:moveTo>
                  <a:lnTo>
                    <a:pt x="7" y="107"/>
                  </a:lnTo>
                  <a:lnTo>
                    <a:pt x="77" y="5"/>
                  </a:lnTo>
                  <a:lnTo>
                    <a:pt x="7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7680" y="3340080"/>
              <a:ext cx="157320" cy="6555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" y="0"/>
                  </a:moveTo>
                  <a:lnTo>
                    <a:pt x="0" y="4"/>
                  </a:lnTo>
                  <a:lnTo>
                    <a:pt x="62" y="117"/>
                  </a:lnTo>
                  <a:lnTo>
                    <a:pt x="69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33840" y="3911400"/>
              <a:ext cx="139680" cy="860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30"/>
                  </a:moveTo>
                  <a:lnTo>
                    <a:pt x="2" y="39"/>
                  </a:lnTo>
                  <a:lnTo>
                    <a:pt x="59" y="9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8840" y="3914640"/>
              <a:ext cx="133200" cy="1414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" y="0"/>
                  </a:moveTo>
                  <a:lnTo>
                    <a:pt x="0" y="6"/>
                  </a:lnTo>
                  <a:lnTo>
                    <a:pt x="51" y="64"/>
                  </a:lnTo>
                  <a:lnTo>
                    <a:pt x="57" y="5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3832200"/>
              <a:ext cx="129960" cy="22212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0" y="98"/>
                  </a:moveTo>
                  <a:lnTo>
                    <a:pt x="7" y="101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1840" y="3798720"/>
              <a:ext cx="104760" cy="478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12"/>
                  </a:moveTo>
                  <a:lnTo>
                    <a:pt x="1" y="21"/>
                  </a:lnTo>
                  <a:lnTo>
                    <a:pt x="45" y="9"/>
                  </a:lnTo>
                  <a:lnTo>
                    <a:pt x="4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2200" y="3806640"/>
              <a:ext cx="119160" cy="23976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8" y="0"/>
                  </a:moveTo>
                  <a:lnTo>
                    <a:pt x="0" y="3"/>
                  </a:lnTo>
                  <a:lnTo>
                    <a:pt x="42" y="110"/>
                  </a:lnTo>
                  <a:lnTo>
                    <a:pt x="5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2280" y="3544920"/>
              <a:ext cx="108000" cy="50148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227"/>
                  </a:moveTo>
                  <a:lnTo>
                    <a:pt x="8" y="229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5880" y="3543120"/>
              <a:ext cx="103320" cy="2430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8" y="0"/>
                  </a:moveTo>
                  <a:lnTo>
                    <a:pt x="0" y="3"/>
                  </a:lnTo>
                  <a:lnTo>
                    <a:pt x="36" y="111"/>
                  </a:lnTo>
                  <a:lnTo>
                    <a:pt x="44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86240" y="3779640"/>
              <a:ext cx="93960" cy="15588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6" y="0"/>
                  </a:moveTo>
                  <a:lnTo>
                    <a:pt x="0" y="3"/>
                  </a:lnTo>
                  <a:lnTo>
                    <a:pt x="34" y="71"/>
                  </a:lnTo>
                  <a:lnTo>
                    <a:pt x="40" y="6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1120" y="3465360"/>
              <a:ext cx="96840" cy="470160"/>
            </a:xfrm>
            <a:custGeom>
              <a:avLst/>
              <a:gdLst/>
              <a:ahLst/>
              <a:rect l="l" t="t" r="r" b="b"/>
              <a:pathLst>
                <a:path w="41" h="214">
                  <a:moveTo>
                    <a:pt x="0" y="212"/>
                  </a:moveTo>
                  <a:lnTo>
                    <a:pt x="8" y="214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38880" y="3465360"/>
              <a:ext cx="91800" cy="611280"/>
            </a:xfrm>
            <a:custGeom>
              <a:avLst/>
              <a:gdLst/>
              <a:ahLst/>
              <a:rect l="l" t="t" r="r" b="b"/>
              <a:pathLst>
                <a:path w="39" h="278">
                  <a:moveTo>
                    <a:pt x="8" y="0"/>
                  </a:moveTo>
                  <a:lnTo>
                    <a:pt x="0" y="2"/>
                  </a:lnTo>
                  <a:lnTo>
                    <a:pt x="31" y="278"/>
                  </a:lnTo>
                  <a:lnTo>
                    <a:pt x="39" y="2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960" y="3717720"/>
              <a:ext cx="87120" cy="35892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162"/>
                  </a:moveTo>
                  <a:lnTo>
                    <a:pt x="8" y="163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3240" y="3600360"/>
              <a:ext cx="82440" cy="1238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0" y="51"/>
                  </a:moveTo>
                  <a:lnTo>
                    <a:pt x="7" y="56"/>
                  </a:lnTo>
                  <a:lnTo>
                    <a:pt x="35" y="4"/>
                  </a:lnTo>
                  <a:lnTo>
                    <a:pt x="2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6600" y="3603600"/>
              <a:ext cx="79560" cy="298440"/>
            </a:xfrm>
            <a:custGeom>
              <a:avLst/>
              <a:gdLst/>
              <a:ahLst/>
              <a:rect l="l" t="t" r="r" b="b"/>
              <a:pathLst>
                <a:path w="34" h="136">
                  <a:moveTo>
                    <a:pt x="8" y="0"/>
                  </a:moveTo>
                  <a:lnTo>
                    <a:pt x="0" y="2"/>
                  </a:lnTo>
                  <a:lnTo>
                    <a:pt x="26" y="136"/>
                  </a:lnTo>
                  <a:lnTo>
                    <a:pt x="34" y="1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0320" y="3562200"/>
              <a:ext cx="79200" cy="339840"/>
            </a:xfrm>
            <a:custGeom>
              <a:avLst/>
              <a:gdLst/>
              <a:ahLst/>
              <a:rect l="l" t="t" r="r" b="b"/>
              <a:pathLst>
                <a:path w="34" h="155">
                  <a:moveTo>
                    <a:pt x="0" y="153"/>
                  </a:moveTo>
                  <a:lnTo>
                    <a:pt x="8" y="155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0440" y="3562200"/>
              <a:ext cx="77760" cy="446040"/>
            </a:xfrm>
            <a:custGeom>
              <a:avLst/>
              <a:gdLst/>
              <a:ahLst/>
              <a:rect l="l" t="t" r="r" b="b"/>
              <a:pathLst>
                <a:path w="33" h="203">
                  <a:moveTo>
                    <a:pt x="8" y="0"/>
                  </a:moveTo>
                  <a:lnTo>
                    <a:pt x="0" y="1"/>
                  </a:lnTo>
                  <a:lnTo>
                    <a:pt x="25" y="203"/>
                  </a:lnTo>
                  <a:lnTo>
                    <a:pt x="33" y="20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9480" y="3476520"/>
              <a:ext cx="72720" cy="527040"/>
            </a:xfrm>
            <a:custGeom>
              <a:avLst/>
              <a:gdLst/>
              <a:ahLst/>
              <a:rect l="l" t="t" r="r" b="b"/>
              <a:pathLst>
                <a:path w="31" h="240">
                  <a:moveTo>
                    <a:pt x="0" y="240"/>
                  </a:moveTo>
                  <a:lnTo>
                    <a:pt x="8" y="24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3287520"/>
              <a:ext cx="73080" cy="192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86"/>
                  </a:moveTo>
                  <a:lnTo>
                    <a:pt x="8" y="8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38920" y="3292560"/>
              <a:ext cx="69840" cy="291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8" y="0"/>
                  </a:moveTo>
                  <a:lnTo>
                    <a:pt x="0" y="1"/>
                  </a:lnTo>
                  <a:lnTo>
                    <a:pt x="21" y="133"/>
                  </a:lnTo>
                  <a:lnTo>
                    <a:pt x="30" y="1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7880" y="3136680"/>
              <a:ext cx="70200" cy="447840"/>
            </a:xfrm>
            <a:custGeom>
              <a:avLst/>
              <a:gdLst/>
              <a:ahLst/>
              <a:rect l="l" t="t" r="r" b="b"/>
              <a:pathLst>
                <a:path w="30" h="204">
                  <a:moveTo>
                    <a:pt x="0" y="203"/>
                  </a:moveTo>
                  <a:lnTo>
                    <a:pt x="9" y="20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40440" y="3136680"/>
              <a:ext cx="63360" cy="1317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8" y="0"/>
                  </a:moveTo>
                  <a:lnTo>
                    <a:pt x="0" y="2"/>
                  </a:lnTo>
                  <a:lnTo>
                    <a:pt x="19" y="60"/>
                  </a:lnTo>
                  <a:lnTo>
                    <a:pt x="27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9760" y="3260520"/>
              <a:ext cx="63360" cy="11916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8" y="0"/>
                  </a:moveTo>
                  <a:lnTo>
                    <a:pt x="0" y="3"/>
                  </a:lnTo>
                  <a:lnTo>
                    <a:pt x="19" y="54"/>
                  </a:lnTo>
                  <a:lnTo>
                    <a:pt x="27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38720" y="3332160"/>
              <a:ext cx="54000" cy="54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8"/>
                  </a:moveTo>
                  <a:lnTo>
                    <a:pt x="4" y="25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8680" y="3340080"/>
              <a:ext cx="63360" cy="539640"/>
            </a:xfrm>
            <a:custGeom>
              <a:avLst/>
              <a:gdLst/>
              <a:ahLst/>
              <a:rect l="l" t="t" r="r" b="b"/>
              <a:pathLst>
                <a:path w="27" h="245">
                  <a:moveTo>
                    <a:pt x="8" y="0"/>
                  </a:moveTo>
                  <a:lnTo>
                    <a:pt x="0" y="0"/>
                  </a:lnTo>
                  <a:lnTo>
                    <a:pt x="19" y="245"/>
                  </a:lnTo>
                  <a:lnTo>
                    <a:pt x="27" y="2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2960" y="3674880"/>
              <a:ext cx="58680" cy="20808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0" y="93"/>
                  </a:moveTo>
                  <a:lnTo>
                    <a:pt x="8" y="9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70480" y="3646440"/>
              <a:ext cx="47880" cy="38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3" y="18"/>
                  </a:lnTo>
                  <a:lnTo>
                    <a:pt x="20" y="7"/>
                  </a:lnTo>
                  <a:lnTo>
                    <a:pt x="1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8640" y="3651120"/>
              <a:ext cx="54000" cy="55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3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3280" y="3672000"/>
              <a:ext cx="44280" cy="39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0"/>
                  </a:moveTo>
                  <a:lnTo>
                    <a:pt x="3" y="18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6400" y="3679920"/>
              <a:ext cx="55800" cy="1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8" y="0"/>
                  </a:moveTo>
                  <a:lnTo>
                    <a:pt x="0" y="1"/>
                  </a:lnTo>
                  <a:lnTo>
                    <a:pt x="16" y="76"/>
                  </a:lnTo>
                  <a:lnTo>
                    <a:pt x="24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3120" y="3624120"/>
              <a:ext cx="55440" cy="22248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0" y="100"/>
                  </a:moveTo>
                  <a:lnTo>
                    <a:pt x="8" y="10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65960" y="361800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4" y="0"/>
                  </a:moveTo>
                  <a:lnTo>
                    <a:pt x="0" y="8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4400" y="3654360"/>
              <a:ext cx="54000" cy="468360"/>
            </a:xfrm>
            <a:custGeom>
              <a:avLst/>
              <a:gdLst/>
              <a:ahLst/>
              <a:rect l="l" t="t" r="r" b="b"/>
              <a:pathLst>
                <a:path w="23" h="213">
                  <a:moveTo>
                    <a:pt x="8" y="0"/>
                  </a:moveTo>
                  <a:lnTo>
                    <a:pt x="0" y="0"/>
                  </a:lnTo>
                  <a:lnTo>
                    <a:pt x="15" y="213"/>
                  </a:lnTo>
                  <a:lnTo>
                    <a:pt x="23" y="2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29320" y="3870360"/>
              <a:ext cx="54000" cy="25704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115"/>
                  </a:moveTo>
                  <a:lnTo>
                    <a:pt x="8" y="117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67480" y="3824280"/>
              <a:ext cx="49320" cy="522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9"/>
                  </a:moveTo>
                  <a:lnTo>
                    <a:pt x="7" y="2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00960" y="3825720"/>
              <a:ext cx="46080" cy="23832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8" y="0"/>
                  </a:moveTo>
                  <a:lnTo>
                    <a:pt x="0" y="2"/>
                  </a:lnTo>
                  <a:lnTo>
                    <a:pt x="12" y="108"/>
                  </a:lnTo>
                  <a:lnTo>
                    <a:pt x="2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760" y="4041720"/>
              <a:ext cx="34920" cy="28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4"/>
                  </a:moveTo>
                  <a:lnTo>
                    <a:pt x="2" y="13"/>
                  </a:lnTo>
                  <a:lnTo>
                    <a:pt x="15" y="9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0800" y="4033800"/>
              <a:ext cx="36360" cy="27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2"/>
                  </a:lnTo>
                  <a:lnTo>
                    <a:pt x="15" y="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2760" y="4043160"/>
              <a:ext cx="49320" cy="13500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8" y="0"/>
                  </a:moveTo>
                  <a:lnTo>
                    <a:pt x="0" y="2"/>
                  </a:lnTo>
                  <a:lnTo>
                    <a:pt x="12" y="61"/>
                  </a:lnTo>
                  <a:lnTo>
                    <a:pt x="21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4800" y="3843360"/>
              <a:ext cx="47520" cy="330120"/>
            </a:xfrm>
            <a:custGeom>
              <a:avLst/>
              <a:gdLst/>
              <a:ahLst/>
              <a:rect l="l" t="t" r="r" b="b"/>
              <a:pathLst>
                <a:path w="20" h="150">
                  <a:moveTo>
                    <a:pt x="0" y="150"/>
                  </a:moveTo>
                  <a:lnTo>
                    <a:pt x="8" y="15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6480" y="3778200"/>
              <a:ext cx="44280" cy="684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8"/>
                  </a:moveTo>
                  <a:lnTo>
                    <a:pt x="7" y="31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779640"/>
              <a:ext cx="49320" cy="309600"/>
            </a:xfrm>
            <a:custGeom>
              <a:avLst/>
              <a:gdLst/>
              <a:ahLst/>
              <a:rect l="l" t="t" r="r" b="b"/>
              <a:pathLst>
                <a:path w="21" h="141">
                  <a:moveTo>
                    <a:pt x="8" y="0"/>
                  </a:moveTo>
                  <a:lnTo>
                    <a:pt x="0" y="0"/>
                  </a:lnTo>
                  <a:lnTo>
                    <a:pt x="12" y="141"/>
                  </a:lnTo>
                  <a:lnTo>
                    <a:pt x="21" y="1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0480" y="4002120"/>
              <a:ext cx="48960" cy="921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0"/>
                  </a:moveTo>
                  <a:lnTo>
                    <a:pt x="9" y="42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0360" y="3797280"/>
              <a:ext cx="44640" cy="20628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8" y="94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5920" y="3797280"/>
              <a:ext cx="47520" cy="21888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8" y="0"/>
                  </a:moveTo>
                  <a:lnTo>
                    <a:pt x="0" y="1"/>
                  </a:lnTo>
                  <a:lnTo>
                    <a:pt x="12" y="100"/>
                  </a:lnTo>
                  <a:lnTo>
                    <a:pt x="20" y="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94360" y="4014720"/>
              <a:ext cx="46080" cy="525600"/>
            </a:xfrm>
            <a:custGeom>
              <a:avLst/>
              <a:gdLst/>
              <a:ahLst/>
              <a:rect l="l" t="t" r="r" b="b"/>
              <a:pathLst>
                <a:path w="19" h="239">
                  <a:moveTo>
                    <a:pt x="8" y="0"/>
                  </a:moveTo>
                  <a:lnTo>
                    <a:pt x="0" y="0"/>
                  </a:lnTo>
                  <a:lnTo>
                    <a:pt x="11" y="239"/>
                  </a:lnTo>
                  <a:lnTo>
                    <a:pt x="19" y="23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360" y="4079880"/>
              <a:ext cx="44640" cy="460440"/>
            </a:xfrm>
            <a:custGeom>
              <a:avLst/>
              <a:gdLst/>
              <a:ahLst/>
              <a:rect l="l" t="t" r="r" b="b"/>
              <a:pathLst>
                <a:path w="19" h="209">
                  <a:moveTo>
                    <a:pt x="0" y="209"/>
                  </a:moveTo>
                  <a:lnTo>
                    <a:pt x="8" y="209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6280" y="40701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70680" y="3790800"/>
              <a:ext cx="44640" cy="292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133"/>
                  </a:moveTo>
                  <a:lnTo>
                    <a:pt x="9" y="1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0920" y="3790800"/>
              <a:ext cx="39600" cy="1238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7" y="5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24680" y="3865680"/>
              <a:ext cx="42840" cy="52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7" y="24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48440" y="3660840"/>
              <a:ext cx="428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5"/>
                  </a:moveTo>
                  <a:lnTo>
                    <a:pt x="8" y="96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4000" y="3665520"/>
              <a:ext cx="38160" cy="19836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8" y="0"/>
                  </a:moveTo>
                  <a:lnTo>
                    <a:pt x="0" y="0"/>
                  </a:lnTo>
                  <a:lnTo>
                    <a:pt x="8" y="90"/>
                  </a:lnTo>
                  <a:lnTo>
                    <a:pt x="16" y="9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94520" y="3806640"/>
              <a:ext cx="42840" cy="59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7" y="2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28000" y="3792600"/>
              <a:ext cx="2196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lnTo>
                    <a:pt x="1" y="12"/>
                  </a:lnTo>
                  <a:lnTo>
                    <a:pt x="9" y="9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3806640"/>
              <a:ext cx="41400" cy="22716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9" y="0"/>
                  </a:moveTo>
                  <a:lnTo>
                    <a:pt x="0" y="0"/>
                  </a:lnTo>
                  <a:lnTo>
                    <a:pt x="10" y="104"/>
                  </a:lnTo>
                  <a:lnTo>
                    <a:pt x="18" y="10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4360" y="3659040"/>
              <a:ext cx="41400" cy="374760"/>
            </a:xfrm>
            <a:custGeom>
              <a:avLst/>
              <a:gdLst/>
              <a:ahLst/>
              <a:rect l="l" t="t" r="r" b="b"/>
              <a:pathLst>
                <a:path w="18" h="171">
                  <a:moveTo>
                    <a:pt x="0" y="171"/>
                  </a:moveTo>
                  <a:lnTo>
                    <a:pt x="8" y="171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84880" y="3659040"/>
              <a:ext cx="42840" cy="584280"/>
            </a:xfrm>
            <a:custGeom>
              <a:avLst/>
              <a:gdLst/>
              <a:ahLst/>
              <a:rect l="l" t="t" r="r" b="b"/>
              <a:pathLst>
                <a:path w="18" h="266">
                  <a:moveTo>
                    <a:pt x="9" y="0"/>
                  </a:moveTo>
                  <a:lnTo>
                    <a:pt x="0" y="0"/>
                  </a:lnTo>
                  <a:lnTo>
                    <a:pt x="10" y="266"/>
                  </a:lnTo>
                  <a:lnTo>
                    <a:pt x="18" y="2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09000" y="3751200"/>
              <a:ext cx="36360" cy="492120"/>
            </a:xfrm>
            <a:custGeom>
              <a:avLst/>
              <a:gdLst/>
              <a:ahLst/>
              <a:rect l="l" t="t" r="r" b="b"/>
              <a:pathLst>
                <a:path w="16" h="224">
                  <a:moveTo>
                    <a:pt x="0" y="224"/>
                  </a:moveTo>
                  <a:lnTo>
                    <a:pt x="8" y="22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7720" y="3651120"/>
              <a:ext cx="41400" cy="1015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8" y="46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0040" y="3654360"/>
              <a:ext cx="38160" cy="420840"/>
            </a:xfrm>
            <a:custGeom>
              <a:avLst/>
              <a:gdLst/>
              <a:ahLst/>
              <a:rect l="l" t="t" r="r" b="b"/>
              <a:pathLst>
                <a:path w="16" h="191">
                  <a:moveTo>
                    <a:pt x="8" y="0"/>
                  </a:moveTo>
                  <a:lnTo>
                    <a:pt x="0" y="0"/>
                  </a:lnTo>
                  <a:lnTo>
                    <a:pt x="8" y="191"/>
                  </a:lnTo>
                  <a:lnTo>
                    <a:pt x="16" y="1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9120" y="3647880"/>
              <a:ext cx="38160" cy="427320"/>
            </a:xfrm>
            <a:custGeom>
              <a:avLst/>
              <a:gdLst/>
              <a:ahLst/>
              <a:rect l="l" t="t" r="r" b="b"/>
              <a:pathLst>
                <a:path w="16" h="194">
                  <a:moveTo>
                    <a:pt x="0" y="194"/>
                  </a:moveTo>
                  <a:lnTo>
                    <a:pt x="8" y="19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88200" y="3647880"/>
              <a:ext cx="42840" cy="16848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8" y="0"/>
                  </a:moveTo>
                  <a:lnTo>
                    <a:pt x="0" y="2"/>
                  </a:lnTo>
                  <a:lnTo>
                    <a:pt x="9" y="77"/>
                  </a:lnTo>
                  <a:lnTo>
                    <a:pt x="18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0520" y="3816360"/>
              <a:ext cx="39600" cy="220680"/>
            </a:xfrm>
            <a:custGeom>
              <a:avLst/>
              <a:gdLst/>
              <a:ahLst/>
              <a:rect l="l" t="t" r="r" b="b"/>
              <a:pathLst>
                <a:path w="17" h="100">
                  <a:moveTo>
                    <a:pt x="9" y="0"/>
                  </a:moveTo>
                  <a:lnTo>
                    <a:pt x="0" y="0"/>
                  </a:lnTo>
                  <a:lnTo>
                    <a:pt x="9" y="100"/>
                  </a:lnTo>
                  <a:lnTo>
                    <a:pt x="17" y="10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1040" y="3651120"/>
              <a:ext cx="38160" cy="385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175"/>
                  </a:moveTo>
                  <a:lnTo>
                    <a:pt x="8" y="17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50120" y="3654360"/>
              <a:ext cx="38160" cy="62388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8" y="0"/>
                  </a:moveTo>
                  <a:lnTo>
                    <a:pt x="0" y="0"/>
                  </a:lnTo>
                  <a:lnTo>
                    <a:pt x="8" y="284"/>
                  </a:lnTo>
                  <a:lnTo>
                    <a:pt x="16" y="2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69200" y="4089240"/>
              <a:ext cx="36360" cy="18900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6"/>
                  </a:moveTo>
                  <a:lnTo>
                    <a:pt x="8" y="8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88280" y="3782880"/>
              <a:ext cx="36360" cy="30636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139"/>
                  </a:moveTo>
                  <a:lnTo>
                    <a:pt x="8" y="139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5560" y="3782880"/>
              <a:ext cx="38160" cy="436680"/>
            </a:xfrm>
            <a:custGeom>
              <a:avLst/>
              <a:gdLst/>
              <a:ahLst/>
              <a:rect l="l" t="t" r="r" b="b"/>
              <a:pathLst>
                <a:path w="16" h="198">
                  <a:moveTo>
                    <a:pt x="8" y="0"/>
                  </a:moveTo>
                  <a:lnTo>
                    <a:pt x="0" y="0"/>
                  </a:lnTo>
                  <a:lnTo>
                    <a:pt x="8" y="198"/>
                  </a:lnTo>
                  <a:lnTo>
                    <a:pt x="16" y="19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24640" y="3897360"/>
              <a:ext cx="41400" cy="32220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0" y="147"/>
                  </a:moveTo>
                  <a:lnTo>
                    <a:pt x="8" y="147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43720" y="3898800"/>
              <a:ext cx="34920" cy="266760"/>
            </a:xfrm>
            <a:custGeom>
              <a:avLst/>
              <a:gdLst/>
              <a:ahLst/>
              <a:rect l="l" t="t" r="r" b="b"/>
              <a:pathLst>
                <a:path w="15" h="122">
                  <a:moveTo>
                    <a:pt x="9" y="0"/>
                  </a:moveTo>
                  <a:lnTo>
                    <a:pt x="0" y="0"/>
                  </a:lnTo>
                  <a:lnTo>
                    <a:pt x="7" y="122"/>
                  </a:lnTo>
                  <a:lnTo>
                    <a:pt x="15" y="1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1360" y="4170240"/>
              <a:ext cx="36360" cy="27612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8" y="0"/>
                  </a:moveTo>
                  <a:lnTo>
                    <a:pt x="0" y="0"/>
                  </a:lnTo>
                  <a:lnTo>
                    <a:pt x="8" y="126"/>
                  </a:lnTo>
                  <a:lnTo>
                    <a:pt x="16" y="1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8640" y="3851280"/>
              <a:ext cx="36720" cy="59508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0" y="271"/>
                  </a:moveTo>
                  <a:lnTo>
                    <a:pt x="8" y="27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7720" y="3851280"/>
              <a:ext cx="33480" cy="392040"/>
            </a:xfrm>
            <a:custGeom>
              <a:avLst/>
              <a:gdLst/>
              <a:ahLst/>
              <a:rect l="l" t="t" r="r" b="b"/>
              <a:pathLst>
                <a:path w="14" h="178">
                  <a:moveTo>
                    <a:pt x="9" y="0"/>
                  </a:moveTo>
                  <a:lnTo>
                    <a:pt x="0" y="0"/>
                  </a:lnTo>
                  <a:lnTo>
                    <a:pt x="6" y="178"/>
                  </a:lnTo>
                  <a:lnTo>
                    <a:pt x="14" y="17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5360" y="4075200"/>
              <a:ext cx="34920" cy="16812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0" y="77"/>
                  </a:moveTo>
                  <a:lnTo>
                    <a:pt x="8" y="77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31200" y="4029120"/>
              <a:ext cx="38160" cy="475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9"/>
                  </a:moveTo>
                  <a:lnTo>
                    <a:pt x="8" y="22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0280" y="4033800"/>
              <a:ext cx="33120" cy="13032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8" y="0"/>
                  </a:moveTo>
                  <a:lnTo>
                    <a:pt x="0" y="0"/>
                  </a:lnTo>
                  <a:lnTo>
                    <a:pt x="6" y="59"/>
                  </a:lnTo>
                  <a:lnTo>
                    <a:pt x="14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6120" y="3930480"/>
              <a:ext cx="33120" cy="23364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0" y="106"/>
                  </a:moveTo>
                  <a:lnTo>
                    <a:pt x="8" y="10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3400" y="3564000"/>
              <a:ext cx="34920" cy="61416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8" y="0"/>
                  </a:moveTo>
                  <a:lnTo>
                    <a:pt x="0" y="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9240" y="4008240"/>
              <a:ext cx="34920" cy="13176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8" y="0"/>
                  </a:moveTo>
                  <a:lnTo>
                    <a:pt x="0" y="1"/>
                  </a:lnTo>
                  <a:lnTo>
                    <a:pt x="6" y="60"/>
                  </a:lnTo>
                  <a:lnTo>
                    <a:pt x="15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8040" y="3397320"/>
              <a:ext cx="34920" cy="645840"/>
            </a:xfrm>
            <a:custGeom>
              <a:avLst/>
              <a:gdLst/>
              <a:ahLst/>
              <a:rect l="l" t="t" r="r" b="b"/>
              <a:pathLst>
                <a:path w="15" h="294">
                  <a:moveTo>
                    <a:pt x="0" y="294"/>
                  </a:moveTo>
                  <a:lnTo>
                    <a:pt x="9" y="294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9480" y="4030560"/>
              <a:ext cx="36720" cy="1094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8" y="0"/>
                  </a:moveTo>
                  <a:lnTo>
                    <a:pt x="0" y="2"/>
                  </a:lnTo>
                  <a:lnTo>
                    <a:pt x="7" y="50"/>
                  </a:lnTo>
                  <a:lnTo>
                    <a:pt x="15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47120" y="4046400"/>
              <a:ext cx="34920" cy="93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40"/>
                  </a:moveTo>
                  <a:lnTo>
                    <a:pt x="8" y="42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62960" y="4046400"/>
              <a:ext cx="34920" cy="677880"/>
            </a:xfrm>
            <a:custGeom>
              <a:avLst/>
              <a:gdLst/>
              <a:ahLst/>
              <a:rect l="l" t="t" r="r" b="b"/>
              <a:pathLst>
                <a:path w="15" h="308">
                  <a:moveTo>
                    <a:pt x="8" y="0"/>
                  </a:moveTo>
                  <a:lnTo>
                    <a:pt x="0" y="0"/>
                  </a:lnTo>
                  <a:lnTo>
                    <a:pt x="7" y="308"/>
                  </a:lnTo>
                  <a:lnTo>
                    <a:pt x="15" y="3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5960" y="3790800"/>
              <a:ext cx="30240" cy="31284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43"/>
                  </a:moveTo>
                  <a:lnTo>
                    <a:pt x="8" y="14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0" y="4003560"/>
              <a:ext cx="33120" cy="406440"/>
            </a:xfrm>
            <a:custGeom>
              <a:avLst/>
              <a:gdLst/>
              <a:ahLst/>
              <a:rect l="l" t="t" r="r" b="b"/>
              <a:pathLst>
                <a:path w="14" h="185">
                  <a:moveTo>
                    <a:pt x="0" y="185"/>
                  </a:moveTo>
                  <a:lnTo>
                    <a:pt x="8" y="18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0480" y="4003560"/>
              <a:ext cx="33480" cy="1620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8" y="0"/>
                  </a:moveTo>
                  <a:lnTo>
                    <a:pt x="0" y="0"/>
                  </a:lnTo>
                  <a:lnTo>
                    <a:pt x="6" y="74"/>
                  </a:lnTo>
                  <a:lnTo>
                    <a:pt x="14" y="7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24880" y="4170240"/>
              <a:ext cx="33120" cy="666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8" y="0"/>
                  </a:moveTo>
                  <a:lnTo>
                    <a:pt x="0" y="1"/>
                  </a:lnTo>
                  <a:lnTo>
                    <a:pt x="6" y="30"/>
                  </a:lnTo>
                  <a:lnTo>
                    <a:pt x="14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38920" y="4232160"/>
              <a:ext cx="32040" cy="8244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8" y="0"/>
                  </a:moveTo>
                  <a:lnTo>
                    <a:pt x="0" y="2"/>
                  </a:lnTo>
                  <a:lnTo>
                    <a:pt x="6" y="38"/>
                  </a:lnTo>
                  <a:lnTo>
                    <a:pt x="14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3320" y="4160880"/>
              <a:ext cx="34920" cy="15084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69"/>
                  </a:moveTo>
                  <a:lnTo>
                    <a:pt x="8" y="69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69160" y="4075200"/>
              <a:ext cx="30240" cy="889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39"/>
                  </a:moveTo>
                  <a:lnTo>
                    <a:pt x="8" y="41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83560" y="4076640"/>
              <a:ext cx="33120" cy="19512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9" y="0"/>
                  </a:moveTo>
                  <a:lnTo>
                    <a:pt x="0" y="0"/>
                  </a:lnTo>
                  <a:lnTo>
                    <a:pt x="6" y="89"/>
                  </a:lnTo>
                  <a:lnTo>
                    <a:pt x="14" y="8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68280" y="4568760"/>
              <a:ext cx="955800" cy="55440"/>
            </a:xfrm>
            <a:custGeom>
              <a:avLst/>
              <a:gdLst/>
              <a:ahLst/>
              <a:rect l="l" t="t" r="r" b="b"/>
              <a:pathLst>
                <a:path w="406" h="26">
                  <a:moveTo>
                    <a:pt x="0" y="17"/>
                  </a:moveTo>
                  <a:lnTo>
                    <a:pt x="0" y="26"/>
                  </a:lnTo>
                  <a:lnTo>
                    <a:pt x="406" y="9"/>
                  </a:lnTo>
                  <a:lnTo>
                    <a:pt x="40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24080" y="4408560"/>
              <a:ext cx="590400" cy="179280"/>
            </a:xfrm>
            <a:custGeom>
              <a:avLst/>
              <a:gdLst/>
              <a:ahLst/>
              <a:rect l="l" t="t" r="r" b="b"/>
              <a:pathLst>
                <a:path w="250" h="82">
                  <a:moveTo>
                    <a:pt x="0" y="73"/>
                  </a:moveTo>
                  <a:lnTo>
                    <a:pt x="2" y="82"/>
                  </a:lnTo>
                  <a:lnTo>
                    <a:pt x="250" y="9"/>
                  </a:lnTo>
                  <a:lnTo>
                    <a:pt x="24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09800" y="4410000"/>
              <a:ext cx="420840" cy="3142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4" y="0"/>
                  </a:moveTo>
                  <a:lnTo>
                    <a:pt x="0" y="8"/>
                  </a:lnTo>
                  <a:lnTo>
                    <a:pt x="175" y="143"/>
                  </a:lnTo>
                  <a:lnTo>
                    <a:pt x="179" y="1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20920" y="4443480"/>
              <a:ext cx="325440" cy="28080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121"/>
                  </a:moveTo>
                  <a:lnTo>
                    <a:pt x="4" y="128"/>
                  </a:lnTo>
                  <a:lnTo>
                    <a:pt x="138" y="8"/>
                  </a:lnTo>
                  <a:lnTo>
                    <a:pt x="134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35200" y="4443480"/>
              <a:ext cx="274680" cy="32040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5" y="0"/>
                  </a:moveTo>
                  <a:lnTo>
                    <a:pt x="0" y="6"/>
                  </a:lnTo>
                  <a:lnTo>
                    <a:pt x="111" y="146"/>
                  </a:lnTo>
                  <a:lnTo>
                    <a:pt x="117" y="1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3760" y="4672080"/>
              <a:ext cx="223560" cy="96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35"/>
                  </a:moveTo>
                  <a:lnTo>
                    <a:pt x="1" y="44"/>
                  </a:lnTo>
                  <a:lnTo>
                    <a:pt x="95" y="9"/>
                  </a:lnTo>
                  <a:lnTo>
                    <a:pt x="9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24440" y="4662360"/>
              <a:ext cx="188640" cy="2880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4"/>
                  </a:moveTo>
                  <a:lnTo>
                    <a:pt x="0" y="13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06960" y="4408560"/>
              <a:ext cx="180720" cy="269640"/>
            </a:xfrm>
            <a:custGeom>
              <a:avLst/>
              <a:gdLst/>
              <a:ahLst/>
              <a:rect l="l" t="t" r="r" b="b"/>
              <a:pathLst>
                <a:path w="77" h="123">
                  <a:moveTo>
                    <a:pt x="0" y="119"/>
                  </a:moveTo>
                  <a:lnTo>
                    <a:pt x="7" y="123"/>
                  </a:lnTo>
                  <a:lnTo>
                    <a:pt x="77" y="4"/>
                  </a:lnTo>
                  <a:lnTo>
                    <a:pt x="7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76880" y="4408560"/>
              <a:ext cx="161640" cy="225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7" y="0"/>
                  </a:moveTo>
                  <a:lnTo>
                    <a:pt x="0" y="4"/>
                  </a:lnTo>
                  <a:lnTo>
                    <a:pt x="62" y="103"/>
                  </a:lnTo>
                  <a:lnTo>
                    <a:pt x="69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19440" y="4309920"/>
              <a:ext cx="158760" cy="32220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0" y="144"/>
                  </a:moveTo>
                  <a:lnTo>
                    <a:pt x="8" y="147"/>
                  </a:lnTo>
                  <a:lnTo>
                    <a:pt x="67" y="3"/>
                  </a:lnTo>
                  <a:lnTo>
                    <a:pt x="58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6240" y="4309920"/>
              <a:ext cx="145800" cy="35568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9" y="0"/>
                  </a:moveTo>
                  <a:lnTo>
                    <a:pt x="0" y="3"/>
                  </a:lnTo>
                  <a:lnTo>
                    <a:pt x="53" y="162"/>
                  </a:lnTo>
                  <a:lnTo>
                    <a:pt x="62" y="1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81520" y="4368600"/>
              <a:ext cx="131760" cy="29700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0" y="132"/>
                  </a:moveTo>
                  <a:lnTo>
                    <a:pt x="9" y="13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94200" y="4370400"/>
              <a:ext cx="125640" cy="352440"/>
            </a:xfrm>
            <a:custGeom>
              <a:avLst/>
              <a:gdLst/>
              <a:ahLst/>
              <a:rect l="l" t="t" r="r" b="b"/>
              <a:pathLst>
                <a:path w="53" h="160">
                  <a:moveTo>
                    <a:pt x="8" y="0"/>
                  </a:moveTo>
                  <a:lnTo>
                    <a:pt x="0" y="2"/>
                  </a:lnTo>
                  <a:lnTo>
                    <a:pt x="45" y="160"/>
                  </a:lnTo>
                  <a:lnTo>
                    <a:pt x="53" y="1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0760" y="4394160"/>
              <a:ext cx="117360" cy="32868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0" y="147"/>
                  </a:moveTo>
                  <a:lnTo>
                    <a:pt x="8" y="149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99040" y="4394160"/>
              <a:ext cx="111240" cy="24444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8" y="0"/>
                  </a:moveTo>
                  <a:lnTo>
                    <a:pt x="0" y="3"/>
                  </a:lnTo>
                  <a:lnTo>
                    <a:pt x="39" y="111"/>
                  </a:lnTo>
                  <a:lnTo>
                    <a:pt x="47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1200" y="4226040"/>
              <a:ext cx="102960" cy="412560"/>
            </a:xfrm>
            <a:custGeom>
              <a:avLst/>
              <a:gdLst/>
              <a:ahLst/>
              <a:rect l="l" t="t" r="r" b="b"/>
              <a:pathLst>
                <a:path w="44" h="188">
                  <a:moveTo>
                    <a:pt x="0" y="186"/>
                  </a:moveTo>
                  <a:lnTo>
                    <a:pt x="8" y="188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8320" y="4226040"/>
              <a:ext cx="98640" cy="406080"/>
            </a:xfrm>
            <a:custGeom>
              <a:avLst/>
              <a:gdLst/>
              <a:ahLst/>
              <a:rect l="l" t="t" r="r" b="b"/>
              <a:pathLst>
                <a:path w="42" h="185">
                  <a:moveTo>
                    <a:pt x="8" y="0"/>
                  </a:moveTo>
                  <a:lnTo>
                    <a:pt x="0" y="2"/>
                  </a:lnTo>
                  <a:lnTo>
                    <a:pt x="34" y="185"/>
                  </a:lnTo>
                  <a:lnTo>
                    <a:pt x="42" y="18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9320" y="4195800"/>
              <a:ext cx="95400" cy="436320"/>
            </a:xfrm>
            <a:custGeom>
              <a:avLst/>
              <a:gdLst/>
              <a:ahLst/>
              <a:rect l="l" t="t" r="r" b="b"/>
              <a:pathLst>
                <a:path w="41" h="198">
                  <a:moveTo>
                    <a:pt x="0" y="196"/>
                  </a:moveTo>
                  <a:lnTo>
                    <a:pt x="8" y="198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7080" y="4195800"/>
              <a:ext cx="90720" cy="500040"/>
            </a:xfrm>
            <a:custGeom>
              <a:avLst/>
              <a:gdLst/>
              <a:ahLst/>
              <a:rect l="l" t="t" r="r" b="b"/>
              <a:pathLst>
                <a:path w="39" h="227">
                  <a:moveTo>
                    <a:pt x="8" y="0"/>
                  </a:moveTo>
                  <a:lnTo>
                    <a:pt x="0" y="1"/>
                  </a:lnTo>
                  <a:lnTo>
                    <a:pt x="31" y="227"/>
                  </a:lnTo>
                  <a:lnTo>
                    <a:pt x="39" y="2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10160" y="4228920"/>
              <a:ext cx="84240" cy="466920"/>
            </a:xfrm>
            <a:custGeom>
              <a:avLst/>
              <a:gdLst/>
              <a:ahLst/>
              <a:rect l="l" t="t" r="r" b="b"/>
              <a:pathLst>
                <a:path w="36" h="212">
                  <a:moveTo>
                    <a:pt x="0" y="210"/>
                  </a:moveTo>
                  <a:lnTo>
                    <a:pt x="8" y="212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80000" y="4228920"/>
              <a:ext cx="82440" cy="876600"/>
            </a:xfrm>
            <a:custGeom>
              <a:avLst/>
              <a:gdLst/>
              <a:ahLst/>
              <a:rect l="l" t="t" r="r" b="b"/>
              <a:pathLst>
                <a:path w="35" h="399">
                  <a:moveTo>
                    <a:pt x="8" y="0"/>
                  </a:moveTo>
                  <a:lnTo>
                    <a:pt x="0" y="0"/>
                  </a:lnTo>
                  <a:lnTo>
                    <a:pt x="27" y="399"/>
                  </a:lnTo>
                  <a:lnTo>
                    <a:pt x="35" y="3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3720" y="4191120"/>
              <a:ext cx="82440" cy="914400"/>
            </a:xfrm>
            <a:custGeom>
              <a:avLst/>
              <a:gdLst/>
              <a:ahLst/>
              <a:rect l="l" t="t" r="r" b="b"/>
              <a:pathLst>
                <a:path w="35" h="417">
                  <a:moveTo>
                    <a:pt x="0" y="417"/>
                  </a:moveTo>
                  <a:lnTo>
                    <a:pt x="8" y="417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7080" y="4191120"/>
              <a:ext cx="81000" cy="655560"/>
            </a:xfrm>
            <a:custGeom>
              <a:avLst/>
              <a:gdLst/>
              <a:ahLst/>
              <a:rect l="l" t="t" r="r" b="b"/>
              <a:pathLst>
                <a:path w="34" h="299">
                  <a:moveTo>
                    <a:pt x="8" y="0"/>
                  </a:moveTo>
                  <a:lnTo>
                    <a:pt x="0" y="0"/>
                  </a:lnTo>
                  <a:lnTo>
                    <a:pt x="26" y="299"/>
                  </a:lnTo>
                  <a:lnTo>
                    <a:pt x="34" y="2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69000" y="4152960"/>
              <a:ext cx="74520" cy="693720"/>
            </a:xfrm>
            <a:custGeom>
              <a:avLst/>
              <a:gdLst/>
              <a:ahLst/>
              <a:rect l="l" t="t" r="r" b="b"/>
              <a:pathLst>
                <a:path w="32" h="316">
                  <a:moveTo>
                    <a:pt x="0" y="316"/>
                  </a:moveTo>
                  <a:lnTo>
                    <a:pt x="8" y="316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24440" y="4152960"/>
              <a:ext cx="73080" cy="522000"/>
            </a:xfrm>
            <a:custGeom>
              <a:avLst/>
              <a:gdLst/>
              <a:ahLst/>
              <a:rect l="l" t="t" r="r" b="b"/>
              <a:pathLst>
                <a:path w="31" h="238">
                  <a:moveTo>
                    <a:pt x="8" y="0"/>
                  </a:moveTo>
                  <a:lnTo>
                    <a:pt x="0" y="0"/>
                  </a:lnTo>
                  <a:lnTo>
                    <a:pt x="23" y="238"/>
                  </a:lnTo>
                  <a:lnTo>
                    <a:pt x="31" y="2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84920" y="4178160"/>
              <a:ext cx="69840" cy="49680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0" y="227"/>
                  </a:moveTo>
                  <a:lnTo>
                    <a:pt x="8" y="227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34240" y="4178160"/>
              <a:ext cx="69840" cy="492120"/>
            </a:xfrm>
            <a:custGeom>
              <a:avLst/>
              <a:gdLst/>
              <a:ahLst/>
              <a:rect l="l" t="t" r="r" b="b"/>
              <a:pathLst>
                <a:path w="30" h="223">
                  <a:moveTo>
                    <a:pt x="9" y="0"/>
                  </a:moveTo>
                  <a:lnTo>
                    <a:pt x="0" y="0"/>
                  </a:lnTo>
                  <a:lnTo>
                    <a:pt x="22" y="223"/>
                  </a:lnTo>
                  <a:lnTo>
                    <a:pt x="30" y="2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87880" y="4259160"/>
              <a:ext cx="68400" cy="412920"/>
            </a:xfrm>
            <a:custGeom>
              <a:avLst/>
              <a:gdLst/>
              <a:ahLst/>
              <a:rect l="l" t="t" r="r" b="b"/>
              <a:pathLst>
                <a:path w="29" h="188">
                  <a:moveTo>
                    <a:pt x="0" y="187"/>
                  </a:moveTo>
                  <a:lnTo>
                    <a:pt x="9" y="18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37200" y="4259160"/>
              <a:ext cx="66600" cy="442800"/>
            </a:xfrm>
            <a:custGeom>
              <a:avLst/>
              <a:gdLst/>
              <a:ahLst/>
              <a:rect l="l" t="t" r="r" b="b"/>
              <a:pathLst>
                <a:path w="28" h="202">
                  <a:moveTo>
                    <a:pt x="8" y="0"/>
                  </a:moveTo>
                  <a:lnTo>
                    <a:pt x="0" y="2"/>
                  </a:lnTo>
                  <a:lnTo>
                    <a:pt x="20" y="202"/>
                  </a:lnTo>
                  <a:lnTo>
                    <a:pt x="28" y="20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84720" y="4292640"/>
              <a:ext cx="68400" cy="40932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185"/>
                  </a:moveTo>
                  <a:lnTo>
                    <a:pt x="8" y="18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34040" y="4292640"/>
              <a:ext cx="58680" cy="490320"/>
            </a:xfrm>
            <a:custGeom>
              <a:avLst/>
              <a:gdLst/>
              <a:ahLst/>
              <a:rect l="l" t="t" r="r" b="b"/>
              <a:pathLst>
                <a:path w="25" h="224">
                  <a:moveTo>
                    <a:pt x="8" y="0"/>
                  </a:moveTo>
                  <a:lnTo>
                    <a:pt x="0" y="0"/>
                  </a:lnTo>
                  <a:lnTo>
                    <a:pt x="17" y="224"/>
                  </a:lnTo>
                  <a:lnTo>
                    <a:pt x="25" y="2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8680" y="4327560"/>
              <a:ext cx="58680" cy="45540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7"/>
                  </a:moveTo>
                  <a:lnTo>
                    <a:pt x="8" y="207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18280" y="4330800"/>
              <a:ext cx="61920" cy="411120"/>
            </a:xfrm>
            <a:custGeom>
              <a:avLst/>
              <a:gdLst/>
              <a:ahLst/>
              <a:rect l="l" t="t" r="r" b="b"/>
              <a:pathLst>
                <a:path w="26" h="187">
                  <a:moveTo>
                    <a:pt x="8" y="0"/>
                  </a:moveTo>
                  <a:lnTo>
                    <a:pt x="0" y="0"/>
                  </a:lnTo>
                  <a:lnTo>
                    <a:pt x="18" y="187"/>
                  </a:lnTo>
                  <a:lnTo>
                    <a:pt x="26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61120" y="4376520"/>
              <a:ext cx="61920" cy="366840"/>
            </a:xfrm>
            <a:custGeom>
              <a:avLst/>
              <a:gdLst/>
              <a:ahLst/>
              <a:rect l="l" t="t" r="r" b="b"/>
              <a:pathLst>
                <a:path w="26" h="167">
                  <a:moveTo>
                    <a:pt x="0" y="166"/>
                  </a:moveTo>
                  <a:lnTo>
                    <a:pt x="8" y="16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05400" y="4376520"/>
              <a:ext cx="57240" cy="331920"/>
            </a:xfrm>
            <a:custGeom>
              <a:avLst/>
              <a:gdLst/>
              <a:ahLst/>
              <a:rect l="l" t="t" r="r" b="b"/>
              <a:pathLst>
                <a:path w="24" h="151">
                  <a:moveTo>
                    <a:pt x="8" y="0"/>
                  </a:moveTo>
                  <a:lnTo>
                    <a:pt x="0" y="2"/>
                  </a:lnTo>
                  <a:lnTo>
                    <a:pt x="16" y="151"/>
                  </a:lnTo>
                  <a:lnTo>
                    <a:pt x="24" y="14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43560" y="4449600"/>
              <a:ext cx="58680" cy="25884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6"/>
                  </a:moveTo>
                  <a:lnTo>
                    <a:pt x="8" y="11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83160" y="4449600"/>
              <a:ext cx="57240" cy="25236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8" y="0"/>
                  </a:moveTo>
                  <a:lnTo>
                    <a:pt x="0" y="2"/>
                  </a:lnTo>
                  <a:lnTo>
                    <a:pt x="16" y="115"/>
                  </a:lnTo>
                  <a:lnTo>
                    <a:pt x="24" y="1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1320" y="4556160"/>
              <a:ext cx="54000" cy="14580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5"/>
                  </a:moveTo>
                  <a:lnTo>
                    <a:pt x="8" y="67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56240" y="4556160"/>
              <a:ext cx="57240" cy="258840"/>
            </a:xfrm>
            <a:custGeom>
              <a:avLst/>
              <a:gdLst/>
              <a:ahLst/>
              <a:rect l="l" t="t" r="r" b="b"/>
              <a:pathLst>
                <a:path w="24" h="118">
                  <a:moveTo>
                    <a:pt x="8" y="0"/>
                  </a:moveTo>
                  <a:lnTo>
                    <a:pt x="0" y="2"/>
                  </a:lnTo>
                  <a:lnTo>
                    <a:pt x="16" y="118"/>
                  </a:lnTo>
                  <a:lnTo>
                    <a:pt x="24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94400" y="4614840"/>
              <a:ext cx="54000" cy="2001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0" y="89"/>
                  </a:moveTo>
                  <a:lnTo>
                    <a:pt x="8" y="9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29320" y="4614840"/>
              <a:ext cx="52560" cy="306360"/>
            </a:xfrm>
            <a:custGeom>
              <a:avLst/>
              <a:gdLst/>
              <a:ahLst/>
              <a:rect l="l" t="t" r="r" b="b"/>
              <a:pathLst>
                <a:path w="22" h="140">
                  <a:moveTo>
                    <a:pt x="8" y="0"/>
                  </a:moveTo>
                  <a:lnTo>
                    <a:pt x="0" y="0"/>
                  </a:lnTo>
                  <a:lnTo>
                    <a:pt x="14" y="140"/>
                  </a:lnTo>
                  <a:lnTo>
                    <a:pt x="22" y="1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62800" y="4614840"/>
              <a:ext cx="54000" cy="31104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0" y="140"/>
                  </a:moveTo>
                  <a:lnTo>
                    <a:pt x="8" y="142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97720" y="4619520"/>
              <a:ext cx="49320" cy="26352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8" y="0"/>
                  </a:moveTo>
                  <a:lnTo>
                    <a:pt x="0" y="1"/>
                  </a:lnTo>
                  <a:lnTo>
                    <a:pt x="13" y="120"/>
                  </a:lnTo>
                  <a:lnTo>
                    <a:pt x="21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29400" y="4705200"/>
              <a:ext cx="50760" cy="177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80"/>
                  </a:moveTo>
                  <a:lnTo>
                    <a:pt x="8" y="81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1080" y="4705200"/>
              <a:ext cx="50760" cy="13500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8" y="0"/>
                  </a:moveTo>
                  <a:lnTo>
                    <a:pt x="0" y="2"/>
                  </a:lnTo>
                  <a:lnTo>
                    <a:pt x="13" y="62"/>
                  </a:lnTo>
                  <a:lnTo>
                    <a:pt x="21" y="6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92760" y="4836960"/>
              <a:ext cx="49320" cy="101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8" y="0"/>
                  </a:moveTo>
                  <a:lnTo>
                    <a:pt x="0" y="2"/>
                  </a:lnTo>
                  <a:lnTo>
                    <a:pt x="12" y="47"/>
                  </a:lnTo>
                  <a:lnTo>
                    <a:pt x="21" y="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27680" y="4895640"/>
              <a:ext cx="42840" cy="46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5"/>
                  </a:moveTo>
                  <a:lnTo>
                    <a:pt x="6" y="21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61160" y="4900680"/>
              <a:ext cx="36360" cy="37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4" y="0"/>
                  </a:moveTo>
                  <a:lnTo>
                    <a:pt x="0" y="7"/>
                  </a:lnTo>
                  <a:lnTo>
                    <a:pt x="12" y="18"/>
                  </a:lnTo>
                  <a:lnTo>
                    <a:pt x="1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86720" y="4929120"/>
              <a:ext cx="44280" cy="698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6" y="0"/>
                  </a:moveTo>
                  <a:lnTo>
                    <a:pt x="0" y="3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15160" y="4933800"/>
              <a:ext cx="44280" cy="65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lnTo>
                    <a:pt x="7" y="30"/>
                  </a:lnTo>
                  <a:lnTo>
                    <a:pt x="19" y="3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0080" y="4925880"/>
              <a:ext cx="25560" cy="2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65920" y="4938480"/>
              <a:ext cx="47520" cy="146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8" y="0"/>
                  </a:moveTo>
                  <a:lnTo>
                    <a:pt x="0" y="1"/>
                  </a:lnTo>
                  <a:lnTo>
                    <a:pt x="12" y="66"/>
                  </a:lnTo>
                  <a:lnTo>
                    <a:pt x="20" y="6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94360" y="4902120"/>
              <a:ext cx="46080" cy="18252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0" y="81"/>
                  </a:moveTo>
                  <a:lnTo>
                    <a:pt x="8" y="83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21360" y="4905360"/>
              <a:ext cx="44640" cy="20484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8" y="0"/>
                  </a:moveTo>
                  <a:lnTo>
                    <a:pt x="0" y="1"/>
                  </a:lnTo>
                  <a:lnTo>
                    <a:pt x="11" y="93"/>
                  </a:lnTo>
                  <a:lnTo>
                    <a:pt x="19" y="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46920" y="4935600"/>
              <a:ext cx="44280" cy="1746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0" y="78"/>
                  </a:moveTo>
                  <a:lnTo>
                    <a:pt x="8" y="80"/>
                  </a:lnTo>
                  <a:lnTo>
                    <a:pt x="19" y="2"/>
                  </a:lnTo>
                  <a:lnTo>
                    <a:pt x="1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77160" y="4929120"/>
              <a:ext cx="36360" cy="396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0"/>
                  </a:moveTo>
                  <a:lnTo>
                    <a:pt x="0" y="8"/>
                  </a:lnTo>
                  <a:lnTo>
                    <a:pt x="11" y="18"/>
                  </a:lnTo>
                  <a:lnTo>
                    <a:pt x="15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96240" y="4959360"/>
              <a:ext cx="42840" cy="1080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8" y="0"/>
                  </a:moveTo>
                  <a:lnTo>
                    <a:pt x="0" y="1"/>
                  </a:lnTo>
                  <a:lnTo>
                    <a:pt x="10" y="49"/>
                  </a:lnTo>
                  <a:lnTo>
                    <a:pt x="18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21440" y="5006880"/>
              <a:ext cx="42840" cy="60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8" y="27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45200" y="5011560"/>
              <a:ext cx="41400" cy="73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0"/>
                  </a:moveTo>
                  <a:lnTo>
                    <a:pt x="0" y="1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74000" y="5073480"/>
              <a:ext cx="34920" cy="39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6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94520" y="5067360"/>
              <a:ext cx="4140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7"/>
                  </a:moveTo>
                  <a:lnTo>
                    <a:pt x="7" y="21"/>
                  </a:lnTo>
                  <a:lnTo>
                    <a:pt x="17" y="5"/>
                  </a:lnTo>
                  <a:lnTo>
                    <a:pt x="1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18280" y="4994280"/>
              <a:ext cx="38160" cy="79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5"/>
                  </a:moveTo>
                  <a:lnTo>
                    <a:pt x="8" y="3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7360" y="4994280"/>
              <a:ext cx="42840" cy="7128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0" y="2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61120" y="4954680"/>
              <a:ext cx="39960" cy="11088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8"/>
                  </a:moveTo>
                  <a:lnTo>
                    <a:pt x="8" y="50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82000" y="4954680"/>
              <a:ext cx="42840" cy="198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8" y="0"/>
                  </a:moveTo>
                  <a:lnTo>
                    <a:pt x="0" y="2"/>
                  </a:lnTo>
                  <a:lnTo>
                    <a:pt x="10" y="90"/>
                  </a:lnTo>
                  <a:lnTo>
                    <a:pt x="18" y="8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05760" y="5014800"/>
              <a:ext cx="39600" cy="13824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8" y="6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7720" y="5014800"/>
              <a:ext cx="36720" cy="285840"/>
            </a:xfrm>
            <a:custGeom>
              <a:avLst/>
              <a:gdLst/>
              <a:ahLst/>
              <a:rect l="l" t="t" r="r" b="b"/>
              <a:pathLst>
                <a:path w="16" h="130">
                  <a:moveTo>
                    <a:pt x="8" y="0"/>
                  </a:moveTo>
                  <a:lnTo>
                    <a:pt x="0" y="0"/>
                  </a:lnTo>
                  <a:lnTo>
                    <a:pt x="8" y="130"/>
                  </a:lnTo>
                  <a:lnTo>
                    <a:pt x="16" y="1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45360" y="5027400"/>
              <a:ext cx="42840" cy="273240"/>
            </a:xfrm>
            <a:custGeom>
              <a:avLst/>
              <a:gdLst/>
              <a:ahLst/>
              <a:rect l="l" t="t" r="r" b="b"/>
              <a:pathLst>
                <a:path w="18" h="124">
                  <a:moveTo>
                    <a:pt x="0" y="124"/>
                  </a:moveTo>
                  <a:lnTo>
                    <a:pt x="8" y="12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69120" y="5027400"/>
              <a:ext cx="38160" cy="25884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8" y="0"/>
                  </a:moveTo>
                  <a:lnTo>
                    <a:pt x="0" y="0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88200" y="5005440"/>
              <a:ext cx="38160" cy="280800"/>
            </a:xfrm>
            <a:custGeom>
              <a:avLst/>
              <a:gdLst/>
              <a:ahLst/>
              <a:rect l="l" t="t" r="r" b="b"/>
              <a:pathLst>
                <a:path w="16" h="128">
                  <a:moveTo>
                    <a:pt x="0" y="128"/>
                  </a:moveTo>
                  <a:lnTo>
                    <a:pt x="8" y="12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07280" y="5005440"/>
              <a:ext cx="38160" cy="255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8" y="0"/>
                  </a:moveTo>
                  <a:lnTo>
                    <a:pt x="0" y="0"/>
                  </a:lnTo>
                  <a:lnTo>
                    <a:pt x="8" y="116"/>
                  </a:lnTo>
                  <a:lnTo>
                    <a:pt x="16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31040" y="4998960"/>
              <a:ext cx="33480" cy="26208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0" y="119"/>
                  </a:moveTo>
                  <a:lnTo>
                    <a:pt x="8" y="119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50120" y="4998960"/>
              <a:ext cx="38160" cy="287280"/>
            </a:xfrm>
            <a:custGeom>
              <a:avLst/>
              <a:gdLst/>
              <a:ahLst/>
              <a:rect l="l" t="t" r="r" b="b"/>
              <a:pathLst>
                <a:path w="16" h="131">
                  <a:moveTo>
                    <a:pt x="8" y="0"/>
                  </a:moveTo>
                  <a:lnTo>
                    <a:pt x="0" y="0"/>
                  </a:lnTo>
                  <a:lnTo>
                    <a:pt x="8" y="131"/>
                  </a:lnTo>
                  <a:lnTo>
                    <a:pt x="16" y="1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69200" y="5065560"/>
              <a:ext cx="34920" cy="22068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0" y="101"/>
                  </a:moveTo>
                  <a:lnTo>
                    <a:pt x="8" y="10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8280" y="5065560"/>
              <a:ext cx="36360" cy="260280"/>
            </a:xfrm>
            <a:custGeom>
              <a:avLst/>
              <a:gdLst/>
              <a:ahLst/>
              <a:rect l="l" t="t" r="r" b="b"/>
              <a:pathLst>
                <a:path w="16" h="119">
                  <a:moveTo>
                    <a:pt x="8" y="0"/>
                  </a:moveTo>
                  <a:lnTo>
                    <a:pt x="0" y="0"/>
                  </a:lnTo>
                  <a:lnTo>
                    <a:pt x="8" y="119"/>
                  </a:lnTo>
                  <a:lnTo>
                    <a:pt x="16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05560" y="5194080"/>
              <a:ext cx="36720" cy="13500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8" y="61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23200" y="5197320"/>
              <a:ext cx="38160" cy="16992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8" y="0"/>
                  </a:moveTo>
                  <a:lnTo>
                    <a:pt x="0" y="2"/>
                  </a:lnTo>
                  <a:lnTo>
                    <a:pt x="8" y="78"/>
                  </a:lnTo>
                  <a:lnTo>
                    <a:pt x="16" y="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42280" y="5156280"/>
              <a:ext cx="34920" cy="20952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0" y="95"/>
                  </a:moveTo>
                  <a:lnTo>
                    <a:pt x="8" y="9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1360" y="5156280"/>
              <a:ext cx="410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8" y="0"/>
                  </a:moveTo>
                  <a:lnTo>
                    <a:pt x="0" y="1"/>
                  </a:lnTo>
                  <a:lnTo>
                    <a:pt x="10" y="96"/>
                  </a:lnTo>
                  <a:lnTo>
                    <a:pt x="18" y="9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3320" y="5165640"/>
              <a:ext cx="28800" cy="20016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91"/>
                  </a:moveTo>
                  <a:lnTo>
                    <a:pt x="8" y="9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96280" y="5165640"/>
              <a:ext cx="34920" cy="16848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8" y="0"/>
                  </a:moveTo>
                  <a:lnTo>
                    <a:pt x="0" y="0"/>
                  </a:lnTo>
                  <a:lnTo>
                    <a:pt x="7" y="76"/>
                  </a:lnTo>
                  <a:lnTo>
                    <a:pt x="15" y="7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15360" y="5288040"/>
              <a:ext cx="34920" cy="460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18"/>
                  </a:moveTo>
                  <a:lnTo>
                    <a:pt x="7" y="21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4440" y="5288040"/>
              <a:ext cx="31680" cy="41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0" y="3"/>
                  </a:lnTo>
                  <a:lnTo>
                    <a:pt x="7" y="18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50280" y="5321160"/>
              <a:ext cx="33120" cy="30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9360" y="5338800"/>
              <a:ext cx="252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1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85200" y="5338800"/>
              <a:ext cx="270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6"/>
                  </a:moveTo>
                  <a:lnTo>
                    <a:pt x="4" y="13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99240" y="5342040"/>
              <a:ext cx="30240" cy="29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0120" y="5351400"/>
              <a:ext cx="28440" cy="22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0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47120" y="5348160"/>
              <a:ext cx="111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2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56480" y="5348160"/>
              <a:ext cx="2556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9"/>
                  </a:lnTo>
                  <a:lnTo>
                    <a:pt x="11" y="11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75560" y="5329080"/>
              <a:ext cx="17640" cy="31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80240" y="5329080"/>
              <a:ext cx="27000" cy="31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0" y="3"/>
                  </a:lnTo>
                  <a:lnTo>
                    <a:pt x="5" y="15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3200" y="5329080"/>
              <a:ext cx="33120" cy="367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2"/>
                  </a:moveTo>
                  <a:lnTo>
                    <a:pt x="7" y="17"/>
                  </a:lnTo>
                  <a:lnTo>
                    <a:pt x="14" y="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0480" y="5329080"/>
              <a:ext cx="2844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29560" y="5342040"/>
              <a:ext cx="23760" cy="252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38920" y="5325840"/>
              <a:ext cx="3204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3"/>
                  </a:moveTo>
                  <a:lnTo>
                    <a:pt x="7" y="16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54760" y="5329080"/>
              <a:ext cx="2880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69160" y="5317920"/>
              <a:ext cx="3024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3"/>
                  </a:moveTo>
                  <a:lnTo>
                    <a:pt x="6" y="16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2400" y="622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4720" y="5497560"/>
              <a:ext cx="20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3640" y="549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44720" y="5133960"/>
              <a:ext cx="20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4720" y="47703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3640" y="477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4720" y="44085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4043160"/>
              <a:ext cx="2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3640" y="404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368136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4720" y="331452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3640" y="331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2954160"/>
              <a:ext cx="204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81000" y="2592360"/>
              <a:ext cx="270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79560" y="2592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85840" y="6424560"/>
              <a:ext cx="247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85480" y="6424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13240" y="6424560"/>
              <a:ext cx="338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2880" y="6424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3520" y="6424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40360" y="6338880"/>
              <a:ext cx="633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09640" y="230508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23200" y="23050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37360" y="2317680"/>
              <a:ext cx="40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18240" y="5405400"/>
              <a:ext cx="202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ltimat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ppga" descr=""/>
            <p:cNvPicPr/>
            <p:nvPr/>
          </p:nvPicPr>
          <p:blipFill>
            <a:blip r:embed="rId1"/>
            <a:stretch/>
          </p:blipFill>
          <p:spPr>
            <a:xfrm>
              <a:off x="1411200" y="2601720"/>
              <a:ext cx="1806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pga" descr=""/>
            <p:cNvPicPr/>
            <p:nvPr/>
          </p:nvPicPr>
          <p:blipFill>
            <a:blip r:embed="rId2"/>
            <a:stretch/>
          </p:blipFill>
          <p:spPr>
            <a:xfrm>
              <a:off x="1563840" y="4168800"/>
              <a:ext cx="180648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643040" y="294624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84600" y="457200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187880" y="2635200"/>
              <a:ext cx="1206360" cy="353880"/>
              <a:chOff x="4187880" y="2635200"/>
              <a:chExt cx="1206360" cy="353880"/>
            </a:xfrm>
          </p:grpSpPr>
          <p:sp>
            <p:nvSpPr>
              <p:cNvPr id="403" name=""/>
              <p:cNvSpPr/>
              <p:nvPr/>
            </p:nvSpPr>
            <p:spPr>
              <a:xfrm>
                <a:off x="4187880" y="2635200"/>
                <a:ext cx="1206360" cy="353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260600" y="2729160"/>
                <a:ext cx="237600" cy="23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8480" y="2729160"/>
                <a:ext cx="529920" cy="10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270080" y="5821200"/>
              <a:ext cx="653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8040" y="5587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120" y="4583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5371800">
              <a:off x="6594480" y="4998960"/>
              <a:ext cx="1085760" cy="558720"/>
            </a:xfrm>
            <a:custGeom>
              <a:avLst/>
              <a:gdLst>
                <a:gd name="textAreaLeft" fmla="*/ 135720 w 1085760"/>
                <a:gd name="textAreaRight" fmla="*/ 950040 w 1085760"/>
                <a:gd name="textAreaTop" fmla="*/ 139680 h 558720"/>
                <a:gd name="textAreaBottom" fmla="*/ 4190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99ff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553160" y="3633840"/>
              <a:ext cx="438480" cy="1436040"/>
              <a:chOff x="7553160" y="3633840"/>
              <a:chExt cx="438480" cy="1436040"/>
            </a:xfrm>
          </p:grpSpPr>
          <p:sp>
            <p:nvSpPr>
              <p:cNvPr id="411" name=""/>
              <p:cNvSpPr/>
              <p:nvPr/>
            </p:nvSpPr>
            <p:spPr>
              <a:xfrm>
                <a:off x="7553160" y="4056120"/>
                <a:ext cx="438480" cy="1013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87960" y="3633840"/>
                <a:ext cx="69120" cy="433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610760" y="4161960"/>
                <a:ext cx="322920" cy="295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7622280" y="4510440"/>
                <a:ext cx="334440" cy="432720"/>
                <a:chOff x="7622280" y="4510440"/>
                <a:chExt cx="334440" cy="4327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7622280" y="4510440"/>
                  <a:ext cx="92160" cy="432720"/>
                  <a:chOff x="7622280" y="4510440"/>
                  <a:chExt cx="92160" cy="4327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762228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62228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62228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743240" y="4510440"/>
                  <a:ext cx="92160" cy="432720"/>
                  <a:chOff x="7743240" y="4510440"/>
                  <a:chExt cx="92160" cy="4327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774324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74324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74324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864560" y="4510440"/>
                  <a:ext cx="92160" cy="432720"/>
                  <a:chOff x="7864560" y="4510440"/>
                  <a:chExt cx="92160" cy="432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786456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86456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86456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7" name=""/>
            <p:cNvSpPr/>
            <p:nvPr/>
          </p:nvSpPr>
          <p:spPr>
            <a:xfrm>
              <a:off x="3529080" y="5006880"/>
              <a:ext cx="304308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80"/>
                  </a:solidFill>
                  <a:latin typeface="Arial"/>
                </a:rPr>
                <a:t>Probably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532400" y="2976480"/>
              <a:ext cx="183816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248160" y="3087720"/>
              <a:ext cx="28548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5720" y="3179880"/>
              <a:ext cx="30492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3040" y="2709720"/>
              <a:ext cx="251460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Not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23800" y="178740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w parasitic emission is a key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38920" y="3087720"/>
            <a:ext cx="253800" cy="181080"/>
          </a:xfrm>
          <a:prstGeom prst="hexagon">
            <a:avLst>
              <a:gd name="adj" fmla="val 35040"/>
              <a:gd name="vf" fmla="val 11547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84760" y="4118040"/>
            <a:ext cx="254160" cy="181080"/>
          </a:xfrm>
          <a:prstGeom prst="hexagon">
            <a:avLst>
              <a:gd name="adj" fmla="val 35089"/>
              <a:gd name="vf" fmla="val 11547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BC8-236E-4F6C-ABBB-9DCF8E2E59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828800" y="3048120"/>
          <a:ext cx="572292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7229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2133720" y="99072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112920" y="1919160"/>
            <a:ext cx="4351680" cy="3083040"/>
            <a:chOff x="3112920" y="1919160"/>
            <a:chExt cx="4351680" cy="3083040"/>
          </a:xfrm>
        </p:grpSpPr>
        <p:pic>
          <p:nvPicPr>
            <p:cNvPr id="440" name="PORTB001" descr=""/>
            <p:cNvPicPr/>
            <p:nvPr/>
          </p:nvPicPr>
          <p:blipFill>
            <a:blip r:embed="rId3"/>
            <a:stretch/>
          </p:blipFill>
          <p:spPr>
            <a:xfrm>
              <a:off x="6016680" y="1919160"/>
              <a:ext cx="1447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229280" y="2825640"/>
              <a:ext cx="2145960" cy="21765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12920" y="191916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 local RF &amp; Bluetooth 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433 MHz, 2.5G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368960" y="2962440"/>
            <a:ext cx="4012920" cy="2602440"/>
            <a:chOff x="4368960" y="2962440"/>
            <a:chExt cx="4012920" cy="2602440"/>
          </a:xfrm>
        </p:grpSpPr>
        <p:pic>
          <p:nvPicPr>
            <p:cNvPr id="444" name="TELE062" descr=""/>
            <p:cNvPicPr/>
            <p:nvPr/>
          </p:nvPicPr>
          <p:blipFill>
            <a:blip r:embed="rId4"/>
            <a:stretch/>
          </p:blipFill>
          <p:spPr>
            <a:xfrm>
              <a:off x="7831080" y="3073320"/>
              <a:ext cx="51768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368960" y="2962440"/>
              <a:ext cx="1868400" cy="190332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455616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mobile 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900, 1800,1900M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00" y="1919160"/>
            <a:ext cx="5416560" cy="2317680"/>
            <a:chOff x="228600" y="1919160"/>
            <a:chExt cx="5416560" cy="2317680"/>
          </a:xfrm>
        </p:grpSpPr>
        <p:sp>
          <p:nvSpPr>
            <p:cNvPr id="449" name=""/>
            <p:cNvSpPr/>
            <p:nvPr/>
          </p:nvSpPr>
          <p:spPr>
            <a:xfrm flipH="1" rot="1995000">
              <a:off x="2649240" y="2803320"/>
              <a:ext cx="2309760" cy="533160"/>
            </a:xfrm>
            <a:prstGeom prst="leftArrow">
              <a:avLst>
                <a:gd name="adj1" fmla="val 50000"/>
                <a:gd name="adj2" fmla="val 10830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" y="1919160"/>
              <a:ext cx="222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Example for automo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805280" y="3746520"/>
              <a:ext cx="839880" cy="490320"/>
              <a:chOff x="4805280" y="3746520"/>
              <a:chExt cx="839880" cy="490320"/>
            </a:xfrm>
          </p:grpSpPr>
          <p:sp>
            <p:nvSpPr>
              <p:cNvPr id="452" name=""/>
              <p:cNvSpPr/>
              <p:nvPr/>
            </p:nvSpPr>
            <p:spPr>
              <a:xfrm>
                <a:off x="5163840" y="3766320"/>
                <a:ext cx="0" cy="147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3" name=""/>
              <p:cNvGraphicFramePr/>
              <p:nvPr/>
            </p:nvGraphicFramePr>
            <p:xfrm>
              <a:off x="4805280" y="3746520"/>
              <a:ext cx="839880" cy="405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5280" y="3746520"/>
                        <a:ext cx="839880" cy="4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5" name=""/>
              <p:cNvSpPr/>
              <p:nvPr/>
            </p:nvSpPr>
            <p:spPr>
              <a:xfrm>
                <a:off x="4913280" y="3779280"/>
                <a:ext cx="585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3186000" y="3913200"/>
            <a:ext cx="1619280" cy="74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46040" y="2622600"/>
            <a:ext cx="6067440" cy="2637360"/>
            <a:chOff x="446040" y="2622600"/>
            <a:chExt cx="6067440" cy="2637360"/>
          </a:xfrm>
        </p:grpSpPr>
        <p:sp>
          <p:nvSpPr>
            <p:cNvPr id="458" name=""/>
            <p:cNvSpPr/>
            <p:nvPr/>
          </p:nvSpPr>
          <p:spPr>
            <a:xfrm>
              <a:off x="4022640" y="2622600"/>
              <a:ext cx="2490840" cy="25146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6040" y="455616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Parasites internal devices 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CapteursABS1" descr=""/>
            <p:cNvPicPr/>
            <p:nvPr/>
          </p:nvPicPr>
          <p:blipFill>
            <a:blip r:embed="rId7"/>
            <a:srcRect l="26631" t="0" r="0" b="0"/>
            <a:stretch/>
          </p:blipFill>
          <p:spPr>
            <a:xfrm>
              <a:off x="2951280" y="4307040"/>
              <a:ext cx="1071360" cy="69516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723960" y="5365800"/>
            <a:ext cx="4924440" cy="1181160"/>
            <a:chOff x="723960" y="5365800"/>
            <a:chExt cx="4924440" cy="1181160"/>
          </a:xfrm>
        </p:grpSpPr>
        <p:pic>
          <p:nvPicPr>
            <p:cNvPr id="462" name="a380" descr=""/>
            <p:cNvPicPr/>
            <p:nvPr/>
          </p:nvPicPr>
          <p:blipFill>
            <a:blip r:embed="rId8"/>
            <a:stretch/>
          </p:blipFill>
          <p:spPr>
            <a:xfrm>
              <a:off x="4022640" y="5365800"/>
              <a:ext cx="1625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23960" y="556740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Similar EMC problems in aero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AAF-6809-43B6-B096-ECA6E840C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2209680"/>
            <a:ext cx="3962160" cy="3581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35812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45140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743200" y="38862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27432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35268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a34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4419720"/>
            <a:ext cx="281916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819520"/>
            <a:ext cx="2743200" cy="2819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5337" y="3053"/>
                </a:moveTo>
                <a:arcTo wR="-9479" hR="-9479" stAng="-7511435" swAng="-10571274"/>
                <a:lnTo>
                  <a:pt x="5177" y="1580"/>
                </a:lnTo>
                <a:arcTo wR="10800" hR="10800" stAng="-7282709" swAng="10571274"/>
                <a:lnTo>
                  <a:pt x="18580" y="21833"/>
                </a:lnTo>
                <a:lnTo>
                  <a:pt x="13897" y="21023"/>
                </a:lnTo>
                <a:lnTo>
                  <a:pt x="14707" y="1634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81680" y="5181480"/>
            <a:ext cx="685800" cy="6098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67280" y="5181480"/>
            <a:ext cx="838440" cy="6098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0" y="58672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24080" y="4648320"/>
            <a:ext cx="2971800" cy="167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9788" y="11358"/>
                </a:moveTo>
                <a:arcTo wR="-9005" hR="-9005" stAng="213151" swAng="-8853219"/>
                <a:lnTo>
                  <a:pt x="19538" y="17148"/>
                </a:lnTo>
                <a:arcTo wR="10800" hR="10800" stAng="2159932" swAng="8853219"/>
                <a:lnTo>
                  <a:pt x="-2674" y="9963"/>
                </a:lnTo>
                <a:lnTo>
                  <a:pt x="1139" y="6596"/>
                </a:lnTo>
                <a:lnTo>
                  <a:pt x="4507" y="104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52680" y="2819520"/>
            <a:ext cx="1676520" cy="2724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21600" h="21600">
                <a:moveTo>
                  <a:pt x="5937" y="18912"/>
                </a:moveTo>
                <a:arcTo wR="-9458" hR="-9458" stAng="7256329" swAng="-7262509"/>
                <a:lnTo>
                  <a:pt x="0" y="10819"/>
                </a:lnTo>
                <a:arcTo wR="10800" hR="10800" stAng="10793819" swAng="7262509"/>
                <a:lnTo>
                  <a:pt x="17741" y="-779"/>
                </a:lnTo>
                <a:lnTo>
                  <a:pt x="18899" y="3845"/>
                </a:lnTo>
                <a:lnTo>
                  <a:pt x="14274" y="500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9558200">
            <a:off x="3351240" y="5715000"/>
            <a:ext cx="1295640" cy="56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$$$$$$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4320" y="48006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35053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0c18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99280" y="6197760"/>
            <a:ext cx="1676160" cy="496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26668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05120" y="29718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D91-EB53-47EC-BF1E-CF09D9C4D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rcRect l="5756" t="0" r="4989" b="5128"/>
          <a:stretch/>
        </p:blipFill>
        <p:spPr>
          <a:xfrm>
            <a:off x="3581280" y="2590920"/>
            <a:ext cx="3124440" cy="2500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6905520" y="3336840"/>
            <a:ext cx="277200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s22" descr=""/>
          <p:cNvPicPr/>
          <p:nvPr/>
        </p:nvPicPr>
        <p:blipFill>
          <a:blip r:embed="rId3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8040" y="53172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typ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58200" y="5317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MC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65960" y="3632040"/>
            <a:ext cx="86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65960" y="3124080"/>
            <a:ext cx="40644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201080" y="1994040"/>
            <a:ext cx="571320" cy="79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808480" y="2424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21680" y="1627200"/>
            <a:ext cx="1523520" cy="928440"/>
            <a:chOff x="7321680" y="1627200"/>
            <a:chExt cx="1523520" cy="928440"/>
          </a:xfrm>
        </p:grpSpPr>
        <p:sp>
          <p:nvSpPr>
            <p:cNvPr id="499" name=""/>
            <p:cNvSpPr/>
            <p:nvPr/>
          </p:nvSpPr>
          <p:spPr>
            <a:xfrm>
              <a:off x="7321680" y="162720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21680" y="255564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21680" y="2026080"/>
              <a:ext cx="1320120" cy="39888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lnTo>
                    <a:pt x="288" y="0"/>
                  </a:lnTo>
                  <a:lnTo>
                    <a:pt x="480" y="144"/>
                  </a:lnTo>
                  <a:lnTo>
                    <a:pt x="624" y="144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7558200" y="2025360"/>
            <a:ext cx="0" cy="530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7724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931160" y="1770120"/>
            <a:ext cx="0" cy="768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81342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8337600" y="2425680"/>
            <a:ext cx="0" cy="1303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51800" y="162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4760" y="2756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77000" y="1627200"/>
            <a:ext cx="4572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03040" y="594360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Electromagnetic incompatibility found too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3F9-6633-42AB-BE2D-17E3410C8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2120" y="2333520"/>
            <a:ext cx="5638680" cy="4191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4120" y="4889520"/>
            <a:ext cx="3886200" cy="1523880"/>
            <a:chOff x="5334120" y="4889520"/>
            <a:chExt cx="3886200" cy="1523880"/>
          </a:xfrm>
        </p:grpSpPr>
        <p:sp>
          <p:nvSpPr>
            <p:cNvPr id="513" name=""/>
            <p:cNvSpPr/>
            <p:nvPr/>
          </p:nvSpPr>
          <p:spPr>
            <a:xfrm>
              <a:off x="6934320" y="4889520"/>
              <a:ext cx="2286000" cy="152388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39240" y="5499000"/>
              <a:ext cx="1676160" cy="685800"/>
            </a:xfrm>
            <a:prstGeom prst="flowChartAlternateProcess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MC compl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5943600" y="4965840"/>
              <a:ext cx="533520" cy="1752480"/>
            </a:xfrm>
            <a:prstGeom prst="downArrow">
              <a:avLst>
                <a:gd name="adj1" fmla="val 39889"/>
                <a:gd name="adj2" fmla="val 69132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09880" y="4432320"/>
            <a:ext cx="1828800" cy="1980720"/>
            <a:chOff x="3809880" y="4432320"/>
            <a:chExt cx="1828800" cy="1980720"/>
          </a:xfrm>
        </p:grpSpPr>
        <p:sp>
          <p:nvSpPr>
            <p:cNvPr id="517" name=""/>
            <p:cNvSpPr/>
            <p:nvPr/>
          </p:nvSpPr>
          <p:spPr>
            <a:xfrm>
              <a:off x="3809880" y="5026320"/>
              <a:ext cx="1828800" cy="1386720"/>
            </a:xfrm>
            <a:prstGeom prst="flowChartAlternateProcess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93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C Simul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omplianc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952880" y="4432320"/>
              <a:ext cx="380880" cy="5940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42000 h 594000"/>
                <a:gd name="textAreaBottom" fmla="*/ 509040 h 5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43040" y="5753160"/>
              <a:ext cx="609840" cy="32976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46060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33520" y="2612520"/>
            <a:ext cx="3276000" cy="1514880"/>
            <a:chOff x="533520" y="2612520"/>
            <a:chExt cx="3276000" cy="1514880"/>
          </a:xfrm>
        </p:grpSpPr>
        <p:sp>
          <p:nvSpPr>
            <p:cNvPr id="524" name=""/>
            <p:cNvSpPr/>
            <p:nvPr/>
          </p:nvSpPr>
          <p:spPr>
            <a:xfrm>
              <a:off x="2361960" y="3146040"/>
              <a:ext cx="144756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rchitectur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8280" y="3517560"/>
              <a:ext cx="18284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146040"/>
              <a:ext cx="137124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r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361960" y="2612160"/>
              <a:ext cx="380520" cy="685800"/>
            </a:xfrm>
            <a:custGeom>
              <a:avLst/>
              <a:gdLst>
                <a:gd name="textAreaLeft" fmla="*/ 126720 w 380520"/>
                <a:gd name="textAreaRight" fmla="*/ 326160 w 38052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308400" y="3441600"/>
            <a:ext cx="2711520" cy="1371600"/>
            <a:chOff x="3308400" y="3441600"/>
            <a:chExt cx="2711520" cy="1371600"/>
          </a:xfrm>
        </p:grpSpPr>
        <p:sp>
          <p:nvSpPr>
            <p:cNvPr id="529" name=""/>
            <p:cNvSpPr/>
            <p:nvPr/>
          </p:nvSpPr>
          <p:spPr>
            <a:xfrm>
              <a:off x="3308400" y="4127400"/>
              <a:ext cx="167652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 E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esign Archit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810240" y="3517200"/>
              <a:ext cx="380880" cy="6858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1120" y="3441600"/>
              <a:ext cx="182880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85840" y="3975120"/>
            <a:ext cx="2395080" cy="1523880"/>
            <a:chOff x="1185840" y="3975120"/>
            <a:chExt cx="2395080" cy="1523880"/>
          </a:xfrm>
        </p:grpSpPr>
        <p:sp>
          <p:nvSpPr>
            <p:cNvPr id="533" name=""/>
            <p:cNvSpPr/>
            <p:nvPr/>
          </p:nvSpPr>
          <p:spPr>
            <a:xfrm>
              <a:off x="1599840" y="4813200"/>
              <a:ext cx="1981080" cy="685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"/>
                </a:rPr>
                <a:t>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85840" y="4356000"/>
              <a:ext cx="1371240" cy="5335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2742840" y="3975120"/>
              <a:ext cx="380880" cy="838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46880 h 838080"/>
                <a:gd name="textAreaBottom" fmla="*/ 6080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37E-9021-4F4B-93B6-DF1DB244E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38:00Z</dcterms:created>
  <dc:creator>DGEI</dc:creator>
  <dc:description/>
  <dc:language>en-US</dc:language>
  <cp:lastModifiedBy>bobr</cp:lastModifiedBy>
  <cp:lastPrinted>2001-09-03T08:39:55Z</cp:lastPrinted>
  <dcterms:modified xsi:type="dcterms:W3CDTF">2002-01-21T23:57:43Z</dcterms:modified>
  <cp:revision>45</cp:revision>
  <dc:subject>EMC model for ICs</dc:subject>
  <dc:title>Aucun titre de diapositive</dc:title>
</cp:coreProperties>
</file>