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023-AF46-4D64-898B-B59BE6A0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C82-24FC-4C52-B735-9021D51E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849-B9E4-4BC4-A98B-F34B8E4E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26C-2743-4B90-AAD7-D680FCBB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62C-3591-462C-9D78-B12E12F4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6BC-EC4C-4DB0-8160-BE66817F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BE6-0B78-4BCE-ADE6-E350701C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82C3-6028-44E1-B431-F4F1A5E4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5C9-2DEB-4309-9779-A5DDA92D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0DA-6D61-47E9-BBE8-DB060A8C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C9F-7798-46FE-92E8-1ED285F6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3E2-65F5-4AAE-A5B7-9850706C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8ACC-66E0-41F3-8321-392C423D1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99072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106668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91440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38280" y="228600"/>
            <a:ext cx="613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ub-Committee Participant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4649400" y="1290600"/>
            <a:ext cx="2699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ulation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or Compa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 rot="18707400">
            <a:off x="328320" y="2642760"/>
            <a:ext cx="4092840" cy="93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necto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 rot="19380600">
            <a:off x="2247480" y="392436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necto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 rot="20416800">
            <a:off x="2999880" y="504324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necto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99072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106668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91440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38280" y="228600"/>
            <a:ext cx="613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ELAYS...???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/>
          <p:nvPr/>
        </p:nvSpPr>
        <p:spPr>
          <a:xfrm>
            <a:off x="903240" y="2440080"/>
            <a:ext cx="759636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LAYS!!!!  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llee left the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mited connector company participation (Outside of Mo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g DOCUMENT  (Little changes can cause BIG rewrite / review ti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liday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1752480"/>
            <a:ext cx="609624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Our g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porate changes requested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DAC PCBEast 2000 IBIS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syntax is not amb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syntax descriptions, grammar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ase the specification for vo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near DAC PCB East DesignCon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99072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106668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91440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14600" y="228600"/>
            <a:ext cx="601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has the editing committee been up to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90720" y="2666880"/>
            <a:ext cx="1039680" cy="1138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00200" y="2683440"/>
            <a:ext cx="1371600" cy="576000"/>
            <a:chOff x="1600200" y="2683440"/>
            <a:chExt cx="1371600" cy="576000"/>
          </a:xfrm>
        </p:grpSpPr>
        <p:sp>
          <p:nvSpPr>
            <p:cNvPr id="64" name=""/>
            <p:cNvSpPr/>
            <p:nvPr/>
          </p:nvSpPr>
          <p:spPr>
            <a:xfrm>
              <a:off x="1600200" y="2743200"/>
              <a:ext cx="137160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645200" y="2683440"/>
              <a:ext cx="1281600" cy="57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743200" y="4817160"/>
            <a:ext cx="1371600" cy="576000"/>
            <a:chOff x="2743200" y="4817160"/>
            <a:chExt cx="1371600" cy="576000"/>
          </a:xfrm>
        </p:grpSpPr>
        <p:sp>
          <p:nvSpPr>
            <p:cNvPr id="67" name=""/>
            <p:cNvSpPr/>
            <p:nvPr/>
          </p:nvSpPr>
          <p:spPr>
            <a:xfrm>
              <a:off x="2743200" y="4876920"/>
              <a:ext cx="137160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788200" y="4817160"/>
              <a:ext cx="1281600" cy="57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733920" y="4893840"/>
            <a:ext cx="1371600" cy="575640"/>
            <a:chOff x="3733920" y="4893840"/>
            <a:chExt cx="1371600" cy="575640"/>
          </a:xfrm>
        </p:grpSpPr>
        <p:sp>
          <p:nvSpPr>
            <p:cNvPr id="70" name=""/>
            <p:cNvSpPr/>
            <p:nvPr/>
          </p:nvSpPr>
          <p:spPr>
            <a:xfrm>
              <a:off x="3733920" y="4952880"/>
              <a:ext cx="1371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778920" y="4893840"/>
              <a:ext cx="1281600" cy="57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38280" y="99072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106668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91440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14600" y="228600"/>
            <a:ext cx="601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has the editing committee been up to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05120" y="2438280"/>
            <a:ext cx="6629400" cy="2394360"/>
            <a:chOff x="1905120" y="2438280"/>
            <a:chExt cx="6629400" cy="2394360"/>
          </a:xfrm>
        </p:grpSpPr>
        <p:sp>
          <p:nvSpPr>
            <p:cNvPr id="78" name=""/>
            <p:cNvSpPr/>
            <p:nvPr/>
          </p:nvSpPr>
          <p:spPr>
            <a:xfrm>
              <a:off x="2286000" y="2438280"/>
              <a:ext cx="6248520" cy="23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What has been done so far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hanges requested at the PCBEast 2000 IBIS meeting have been adde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veral areas of ambiguous syntax were identified and have been clarifie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veral pages of documentation have been added to improve description of keywords and syntax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1981440" y="3479400"/>
              <a:ext cx="3315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4"/>
            <a:stretch/>
          </p:blipFill>
          <p:spPr>
            <a:xfrm>
              <a:off x="1981440" y="2793600"/>
              <a:ext cx="331560" cy="487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1" name=""/>
            <p:cNvGraphicFramePr/>
            <p:nvPr/>
          </p:nvGraphicFramePr>
          <p:xfrm>
            <a:off x="1905120" y="4165200"/>
            <a:ext cx="331920" cy="487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5120" y="4165200"/>
                      <a:ext cx="33192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438280" y="228600"/>
            <a:ext cx="6172200" cy="838080"/>
            <a:chOff x="2438280" y="228600"/>
            <a:chExt cx="6172200" cy="838080"/>
          </a:xfrm>
        </p:grpSpPr>
        <p:sp>
          <p:nvSpPr>
            <p:cNvPr id="85" name=""/>
            <p:cNvSpPr/>
            <p:nvPr/>
          </p:nvSpPr>
          <p:spPr>
            <a:xfrm>
              <a:off x="2438280" y="990720"/>
              <a:ext cx="6172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38280" y="106668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8280" y="91440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2514600" y="228600"/>
              <a:ext cx="60199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What has the editing committee been up to?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219320" y="13716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e List for Spec or “Changes Document for the full list…   We plan to only cover MAJOR issues (Trust Us!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2057400"/>
            <a:ext cx="6188040" cy="46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ved Physical Map: Specification no longer attempts to define connector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W: PinMap_A and PinMap_B  WAS: PinMap_A and PinMap_B.  Why?    Which side is “in” on a connect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Redistribution]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Specific”  We now reference “Header section” for more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n_Number_of_Conductors, Cn_Number_of_Row, Cn_Number_of_Colum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olution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ed Max/Min Rows/Columns for [Cn_Begin_Auto_Map] case where EDA tool passes ROW/COLUMN into Ian's Code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romise: EDA tool can generate any sized matrix smaller or larger than spec'd.  But connector companies will be able to use this as max / min “catalog”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re detail on [Cn_Row_Swath], [Cn_Column_Swath] and edge definitions and us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438280" y="914400"/>
            <a:ext cx="6172200" cy="152280"/>
            <a:chOff x="2438280" y="914400"/>
            <a:chExt cx="6172200" cy="152280"/>
          </a:xfrm>
        </p:grpSpPr>
        <p:sp>
          <p:nvSpPr>
            <p:cNvPr id="93" name=""/>
            <p:cNvSpPr/>
            <p:nvPr/>
          </p:nvSpPr>
          <p:spPr>
            <a:xfrm>
              <a:off x="2438280" y="990720"/>
              <a:ext cx="6172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38280" y="106668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91440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 txBox="1"/>
          <p:nvPr/>
        </p:nvSpPr>
        <p:spPr>
          <a:xfrm>
            <a:off x="2514600" y="228600"/>
            <a:ext cx="601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has the editing committee been up to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1648440" y="2413080"/>
            <a:ext cx="675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thSoftText"/>
              </a:rPr>
              <a:t>Ian’s Auto Pin Numbering Code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thSoftText"/>
              </a:rPr>
              <a:t>Take it Away, Ian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1295280"/>
            <a:ext cx="457200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 hope to follow the IBIS-X header convent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ll probably track [Begin Header] [End Header] proposal of IBIS-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Source]  Is the required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es: To tie model to model creat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:  to Maintain compatibility with old IBI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Issue:  Use of "_' or " " to separate keyword descriptors,  For instanc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[Cn Column Swath]  or  [Cn_Column_Swath]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ill will need an editorial review while it is going through technical revie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.960 is uploaded, but it still needs some work.  (We are behind schedule (Holidays, Kellee leaving, some detailed technical issues and decisions such as Ian's code, interactions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705720" y="228600"/>
            <a:ext cx="1828800" cy="62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cussion?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438280" y="914400"/>
            <a:ext cx="6172200" cy="152280"/>
            <a:chOff x="2438280" y="914400"/>
            <a:chExt cx="6172200" cy="152280"/>
          </a:xfrm>
        </p:grpSpPr>
        <p:sp>
          <p:nvSpPr>
            <p:cNvPr id="102" name=""/>
            <p:cNvSpPr/>
            <p:nvPr/>
          </p:nvSpPr>
          <p:spPr>
            <a:xfrm>
              <a:off x="2438280" y="990720"/>
              <a:ext cx="6172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38280" y="106668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91440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38280" y="99072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106668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91440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38280" y="228600"/>
            <a:ext cx="2895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's Next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1407960" cy="1763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1676520"/>
            <a:ext cx="6324840" cy="43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Editing Committee Short Term Goa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ddress today’s com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al “format level” edit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lease the final document back to the IBIS open forum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IBIS open forum Short Term Goa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Vote to adopt the version 1.0 “ICM” specification before the new year JUNE.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sk for funds to create the golden parser to be used for syntax checking connector models. Initiate parser development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pdate the examples to support the final syntax and keyword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nsider a project to convert IBIS connector models “.ICM” to SPICE format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nsider a project to convert SPICE connector models to IBIS connector models “.ICM”  form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086240" y="3733920"/>
            <a:ext cx="914400" cy="304560"/>
            <a:chOff x="7086240" y="3733920"/>
            <a:chExt cx="914400" cy="304560"/>
          </a:xfrm>
        </p:grpSpPr>
        <p:sp>
          <p:nvSpPr>
            <p:cNvPr id="113" name=""/>
            <p:cNvSpPr/>
            <p:nvPr/>
          </p:nvSpPr>
          <p:spPr>
            <a:xfrm>
              <a:off x="7086600" y="3733920"/>
              <a:ext cx="914040" cy="30456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086240" y="3733920"/>
              <a:ext cx="914040" cy="30456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Augusto Panella</cp:lastModifiedBy>
  <cp:lastPrinted>2000-09-13T00:11:45Z</cp:lastPrinted>
  <dcterms:modified xsi:type="dcterms:W3CDTF">2001-01-24T17:40:21Z</dcterms:modified>
  <cp:revision>151</cp:revision>
  <dc:subject/>
  <dc:title>No Slide Title</dc:title>
</cp:coreProperties>
</file>