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1B41-CCFA-4BA6-954D-071506713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9DCB-087E-4465-A81D-0A71B8366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3EC5-0869-4ED7-B320-31F57929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9E7E-BB55-4087-894B-5724A31CA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E732-0B25-4048-8DC4-22BACFD92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0F2A-F69A-4840-8165-C89B38744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E915-1308-43E8-8F8C-920711239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036C-EF0C-4B5C-8A87-C740391E7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D54C-1E18-4F9E-8C8F-FBA86BB76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B19C-BD3B-4C4E-B08D-4170221A0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C7BA-29CD-4A57-B1AD-77D533104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2E57-1BFA-4BE1-974D-625DC904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1/20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1ECB81-5F0D-41C6-940C-1E55F28C7E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09680" y="1371600"/>
          <a:ext cx="57150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715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Interconnect Specification (ICM)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and Proposed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elly Green, Independent Contra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, Intel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Summit at Design Con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7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1839-FE3B-4B57-B0B3-B02F568AE4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 of Proposed Chan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 Proposed Changes in 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Editorial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mpact to functionality of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mmatical and spelling corre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keyword misuse in examp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consistent spelling: "Un-ordered“ vs. Un_ordered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Clar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stricter interpretation of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force consistent use of white space &amp; tab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force consistent use of “=“ with subparamet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w use of non-one denominator in SG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hanges to be considered only after Draft 1.0 approved by Open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51AF-0368-437D-B7A4-1A4068440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rser Overview &amp;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I C prototype in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issues with 1.0 specification EA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widely available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xical processor (FLEX) –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mar (YACC/BISON) –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analysis – NOT STA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ready operational at level of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ending approval of proposed changes, but expect golden code by M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ncumbered Open Source deli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tic Test Models 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2BD3-1D4F-4A6B-B159-C3289EEBE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rt-Term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to be presented to IBIS Futures Sub-committ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hange is numbered and can be considered and voted upon independ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likely in early February (shortly before IBIS Open Forum telecon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Open Foru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ocument, with changes, is pres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orum votes to approve or disappr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s: Feb. 14, March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550-E0E9-4C81-9B13-54F6617443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technical issues may be considered after Draft 1.0 is appr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ultiple types of data within a single [Begin ICM Model]/[End ICM Model] p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nclude S-paramet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frequency-dependence in matrix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Matrix parameters for 1 MHz, 100 MHz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ixed-mode S-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SDC12 vs. S12 – coupled pair insertion loss is described in terms of common-mode excitation and differential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: on-die interconnec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F8AE-CAFC-4417-8476-11BB4C50A4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&amp;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4F53-9BB8-4C45-BA04-8741B474D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3AE-6CE7-4BA6-A748-C8491C873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143000"/>
            <a:ext cx="7543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BIS ICM Model Ver] 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Name]           iconm_hdi_202.i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Rev]            1.0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ate]                January 20, 2003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ource]              Results from fiel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Notes]               This is a test model 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isclaimer]          This information is for model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purposes only, and is not guarant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pyright]           Copyright 2003, XYZ Corp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upport]             http://www.VendorNameIbisModel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]      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 Text] This file is freely redistribu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7EAA-813E-4AF8-9FD3-A18AAC72B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143000"/>
            <a:ext cx="754380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Family]    High_Speed_Inter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Manufacturer]        XYZ Incorpo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Family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square pin connector for use on IEEE 99999 bu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Li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Name                 Mating      Min_Slew_Ti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                 Mated          100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UnMatedA        Unmated_side_A 100ps  HDI_202_UnMatedA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SMT_to_Cable    Mated           25ps  HDI_TEST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SMT_to_ThruHole Mated           25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BCF7-65F8-4FF0-855E-827BB4CC48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0.1 center square pin with PCB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] MyModelExample3        | Has a stub for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Tree Path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MyModelPinMa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_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MyModelPinMa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08C6-2795-4259-A8B9-44AAA7AC7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143000"/>
            <a:ext cx="7543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Pin Map]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order = row_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columns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row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Pin 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1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2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3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4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1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2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3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4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Famil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4A02-5877-461B-B25A-30766407C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Changes in Draft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 Overview &amp;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Futures Sub-committee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Forum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technical improve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: Example Model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AF7E-8CA2-4563-8C81-4CB26C1CB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143000"/>
            <a:ext cx="75438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Section] ExampleMatrix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6.12191e-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     1.33807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7.35469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097A-1A63-40C4-A329-0B1BB273DC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The capacitance matrix has sparse coupl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apacitance Matrix] Sparse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2.48227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-1.56651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9.54158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-7.15684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2.51798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-1.56552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6.85199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 -9.0486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Section] ExampleMatrix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F8F0-22FD-4255-AF8B-7887D7230D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IC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= IBIS Interconnect Spec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: to establish a human-readable standard format for exchanging interconnect model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” can be connector, cable, PCB traces or even an IC pack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s designed to b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&amp; easily parsed b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le with current means of represent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-paramet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L, G &amp; C matric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ths,” trees, node lis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-like (keyword-driv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AC38-677F-4C6D-BEF5-5D3B3FFF61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His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concept developed from 1995 - 199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lee Crisafulli, Hyperl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o (Gus) Panella, Mo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through IBIS Connector Sub-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 0.31 issued in Jan.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d in Jan. 1999 IBIS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from connectors to interconnects be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 0.92 issued in Nov.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s 0.93 - 0.99901 issued 2000 -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“Argument,” Even &amp; Odd Mode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Swath trea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1.0 released Sept. 19,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13AB-4CE2-4F33-90E0-74632F217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Begin Header] &amp; [End Header]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.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name &amp; Re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, Notes, Disclaimer &amp; Copy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model “family” o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of models in the “famil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E4E1-5E99-4D6C-A604-1C20822EC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Model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 (SLM, S-parameter, MLM_*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-to-ground ratio &amp; (optionally) reference 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s groups of signals through cascaded “sections” of mod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d to describe one-to-one connections between sections and ports or endpoints of the interconn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“forks” with same number of condu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s sections of model data through input &amp; output nodes per 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s need not be one-to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ws internal “dangling nodes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at Nodal and Tree Path Descriptio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mutually exclu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EE6F-9F4A-46C9-8698-888677EC8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ICM Constr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Pin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s connector pins to Tree Path Descri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Node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s connector pins to Nodal Path Descri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block for model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s in RLGC matrix or s-parameter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rices include self-inductance, capacitance, conductance, loss, etc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ilar format to IBIS package model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ection is referenced by at least one Tree or Nodal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AE2F-010C-420E-822E-638699B3B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Sw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minimal, economical description to be used for larger connectors or interconn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electrical parameter matrices can be repeatedly mapped over a larger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the [ICM Swath Description] and [ICM Swath Pin Numbers]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mple ICM model is included in Back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ta is taken from ICM specification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59DD-04E7-49E6-93EB-4AB2058B7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for Changes in Draft 1.0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1.0 text needs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readability &amp;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mall errors have survived revis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riting style of several sections may produce confusion in re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ase software par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ructures are defined in an ambiguous way and create a risk of conflicting “interpretations” by individual vendor software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tructures are not compliant with the Lex/YACC format used as the standard for creating compilers and par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BA0E-04C5-4C63-9CB2-6AD60A83A5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 &amp; Quoc B. Le</dc:creator>
  <dc:description/>
  <dc:language>en-US</dc:language>
  <cp:lastModifiedBy>Bob Ross</cp:lastModifiedBy>
  <cp:lastPrinted>1998-11-04T21:31:56Z</cp:lastPrinted>
  <dcterms:modified xsi:type="dcterms:W3CDTF">2003-02-03T18:29:30Z</dcterms:modified>
  <cp:revision>472</cp:revision>
  <dc:subject>Trace Routing Analysis</dc:subject>
  <dc:title>Serial ATA Initial Layout Simulation Results</dc:title>
</cp:coreProperties>
</file>