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761-DC1B-4664-89DB-79A82608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F0F-1AF6-43B9-BF92-E54B77E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2F4-EFB8-47C6-B71E-D9B116F1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B2B-B144-4399-9E5D-EF4D71B8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AAB-7B0E-414E-BB07-09F08785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13F-129C-47C3-806B-1A4ED3E1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E9A-7D10-4A49-A704-78524765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07F-2E54-4C2E-95B1-F23FB28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280-68A0-4C84-A307-BC7D93B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457-87ED-478F-AE30-4A1F6C7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7E0-36FC-49B0-9534-3310F07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877-0F8B-436A-B1F8-CA57E82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2D6D-99BF-4197-BD33-F62EC28A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2640" y="24224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7940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71120" y="1692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2640" y="2239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82640" y="2057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82640" y="187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79400" y="429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71120" y="48466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79400" y="4664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79400" y="4481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480" y="32076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Flip Chip Plastic Ball Grid Arra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C-PB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9800" y="4983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A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2280" y="1417680"/>
            <a:ext cx="4572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2697120"/>
            <a:ext cx="5486400" cy="146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874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60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8360" y="251460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78360" y="416088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2697120"/>
            <a:ext cx="730080" cy="146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19348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461772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1874880"/>
            <a:ext cx="2057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1874880"/>
            <a:ext cx="365040" cy="318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35560" y="1874520"/>
            <a:ext cx="287964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205740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08240" y="4937040"/>
            <a:ext cx="292752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432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39920"/>
            <a:ext cx="365040" cy="274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434340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66416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26971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6049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1640" y="29718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368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080" y="3207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&amp; Differential Str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259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337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656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452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1:25:29Z</dcterms:created>
  <dc:creator>Greg Edlund</dc:creator>
  <dc:description/>
  <dc:language>en-US</dc:language>
  <cp:lastModifiedBy>Greg Edlund</cp:lastModifiedBy>
  <dcterms:modified xsi:type="dcterms:W3CDTF">2012-09-04T16:05:34Z</dcterms:modified>
  <cp:revision>195</cp:revision>
  <dc:subject/>
  <dc:title>Slide 1</dc:title>
</cp:coreProperties>
</file>