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2EF-4C31-4D3D-B791-EFEA9002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2C88-58F3-4C93-8D46-71DCA0C4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96F-44DF-451F-A529-F79FC50B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2CB-7126-4B7C-A46B-D1C063D8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291-7677-4812-A574-5C67B725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48F-E061-4670-B3B2-8D3E68E0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7F3-6461-4BA5-8531-B23B5DF6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A3C-B32C-4C9B-99F0-28871829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553-B740-43F2-B6D1-DC16A5F6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74A-3D01-4560-A956-BA1ECF4E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F53-013C-4180-8776-F1406AC2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A57-6205-4609-AE0E-5B11F5E5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9B24-A454-4C29-8D46-3EAEB4D4A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2640" y="24224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79400" y="4114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71120" y="1692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82640" y="22399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82640" y="20574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82640" y="18748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79400" y="42973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71120" y="48466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79400" y="466416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79400" y="448164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39480" y="320760"/>
            <a:ext cx="67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Flip Chip Plastic Ball Grid Array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C-PB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9800" y="4983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A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32280" y="1417680"/>
            <a:ext cx="45720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2697120"/>
            <a:ext cx="5486400" cy="1463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1874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60880"/>
            <a:ext cx="5486400" cy="82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51460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160880"/>
            <a:ext cx="182880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78360" y="251460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78360" y="4160880"/>
            <a:ext cx="1187280" cy="182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06960" y="2697120"/>
            <a:ext cx="730080" cy="1463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19348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828800" y="4617720"/>
            <a:ext cx="5486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828800" y="1874880"/>
            <a:ext cx="2057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78360" y="1874880"/>
            <a:ext cx="365040" cy="318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435560" y="1874520"/>
            <a:ext cx="287964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43200" y="205740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108240" y="4937040"/>
            <a:ext cx="292752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4937040"/>
            <a:ext cx="91440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7432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971800" y="2376360"/>
            <a:ext cx="92160" cy="46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239920"/>
            <a:ext cx="365040" cy="274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434340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4664160"/>
            <a:ext cx="365040" cy="272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26971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26049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81640" y="29718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3368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08080" y="320760"/>
            <a:ext cx="51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&amp; Differential Str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525920"/>
            <a:ext cx="73152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43376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0696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5165640"/>
            <a:ext cx="731520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54520" y="4800600"/>
            <a:ext cx="182520" cy="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21:25:29Z</dcterms:created>
  <dc:creator>Greg Edlund</dc:creator>
  <dc:description/>
  <dc:language>en-US</dc:language>
  <cp:lastModifiedBy>Greg Edlund</cp:lastModifiedBy>
  <dcterms:modified xsi:type="dcterms:W3CDTF">2012-09-04T16:05:34Z</dcterms:modified>
  <cp:revision>195</cp:revision>
  <dc:subject/>
  <dc:title>Slide 1</dc:title>
</cp:coreProperties>
</file>