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82375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60" y="3729600"/>
            <a:ext cx="82375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20132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760" y="372960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372960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26521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720" y="1201320"/>
            <a:ext cx="26521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6040" y="1201320"/>
            <a:ext cx="26521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760" y="3729600"/>
            <a:ext cx="26521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720" y="3729600"/>
            <a:ext cx="26521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6040" y="3729600"/>
            <a:ext cx="26521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201320"/>
            <a:ext cx="8237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8237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401976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201320"/>
            <a:ext cx="401976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158400"/>
            <a:ext cx="82375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201320"/>
            <a:ext cx="401976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72960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760" y="1201320"/>
            <a:ext cx="8237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401976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20132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372960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20132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729600"/>
            <a:ext cx="82375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82375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729600"/>
            <a:ext cx="82375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20132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72960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372960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26521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720" y="1201320"/>
            <a:ext cx="26521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040" y="1201320"/>
            <a:ext cx="26521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729600"/>
            <a:ext cx="26521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720" y="3729600"/>
            <a:ext cx="26521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040" y="3729600"/>
            <a:ext cx="26521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8237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401976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201320"/>
            <a:ext cx="401976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158400"/>
            <a:ext cx="82375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201320"/>
            <a:ext cx="401976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760" y="372960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401976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20132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372960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20132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760" y="3729600"/>
            <a:ext cx="82375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01320"/>
            <a:ext cx="8237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392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65400" indent="-23652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660680" indent="-2350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660680" indent="-2350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660680" indent="-2350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6273720"/>
            <a:ext cx="39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E37F-6211-44D0-A272-3AAC772BEDD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73720"/>
            <a:ext cx="39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9B10-A4B0-48C2-B8B7-29FA9F4884E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690640" y="655272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*Other names and brands may be claimed as the property of othe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22920" y="431640"/>
            <a:ext cx="1965600" cy="1270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273720"/>
            <a:ext cx="39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54FB-AD87-42C5-AF7A-0267436032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273720"/>
            <a:ext cx="39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9D54-88EC-4420-9745-3A8DEF4585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47680" indent="4428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573120" indent="455760" algn="ctr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727200" indent="698400" algn="ctr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727200" indent="6984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727200" indent="6984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00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60a8"/>
                </a:solidFill>
                <a:latin typeface="Verdana"/>
              </a:rPr>
              <a:t>The Presentation That Arpad Forgot </a:t>
            </a:r>
            <a:endParaRPr b="1" lang="en-US" sz="3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8716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chael Mirm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l Cor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tember 30,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520" y="11412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Results of Crude C_comp Accounting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18960" y="628560"/>
            <a:ext cx="8197920" cy="55152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397400" y="2687760"/>
            <a:ext cx="1847880" cy="11206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430960" y="3629160"/>
            <a:ext cx="888840" cy="203040"/>
          </a:xfrm>
          <a:prstGeom prst="ellipse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1824120" y="746280"/>
            <a:ext cx="6006960" cy="660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ransistor vs. Combination IBIS into Rloa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4030560" y="3875040"/>
            <a:ext cx="261000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_comp =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8p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83680" y="1191960"/>
            <a:ext cx="40417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Proposed Fix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47240" y="742680"/>
            <a:ext cx="72644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Verdana"/>
              </a:rPr>
              <a:t>Method 2: Adjust all V-t curves for the 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total</a:t>
            </a:r>
            <a:r>
              <a:rPr b="0" lang="en-US" sz="2000" spc="-1" strike="noStrike">
                <a:solidFill>
                  <a:srgbClr val="00cc66"/>
                </a:solidFill>
                <a:latin typeface="Verdana"/>
              </a:rPr>
              <a:t> C_comp value before using the models for simu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Verdana"/>
              </a:rPr>
              <a:t>Each V-t curve reflects </a:t>
            </a:r>
            <a:r>
              <a:rPr b="0" i="1" lang="en-US" sz="1800" spc="-1" strike="noStrike">
                <a:solidFill>
                  <a:srgbClr val="ff3300"/>
                </a:solidFill>
                <a:latin typeface="Verdana"/>
              </a:rPr>
              <a:t>total</a:t>
            </a:r>
            <a:r>
              <a:rPr b="0" i="1" lang="en-US" sz="1800" spc="-1" strike="noStrike">
                <a:solidFill>
                  <a:srgbClr val="0000ff"/>
                </a:solidFill>
                <a:latin typeface="Verdana"/>
              </a:rPr>
              <a:t> C_comp lo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Verdana"/>
              </a:rPr>
              <a:t>Adjust each curve (Main, Boost) for </a:t>
            </a:r>
            <a:r>
              <a:rPr b="0" i="1" lang="en-US" sz="1800" spc="-1" strike="noStrike">
                <a:solidFill>
                  <a:srgbClr val="ff3300"/>
                </a:solidFill>
                <a:latin typeface="Verdana"/>
              </a:rPr>
              <a:t>total </a:t>
            </a:r>
            <a:r>
              <a:rPr b="0" i="1" lang="en-US" sz="1800" spc="-1" strike="noStrike">
                <a:solidFill>
                  <a:srgbClr val="0000ff"/>
                </a:solidFill>
                <a:latin typeface="Verdana"/>
              </a:rPr>
              <a:t>C_com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Verdana"/>
              </a:rPr>
              <a:t>Set IBIS C_comp for Main, Boost to 0 p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Verdana"/>
              </a:rPr>
              <a:t>Add external cap equal to original </a:t>
            </a:r>
            <a:r>
              <a:rPr b="0" i="1" lang="en-US" sz="1800" spc="-1" strike="noStrike">
                <a:solidFill>
                  <a:srgbClr val="ff3300"/>
                </a:solidFill>
                <a:latin typeface="Verdana"/>
              </a:rPr>
              <a:t>total</a:t>
            </a:r>
            <a:r>
              <a:rPr b="0" i="1" lang="en-US" sz="1800" spc="-1" strike="noStrike">
                <a:solidFill>
                  <a:srgbClr val="0000ff"/>
                </a:solidFill>
                <a:latin typeface="Verdana"/>
              </a:rPr>
              <a:t> C_com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87360" y="3267000"/>
            <a:ext cx="3327480" cy="17668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728640" y="4773600"/>
            <a:ext cx="8015400" cy="674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988200" y="5510160"/>
            <a:ext cx="368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cc00"/>
                </a:solidFill>
                <a:latin typeface="Arial Black"/>
              </a:rPr>
              <a:t>images and equations from A. Murany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2378160" y="3343320"/>
            <a:ext cx="558720" cy="342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3078360" y="3166920"/>
            <a:ext cx="11696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Vwfm_pu (V-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3857040" y="3598920"/>
            <a:ext cx="66096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Vfx_p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ix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254400" y="3851280"/>
            <a:ext cx="495360" cy="139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5557680" y="3182760"/>
            <a:ext cx="2423880" cy="106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urrent through fix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s function of curren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rough pullup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rough die ca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1434960" y="4067280"/>
            <a:ext cx="17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1434960" y="4133880"/>
            <a:ext cx="17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1521000" y="3895560"/>
            <a:ext cx="0" cy="17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1521000" y="4143240"/>
            <a:ext cx="468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1427040" y="4329000"/>
            <a:ext cx="200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>
            <a:off x="1460520" y="436572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1494000" y="4402080"/>
            <a:ext cx="6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1514520" y="3889440"/>
            <a:ext cx="67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nother New Approach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280" y="837720"/>
            <a:ext cx="789948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First C_comp adjustment attempt made two assump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0099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66"/>
                </a:solidFill>
                <a:latin typeface="Verdana"/>
              </a:rPr>
              <a:t>Differential buffers can be “split” in tw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0099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66"/>
                </a:solidFill>
                <a:latin typeface="Verdana"/>
              </a:rPr>
              <a:t>Each can be modeled adequately with a single C_com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Additional data calls at least one assumption into ques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Single C_comp does not permit frequency depend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A differential component appears at some frequenc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Proposal: Stay in AC Domain for C_comp Measur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Attempt to match AC behavior of simulation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Once model correlates in frequency of interest, add data into IBIS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00"/>
              </a:spcBef>
              <a:buClr>
                <a:srgbClr val="00996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66"/>
                </a:solidFill>
                <a:latin typeface="Verdana"/>
              </a:rPr>
              <a:t>This may stretch IBIS 3.2/4.0 beyond available keywor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Our Target Behavior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61920" y="82872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136520" y="866880"/>
            <a:ext cx="6737040" cy="5040000"/>
            <a:chOff x="1136520" y="866880"/>
            <a:chExt cx="6737040" cy="504000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1136520" y="866880"/>
              <a:ext cx="6737040" cy="50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flipV="1">
              <a:off x="5022360" y="5181840"/>
              <a:ext cx="2208240" cy="61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1820520" y="5004000"/>
              <a:ext cx="1690920" cy="71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66680" y="5373720"/>
              <a:ext cx="18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16280" y="53974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51560" y="5373720"/>
              <a:ext cx="18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16920" y="530244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Hz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97680" y="1779480"/>
              <a:ext cx="0" cy="307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13200" y="1343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1" name=""/>
          <p:cNvSpPr/>
          <p:nvPr/>
        </p:nvSpPr>
        <p:spPr>
          <a:xfrm flipH="1">
            <a:off x="4669920" y="1133640"/>
            <a:ext cx="1359000" cy="50796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6067080" y="3521160"/>
            <a:ext cx="1359000" cy="50796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6149880" y="947880"/>
            <a:ext cx="1162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~ 14-15 p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7248240" y="3119400"/>
            <a:ext cx="930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~ 5-7 p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766800" y="4935600"/>
            <a:ext cx="752400" cy="8240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L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a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ilter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187280" y="1195560"/>
            <a:ext cx="7378920" cy="4732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Recall L. Giacotto’s Slides…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53720" y="743040"/>
            <a:ext cx="78994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2002: Luca Giacotto presented twice on buffer impedance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starting with observations by A. Murany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0" y="1789200"/>
            <a:ext cx="3225960" cy="1900080"/>
            <a:chOff x="0" y="1789200"/>
            <a:chExt cx="3225960" cy="1900080"/>
          </a:xfrm>
        </p:grpSpPr>
        <p:sp>
          <p:nvSpPr>
            <p:cNvPr id="320" name=""/>
            <p:cNvSpPr/>
            <p:nvPr/>
          </p:nvSpPr>
          <p:spPr>
            <a:xfrm>
              <a:off x="1244520" y="2724120"/>
              <a:ext cx="1981440" cy="965160"/>
            </a:xfrm>
            <a:prstGeom prst="ellipse">
              <a:avLst/>
            </a:prstGeom>
            <a:noFill/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0240" y="2444760"/>
              <a:ext cx="584280" cy="49536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1789200"/>
              <a:ext cx="157464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Two caps,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two resistors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3480" y="0"/>
            <a:ext cx="75452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Original Giacotto-Muranyi C_comp Model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6357960" y="1673280"/>
            <a:ext cx="280800" cy="28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3313080" y="1814400"/>
            <a:ext cx="305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1568520" y="181296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554120" y="1817280"/>
            <a:ext cx="0" cy="4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622760" y="1812600"/>
            <a:ext cx="0" cy="4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6202440" y="1258920"/>
            <a:ext cx="56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341000" y="3387240"/>
            <a:ext cx="345960" cy="592560"/>
            <a:chOff x="1341000" y="3387240"/>
            <a:chExt cx="345960" cy="592560"/>
          </a:xfrm>
        </p:grpSpPr>
        <p:sp>
          <p:nvSpPr>
            <p:cNvPr id="331" name=""/>
            <p:cNvSpPr/>
            <p:nvPr/>
          </p:nvSpPr>
          <p:spPr>
            <a:xfrm flipV="1">
              <a:off x="1514160" y="338724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1341000" y="385128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391760" y="391464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437840" y="39798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786280" y="2846520"/>
            <a:ext cx="468360" cy="93600"/>
            <a:chOff x="5786280" y="2846520"/>
            <a:chExt cx="468360" cy="93600"/>
          </a:xfrm>
        </p:grpSpPr>
        <p:sp>
          <p:nvSpPr>
            <p:cNvPr id="336" name=""/>
            <p:cNvSpPr/>
            <p:nvPr/>
          </p:nvSpPr>
          <p:spPr>
            <a:xfrm>
              <a:off x="5786280" y="29401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86280" y="28465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28680" y="101916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6016680" y="1832040"/>
            <a:ext cx="0" cy="10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5838480" y="3376080"/>
            <a:ext cx="345960" cy="592560"/>
            <a:chOff x="5838480" y="3376080"/>
            <a:chExt cx="345960" cy="592560"/>
          </a:xfrm>
        </p:grpSpPr>
        <p:sp>
          <p:nvSpPr>
            <p:cNvPr id="341" name=""/>
            <p:cNvSpPr/>
            <p:nvPr/>
          </p:nvSpPr>
          <p:spPr>
            <a:xfrm flipV="1">
              <a:off x="6011640" y="337608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838480" y="384012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5889240" y="390348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5935320" y="39686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014880" y="296388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6379560" y="2630520"/>
            <a:ext cx="14821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7p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354560" y="3963960"/>
            <a:ext cx="468360" cy="93600"/>
            <a:chOff x="4354560" y="3963960"/>
            <a:chExt cx="468360" cy="93600"/>
          </a:xfrm>
        </p:grpSpPr>
        <p:sp>
          <p:nvSpPr>
            <p:cNvPr id="348" name=""/>
            <p:cNvSpPr/>
            <p:nvPr/>
          </p:nvSpPr>
          <p:spPr>
            <a:xfrm>
              <a:off x="4354560" y="405756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54560" y="396396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393800" y="4506480"/>
            <a:ext cx="345960" cy="592560"/>
            <a:chOff x="4393800" y="4506480"/>
            <a:chExt cx="345960" cy="592560"/>
          </a:xfrm>
        </p:grpSpPr>
        <p:sp>
          <p:nvSpPr>
            <p:cNvPr id="351" name=""/>
            <p:cNvSpPr/>
            <p:nvPr/>
          </p:nvSpPr>
          <p:spPr>
            <a:xfrm flipV="1">
              <a:off x="4566960" y="450648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4393800" y="497052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4444560" y="503388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4490640" y="50990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4570560" y="408132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2880360" y="3865680"/>
            <a:ext cx="14317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8.3p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259160" y="2268360"/>
            <a:ext cx="352080" cy="1090440"/>
            <a:chOff x="4259160" y="2268360"/>
            <a:chExt cx="352080" cy="1090440"/>
          </a:xfrm>
        </p:grpSpPr>
        <p:sp>
          <p:nvSpPr>
            <p:cNvPr id="358" name=""/>
            <p:cNvSpPr/>
            <p:nvPr/>
          </p:nvSpPr>
          <p:spPr>
            <a:xfrm flipH="1">
              <a:off x="4289040" y="226836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4287600" y="244584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4286160" y="2627280"/>
              <a:ext cx="32256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4284360" y="280512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4260600" y="300024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flipV="1">
              <a:off x="4259160" y="3177720"/>
              <a:ext cx="32256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1192320" y="2292480"/>
            <a:ext cx="352080" cy="1090080"/>
            <a:chOff x="1192320" y="2292480"/>
            <a:chExt cx="352080" cy="1090080"/>
          </a:xfrm>
        </p:grpSpPr>
        <p:sp>
          <p:nvSpPr>
            <p:cNvPr id="365" name=""/>
            <p:cNvSpPr/>
            <p:nvPr/>
          </p:nvSpPr>
          <p:spPr>
            <a:xfrm flipH="1">
              <a:off x="1222200" y="229248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 flipV="1">
              <a:off x="1220760" y="246996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1219320" y="2651040"/>
              <a:ext cx="32256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1217520" y="2828520"/>
              <a:ext cx="3222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1193760" y="302400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1192320" y="3201840"/>
              <a:ext cx="32256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4570560" y="336060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1546560" y="2550960"/>
            <a:ext cx="88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>
            <a:off x="3308760" y="2625840"/>
            <a:ext cx="628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1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1674720" y="3184560"/>
            <a:ext cx="438120" cy="1763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1619640" y="4959360"/>
            <a:ext cx="1486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iz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V Cu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898560" y="843120"/>
            <a:ext cx="2812680" cy="824040"/>
          </a:xfrm>
          <a:prstGeom prst="rect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ne side of our different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uffer (built-in pulldown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urrent source is AC high-Z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5505480" y="4132440"/>
            <a:ext cx="2696760" cy="824040"/>
          </a:xfrm>
          <a:prstGeom prst="rect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ear DC, only 45 </a:t>
            </a:r>
            <a:r>
              <a:rPr b="0" lang="el-GR" sz="1600" spc="-1" strike="noStrike">
                <a:solidFill>
                  <a:srgbClr val="000000"/>
                </a:solidFill>
                <a:latin typeface="Arial Black"/>
              </a:rPr>
              <a:t>Ω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 low AC, caps look mor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ike ~ 14 p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>
            <a:off x="5637240" y="5059440"/>
            <a:ext cx="2428560" cy="824040"/>
          </a:xfrm>
          <a:prstGeom prst="rect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 of R1 depends 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equency of drop 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pacitance to ~ 7 p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0760" y="177480"/>
            <a:ext cx="823788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Model vs. AC Analysis of Buffer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0" y="753840"/>
            <a:ext cx="8237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01560" y="574560"/>
            <a:ext cx="8086680" cy="5619600"/>
            <a:chOff x="601560" y="574560"/>
            <a:chExt cx="8086680" cy="5619600"/>
          </a:xfrm>
        </p:grpSpPr>
        <p:pic>
          <p:nvPicPr>
            <p:cNvPr id="382" name="" descr=""/>
            <p:cNvPicPr/>
            <p:nvPr/>
          </p:nvPicPr>
          <p:blipFill>
            <a:blip r:embed="rId1"/>
            <a:stretch/>
          </p:blipFill>
          <p:spPr>
            <a:xfrm>
              <a:off x="601560" y="574560"/>
              <a:ext cx="8086680" cy="56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5443560" y="4451760"/>
              <a:ext cx="1160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istor model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4" name=""/>
          <p:cNvSpPr/>
          <p:nvPr/>
        </p:nvSpPr>
        <p:spPr>
          <a:xfrm flipH="1">
            <a:off x="5958000" y="4530600"/>
            <a:ext cx="1358640" cy="50796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"/>
          <p:cNvSpPr/>
          <p:nvPr/>
        </p:nvSpPr>
        <p:spPr>
          <a:xfrm>
            <a:off x="844560" y="789120"/>
            <a:ext cx="1924200" cy="337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gnoring voltage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93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Modified G-M Model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7" name=""/>
          <p:cNvSpPr/>
          <p:nvPr/>
        </p:nvSpPr>
        <p:spPr>
          <a:xfrm>
            <a:off x="5972040" y="1441440"/>
            <a:ext cx="281160" cy="28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"/>
          <p:cNvSpPr/>
          <p:nvPr/>
        </p:nvSpPr>
        <p:spPr>
          <a:xfrm>
            <a:off x="2927520" y="1582560"/>
            <a:ext cx="30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"/>
          <p:cNvSpPr/>
          <p:nvPr/>
        </p:nvSpPr>
        <p:spPr>
          <a:xfrm>
            <a:off x="1182600" y="158112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1168560" y="1585440"/>
            <a:ext cx="0" cy="4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2602080" y="1568520"/>
            <a:ext cx="0" cy="417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5783400" y="963720"/>
            <a:ext cx="56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955440" y="3156120"/>
            <a:ext cx="345960" cy="591840"/>
            <a:chOff x="955440" y="3156120"/>
            <a:chExt cx="345960" cy="591840"/>
          </a:xfrm>
        </p:grpSpPr>
        <p:sp>
          <p:nvSpPr>
            <p:cNvPr id="394" name=""/>
            <p:cNvSpPr/>
            <p:nvPr/>
          </p:nvSpPr>
          <p:spPr>
            <a:xfrm flipV="1">
              <a:off x="1128600" y="3156120"/>
              <a:ext cx="0" cy="46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955440" y="361944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1006200" y="368280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1052280" y="37479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400720" y="2614680"/>
            <a:ext cx="468360" cy="93600"/>
            <a:chOff x="5400720" y="2614680"/>
            <a:chExt cx="468360" cy="93600"/>
          </a:xfrm>
        </p:grpSpPr>
        <p:sp>
          <p:nvSpPr>
            <p:cNvPr id="399" name=""/>
            <p:cNvSpPr/>
            <p:nvPr/>
          </p:nvSpPr>
          <p:spPr>
            <a:xfrm>
              <a:off x="5400720" y="270828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400720" y="261468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76040" y="95256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"/>
          <p:cNvSpPr/>
          <p:nvPr/>
        </p:nvSpPr>
        <p:spPr>
          <a:xfrm>
            <a:off x="5630760" y="1600200"/>
            <a:ext cx="0" cy="10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452560" y="3144960"/>
            <a:ext cx="345960" cy="591840"/>
            <a:chOff x="5452560" y="3144960"/>
            <a:chExt cx="345960" cy="591840"/>
          </a:xfrm>
        </p:grpSpPr>
        <p:sp>
          <p:nvSpPr>
            <p:cNvPr id="404" name=""/>
            <p:cNvSpPr/>
            <p:nvPr/>
          </p:nvSpPr>
          <p:spPr>
            <a:xfrm flipV="1">
              <a:off x="5625720" y="3144960"/>
              <a:ext cx="0" cy="46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5452560" y="360828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5503320" y="367164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549400" y="37368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5629320" y="273204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"/>
          <p:cNvSpPr/>
          <p:nvPr/>
        </p:nvSpPr>
        <p:spPr>
          <a:xfrm>
            <a:off x="5993640" y="2398680"/>
            <a:ext cx="12963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3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2333520" y="3668760"/>
            <a:ext cx="468360" cy="93600"/>
            <a:chOff x="2333520" y="3668760"/>
            <a:chExt cx="468360" cy="93600"/>
          </a:xfrm>
        </p:grpSpPr>
        <p:sp>
          <p:nvSpPr>
            <p:cNvPr id="411" name=""/>
            <p:cNvSpPr/>
            <p:nvPr/>
          </p:nvSpPr>
          <p:spPr>
            <a:xfrm>
              <a:off x="2333520" y="376236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33520" y="366876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2373120" y="4198680"/>
            <a:ext cx="345960" cy="592560"/>
            <a:chOff x="2373120" y="4198680"/>
            <a:chExt cx="345960" cy="592560"/>
          </a:xfrm>
        </p:grpSpPr>
        <p:sp>
          <p:nvSpPr>
            <p:cNvPr id="414" name=""/>
            <p:cNvSpPr/>
            <p:nvPr/>
          </p:nvSpPr>
          <p:spPr>
            <a:xfrm flipV="1">
              <a:off x="2546280" y="419868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373120" y="466272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423880" y="472608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469960" y="47912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2549520" y="378612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"/>
          <p:cNvSpPr/>
          <p:nvPr/>
        </p:nvSpPr>
        <p:spPr>
          <a:xfrm>
            <a:off x="2713680" y="3608280"/>
            <a:ext cx="12459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8.3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238480" y="1973160"/>
            <a:ext cx="352080" cy="1090440"/>
            <a:chOff x="2238480" y="1973160"/>
            <a:chExt cx="352080" cy="1090440"/>
          </a:xfrm>
        </p:grpSpPr>
        <p:sp>
          <p:nvSpPr>
            <p:cNvPr id="421" name=""/>
            <p:cNvSpPr/>
            <p:nvPr/>
          </p:nvSpPr>
          <p:spPr>
            <a:xfrm flipH="1">
              <a:off x="2268360" y="197316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2266920" y="215064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2265480" y="2332080"/>
              <a:ext cx="32256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flipV="1">
              <a:off x="2263680" y="250992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2239920" y="270504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 flipV="1">
              <a:off x="2238480" y="2882520"/>
              <a:ext cx="32256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806400" y="2060640"/>
            <a:ext cx="352080" cy="1090080"/>
            <a:chOff x="806400" y="2060640"/>
            <a:chExt cx="352080" cy="1090080"/>
          </a:xfrm>
        </p:grpSpPr>
        <p:sp>
          <p:nvSpPr>
            <p:cNvPr id="428" name=""/>
            <p:cNvSpPr/>
            <p:nvPr/>
          </p:nvSpPr>
          <p:spPr>
            <a:xfrm flipH="1">
              <a:off x="836280" y="206064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834840" y="223812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833400" y="2419200"/>
              <a:ext cx="32256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831600" y="2596680"/>
              <a:ext cx="3222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807840" y="279216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>
              <a:off x="806400" y="2970000"/>
              <a:ext cx="32256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2549520" y="306540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>
            <a:off x="1161000" y="2319480"/>
            <a:ext cx="88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2626200" y="2239920"/>
            <a:ext cx="55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467240" y="1579320"/>
            <a:ext cx="0" cy="4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99040" y="3730680"/>
            <a:ext cx="468360" cy="93600"/>
            <a:chOff x="4199040" y="3730680"/>
            <a:chExt cx="468360" cy="93600"/>
          </a:xfrm>
        </p:grpSpPr>
        <p:sp>
          <p:nvSpPr>
            <p:cNvPr id="439" name=""/>
            <p:cNvSpPr/>
            <p:nvPr/>
          </p:nvSpPr>
          <p:spPr>
            <a:xfrm>
              <a:off x="4199040" y="382428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99040" y="373068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4238280" y="4260600"/>
            <a:ext cx="345960" cy="592560"/>
            <a:chOff x="4238280" y="4260600"/>
            <a:chExt cx="345960" cy="592560"/>
          </a:xfrm>
        </p:grpSpPr>
        <p:sp>
          <p:nvSpPr>
            <p:cNvPr id="442" name=""/>
            <p:cNvSpPr/>
            <p:nvPr/>
          </p:nvSpPr>
          <p:spPr>
            <a:xfrm flipV="1">
              <a:off x="4411440" y="426060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4238280" y="472464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4289040" y="478800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4335120" y="48531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4414680" y="384804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103640" y="2035080"/>
            <a:ext cx="352080" cy="1090440"/>
            <a:chOff x="4103640" y="2035080"/>
            <a:chExt cx="352080" cy="1090440"/>
          </a:xfrm>
        </p:grpSpPr>
        <p:sp>
          <p:nvSpPr>
            <p:cNvPr id="448" name=""/>
            <p:cNvSpPr/>
            <p:nvPr/>
          </p:nvSpPr>
          <p:spPr>
            <a:xfrm flipH="1">
              <a:off x="4133520" y="203508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4132080" y="221256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4130640" y="2394000"/>
              <a:ext cx="32256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 flipV="1">
              <a:off x="4128840" y="257184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4105080" y="276696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 flipV="1">
              <a:off x="4103640" y="2944440"/>
              <a:ext cx="32256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4414680" y="312732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505760" y="2082960"/>
            <a:ext cx="55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4579200" y="3902040"/>
            <a:ext cx="10173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4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1289160" y="2952720"/>
            <a:ext cx="438120" cy="1763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936360" y="4753080"/>
            <a:ext cx="1544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iz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V Cur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5592600" y="3919680"/>
            <a:ext cx="2697480" cy="824040"/>
          </a:xfrm>
          <a:prstGeom prst="rect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ear DC, only 45 </a:t>
            </a:r>
            <a:r>
              <a:rPr b="0" lang="el-GR" sz="1600" spc="-1" strike="noStrike">
                <a:solidFill>
                  <a:srgbClr val="000000"/>
                </a:solidFill>
                <a:latin typeface="Arial Black"/>
              </a:rPr>
              <a:t>Ω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 low AC, caps still add to ~ 14 p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5592600" y="4859280"/>
            <a:ext cx="2697480" cy="824040"/>
          </a:xfrm>
          <a:prstGeom prst="rect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dding new el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 cause new “break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n frequenc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17440" y="158400"/>
            <a:ext cx="823752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Modified Model AC Analysi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3120" y="934920"/>
            <a:ext cx="8237520" cy="48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85800" y="708120"/>
            <a:ext cx="8124840" cy="5349600"/>
            <a:chOff x="685800" y="708120"/>
            <a:chExt cx="8124840" cy="5349600"/>
          </a:xfrm>
        </p:grpSpPr>
        <p:grpSp>
          <p:nvGrpSpPr>
            <p:cNvPr id="464" name=""/>
            <p:cNvGrpSpPr/>
            <p:nvPr/>
          </p:nvGrpSpPr>
          <p:grpSpPr>
            <a:xfrm>
              <a:off x="685800" y="708120"/>
              <a:ext cx="8124840" cy="5349600"/>
              <a:chOff x="685800" y="708120"/>
              <a:chExt cx="8124840" cy="5349600"/>
            </a:xfrm>
          </p:grpSpPr>
          <p:pic>
            <p:nvPicPr>
              <p:cNvPr id="46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708120"/>
                <a:ext cx="8124840" cy="534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"/>
              <p:cNvSpPr/>
              <p:nvPr/>
            </p:nvSpPr>
            <p:spPr>
              <a:xfrm>
                <a:off x="5629320" y="4400640"/>
                <a:ext cx="266760" cy="107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5661000" y="4390200"/>
              <a:ext cx="101772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istor model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8" name=""/>
          <p:cNvSpPr/>
          <p:nvPr/>
        </p:nvSpPr>
        <p:spPr>
          <a:xfrm flipH="1">
            <a:off x="6654960" y="4635360"/>
            <a:ext cx="1358640" cy="50832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1147680" y="969840"/>
            <a:ext cx="1924200" cy="337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gnoring voltage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20760" y="762120"/>
            <a:ext cx="841356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Model is a fair match up to ~ 2 GH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Problems ari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0099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66"/>
                </a:solidFill>
                <a:latin typeface="Verdana"/>
              </a:rPr>
              <a:t>A single C_comp value is no longer adequ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0099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66"/>
                </a:solidFill>
                <a:latin typeface="Verdana"/>
              </a:rPr>
              <a:t>No IBIS keywords support this struc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0099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66"/>
                </a:solidFill>
                <a:latin typeface="Verdana"/>
              </a:rPr>
              <a:t>Still need to “back out” these elements from V-t cur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0760" y="139320"/>
            <a:ext cx="823788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Model Assessmen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>
            <a:off x="6540480" y="2568600"/>
            <a:ext cx="281160" cy="28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>
            <a:off x="3495600" y="2709720"/>
            <a:ext cx="305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"/>
          <p:cNvSpPr/>
          <p:nvPr/>
        </p:nvSpPr>
        <p:spPr>
          <a:xfrm>
            <a:off x="1751040" y="270828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1736640" y="2712600"/>
            <a:ext cx="0" cy="4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70160" y="2695320"/>
            <a:ext cx="0" cy="41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"/>
          <p:cNvSpPr/>
          <p:nvPr/>
        </p:nvSpPr>
        <p:spPr>
          <a:xfrm>
            <a:off x="6948720" y="2776680"/>
            <a:ext cx="56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523520" y="4282560"/>
            <a:ext cx="345960" cy="592560"/>
            <a:chOff x="1523520" y="4282560"/>
            <a:chExt cx="345960" cy="592560"/>
          </a:xfrm>
        </p:grpSpPr>
        <p:sp>
          <p:nvSpPr>
            <p:cNvPr id="479" name=""/>
            <p:cNvSpPr/>
            <p:nvPr/>
          </p:nvSpPr>
          <p:spPr>
            <a:xfrm flipV="1">
              <a:off x="1696680" y="428256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1523520" y="474660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1574280" y="480996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1620360" y="48751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969160" y="3741840"/>
            <a:ext cx="468000" cy="93600"/>
            <a:chOff x="5969160" y="3741840"/>
            <a:chExt cx="468000" cy="93600"/>
          </a:xfrm>
        </p:grpSpPr>
        <p:sp>
          <p:nvSpPr>
            <p:cNvPr id="484" name=""/>
            <p:cNvSpPr/>
            <p:nvPr/>
          </p:nvSpPr>
          <p:spPr>
            <a:xfrm>
              <a:off x="5969160" y="3835440"/>
              <a:ext cx="468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69160" y="3741840"/>
              <a:ext cx="468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38040" y="146988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6199200" y="2727360"/>
            <a:ext cx="0" cy="10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027480" y="4268520"/>
            <a:ext cx="345960" cy="592560"/>
            <a:chOff x="6027480" y="4268520"/>
            <a:chExt cx="345960" cy="592560"/>
          </a:xfrm>
        </p:grpSpPr>
        <p:sp>
          <p:nvSpPr>
            <p:cNvPr id="489" name=""/>
            <p:cNvSpPr/>
            <p:nvPr/>
          </p:nvSpPr>
          <p:spPr>
            <a:xfrm flipV="1">
              <a:off x="6200640" y="426852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6027480" y="473256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6078240" y="479592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6124320" y="486108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197760" y="385920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6562080" y="3525840"/>
            <a:ext cx="12963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3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901960" y="4795920"/>
            <a:ext cx="468360" cy="93600"/>
            <a:chOff x="2901960" y="4795920"/>
            <a:chExt cx="468360" cy="93600"/>
          </a:xfrm>
        </p:grpSpPr>
        <p:sp>
          <p:nvSpPr>
            <p:cNvPr id="496" name=""/>
            <p:cNvSpPr/>
            <p:nvPr/>
          </p:nvSpPr>
          <p:spPr>
            <a:xfrm>
              <a:off x="2901960" y="48895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901960" y="47959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2941200" y="5326200"/>
            <a:ext cx="345960" cy="591840"/>
            <a:chOff x="2941200" y="5326200"/>
            <a:chExt cx="345960" cy="591840"/>
          </a:xfrm>
        </p:grpSpPr>
        <p:sp>
          <p:nvSpPr>
            <p:cNvPr id="499" name=""/>
            <p:cNvSpPr/>
            <p:nvPr/>
          </p:nvSpPr>
          <p:spPr>
            <a:xfrm flipV="1">
              <a:off x="3114360" y="5326200"/>
              <a:ext cx="0" cy="46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941200" y="578952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2991960" y="585288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3038040" y="59180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117960" y="491328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3282120" y="4735440"/>
            <a:ext cx="12459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8.3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2806560" y="3100320"/>
            <a:ext cx="352080" cy="1090440"/>
            <a:chOff x="2806560" y="3100320"/>
            <a:chExt cx="352080" cy="1090440"/>
          </a:xfrm>
        </p:grpSpPr>
        <p:sp>
          <p:nvSpPr>
            <p:cNvPr id="506" name=""/>
            <p:cNvSpPr/>
            <p:nvPr/>
          </p:nvSpPr>
          <p:spPr>
            <a:xfrm flipH="1">
              <a:off x="2836440" y="310032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2835000" y="327780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2833560" y="3459240"/>
              <a:ext cx="32256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2831760" y="363708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2808000" y="383220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 flipV="1">
              <a:off x="2806560" y="4009680"/>
              <a:ext cx="32256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1374840" y="3187800"/>
            <a:ext cx="352080" cy="1090080"/>
            <a:chOff x="1374840" y="3187800"/>
            <a:chExt cx="352080" cy="1090080"/>
          </a:xfrm>
        </p:grpSpPr>
        <p:sp>
          <p:nvSpPr>
            <p:cNvPr id="513" name=""/>
            <p:cNvSpPr/>
            <p:nvPr/>
          </p:nvSpPr>
          <p:spPr>
            <a:xfrm flipH="1">
              <a:off x="1404720" y="318780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 flipV="1">
              <a:off x="1403280" y="336528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1401840" y="3546360"/>
              <a:ext cx="32256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1400040" y="3723840"/>
              <a:ext cx="3222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1376280" y="391932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 flipV="1">
              <a:off x="1374840" y="4097160"/>
              <a:ext cx="32256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117960" y="419256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1729080" y="3446640"/>
            <a:ext cx="88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>
            <a:off x="3144240" y="3176640"/>
            <a:ext cx="1443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1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 k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5035680" y="2706840"/>
            <a:ext cx="0" cy="46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767120" y="4857840"/>
            <a:ext cx="468360" cy="93600"/>
            <a:chOff x="4767120" y="4857840"/>
            <a:chExt cx="468360" cy="93600"/>
          </a:xfrm>
        </p:grpSpPr>
        <p:sp>
          <p:nvSpPr>
            <p:cNvPr id="524" name=""/>
            <p:cNvSpPr/>
            <p:nvPr/>
          </p:nvSpPr>
          <p:spPr>
            <a:xfrm>
              <a:off x="4767120" y="495144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767120" y="485784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4806720" y="5388120"/>
            <a:ext cx="345960" cy="591840"/>
            <a:chOff x="4806720" y="5388120"/>
            <a:chExt cx="345960" cy="591840"/>
          </a:xfrm>
        </p:grpSpPr>
        <p:sp>
          <p:nvSpPr>
            <p:cNvPr id="527" name=""/>
            <p:cNvSpPr/>
            <p:nvPr/>
          </p:nvSpPr>
          <p:spPr>
            <a:xfrm flipV="1">
              <a:off x="4979880" y="5388120"/>
              <a:ext cx="0" cy="46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4806720" y="585144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4857480" y="591480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4903560" y="59799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4983120" y="497520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672080" y="3162240"/>
            <a:ext cx="352080" cy="1090440"/>
            <a:chOff x="4672080" y="3162240"/>
            <a:chExt cx="352080" cy="1090440"/>
          </a:xfrm>
        </p:grpSpPr>
        <p:sp>
          <p:nvSpPr>
            <p:cNvPr id="533" name=""/>
            <p:cNvSpPr/>
            <p:nvPr/>
          </p:nvSpPr>
          <p:spPr>
            <a:xfrm flipH="1">
              <a:off x="4701960" y="316224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flipV="1">
              <a:off x="4700520" y="333972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4699080" y="3521160"/>
              <a:ext cx="32256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4697280" y="369900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4673520" y="389412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4672080" y="4071600"/>
              <a:ext cx="32256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4983120" y="425448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>
            <a:off x="5073840" y="2981160"/>
            <a:ext cx="1055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2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0 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5147280" y="5029200"/>
            <a:ext cx="10173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4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1857240" y="4079880"/>
            <a:ext cx="285840" cy="1090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>
            <a:off x="1174680" y="5130720"/>
            <a:ext cx="1544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iz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V Cur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2457360" y="2486160"/>
            <a:ext cx="3390840" cy="3152520"/>
          </a:xfrm>
          <a:prstGeom prst="rect">
            <a:avLst/>
          </a:prstGeom>
          <a:noFill/>
          <a:ln w="57240">
            <a:solidFill>
              <a:srgbClr val="0860a8">
                <a:alpha val="7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Proposal for New Keywords</a:t>
            </a:r>
            <a:br>
              <a:rPr sz="3200"/>
            </a:b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to Improve Buffer Impedance Modeling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8716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chael Mirm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l Cor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tember 30,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4312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Original C_comp Adjustmen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27160" y="848880"/>
            <a:ext cx="8237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"/>
          <p:cNvSpPr/>
          <p:nvPr/>
        </p:nvSpPr>
        <p:spPr>
          <a:xfrm>
            <a:off x="3970440" y="3746520"/>
            <a:ext cx="27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"/>
          <p:cNvSpPr/>
          <p:nvPr/>
        </p:nvSpPr>
        <p:spPr>
          <a:xfrm>
            <a:off x="2390760" y="3746520"/>
            <a:ext cx="15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6842160" y="3816360"/>
            <a:ext cx="0" cy="40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6554880" y="3205080"/>
            <a:ext cx="56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6649560" y="5191200"/>
            <a:ext cx="312840" cy="517320"/>
            <a:chOff x="6649560" y="5191200"/>
            <a:chExt cx="312840" cy="517320"/>
          </a:xfrm>
        </p:grpSpPr>
        <p:sp>
          <p:nvSpPr>
            <p:cNvPr id="552" name=""/>
            <p:cNvSpPr/>
            <p:nvPr/>
          </p:nvSpPr>
          <p:spPr>
            <a:xfrm flipV="1">
              <a:off x="6806160" y="5191200"/>
              <a:ext cx="0" cy="40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6649560" y="5596200"/>
              <a:ext cx="312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6695280" y="5651280"/>
              <a:ext cx="22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6737400" y="5708520"/>
              <a:ext cx="137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3632040" y="4626000"/>
            <a:ext cx="424080" cy="82440"/>
            <a:chOff x="3632040" y="4626000"/>
            <a:chExt cx="424080" cy="82440"/>
          </a:xfrm>
        </p:grpSpPr>
        <p:sp>
          <p:nvSpPr>
            <p:cNvPr id="557" name=""/>
            <p:cNvSpPr/>
            <p:nvPr/>
          </p:nvSpPr>
          <p:spPr>
            <a:xfrm>
              <a:off x="3632040" y="4708440"/>
              <a:ext cx="42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632040" y="4626000"/>
              <a:ext cx="42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3840120" y="3738600"/>
            <a:ext cx="0" cy="87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3679920" y="5090760"/>
            <a:ext cx="312480" cy="518040"/>
            <a:chOff x="3679920" y="5090760"/>
            <a:chExt cx="312480" cy="518040"/>
          </a:xfrm>
        </p:grpSpPr>
        <p:sp>
          <p:nvSpPr>
            <p:cNvPr id="561" name=""/>
            <p:cNvSpPr/>
            <p:nvPr/>
          </p:nvSpPr>
          <p:spPr>
            <a:xfrm flipV="1">
              <a:off x="3835800" y="5090760"/>
              <a:ext cx="0" cy="40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3679920" y="5496480"/>
              <a:ext cx="31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3725640" y="5551560"/>
              <a:ext cx="221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3767040" y="5608800"/>
              <a:ext cx="137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3838680" y="4729320"/>
            <a:ext cx="0" cy="50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>
            <a:off x="4123080" y="4722840"/>
            <a:ext cx="691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6515280" y="4232160"/>
            <a:ext cx="318960" cy="954360"/>
            <a:chOff x="6515280" y="4232160"/>
            <a:chExt cx="318960" cy="954360"/>
          </a:xfrm>
        </p:grpSpPr>
        <p:sp>
          <p:nvSpPr>
            <p:cNvPr id="568" name=""/>
            <p:cNvSpPr/>
            <p:nvPr/>
          </p:nvSpPr>
          <p:spPr>
            <a:xfrm flipH="1">
              <a:off x="6542640" y="4232160"/>
              <a:ext cx="291600" cy="15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6541200" y="4387680"/>
              <a:ext cx="291600" cy="15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6539400" y="4546080"/>
              <a:ext cx="291600" cy="15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flipV="1">
              <a:off x="6538320" y="4701240"/>
              <a:ext cx="291600" cy="15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516720" y="4872240"/>
              <a:ext cx="291600" cy="15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flipV="1">
              <a:off x="6515280" y="5028120"/>
              <a:ext cx="291600" cy="15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7082280" y="4525920"/>
            <a:ext cx="930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ix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6726240" y="3624120"/>
            <a:ext cx="254160" cy="244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4122720"/>
            <a:ext cx="0" cy="1328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"/>
          <p:cNvSpPr/>
          <p:nvPr/>
        </p:nvSpPr>
        <p:spPr>
          <a:xfrm>
            <a:off x="3467160" y="4064040"/>
            <a:ext cx="0" cy="1328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1184400" y="3232080"/>
            <a:ext cx="1199880" cy="1443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"/>
          <p:cNvSpPr/>
          <p:nvPr/>
        </p:nvSpPr>
        <p:spPr>
          <a:xfrm>
            <a:off x="2432160" y="3502080"/>
            <a:ext cx="8157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"/>
          <p:cNvSpPr/>
          <p:nvPr/>
        </p:nvSpPr>
        <p:spPr>
          <a:xfrm>
            <a:off x="1264320" y="3557520"/>
            <a:ext cx="977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2520000" y="3002040"/>
            <a:ext cx="7052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"/>
          <p:cNvSpPr/>
          <p:nvPr/>
        </p:nvSpPr>
        <p:spPr>
          <a:xfrm>
            <a:off x="2916360" y="4390920"/>
            <a:ext cx="526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5180040" y="4533840"/>
            <a:ext cx="753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ix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609480" y="14000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272880" y="642960"/>
            <a:ext cx="839160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driv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t) =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ca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t) +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fixtu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ca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C_comp * dV/dt where dV/dt is instantaneous V-t slop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fixtu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V-t/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fixtu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aken at every time po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-less” V-t curve =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driv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t) *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fix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iver is pullup curve set with internal pulldow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fixtur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= 0, since there is no active, driving pulldow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1760" y="139680"/>
            <a:ext cx="823752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Modified Approach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5600" y="782280"/>
            <a:ext cx="403704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3916440" y="3584520"/>
            <a:ext cx="305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2171880" y="358308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7089840" y="3663720"/>
            <a:ext cx="0" cy="4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>
            <a:off x="6771600" y="2965320"/>
            <a:ext cx="1782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 (V-t curv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6876720" y="5233680"/>
            <a:ext cx="345960" cy="592560"/>
            <a:chOff x="6876720" y="5233680"/>
            <a:chExt cx="345960" cy="592560"/>
          </a:xfrm>
        </p:grpSpPr>
        <p:sp>
          <p:nvSpPr>
            <p:cNvPr id="593" name=""/>
            <p:cNvSpPr/>
            <p:nvPr/>
          </p:nvSpPr>
          <p:spPr>
            <a:xfrm flipV="1">
              <a:off x="7049880" y="523368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6876720" y="569772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6927480" y="576108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6973560" y="58262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3543480" y="4589640"/>
            <a:ext cx="468000" cy="93600"/>
            <a:chOff x="3543480" y="4589640"/>
            <a:chExt cx="468000" cy="93600"/>
          </a:xfrm>
        </p:grpSpPr>
        <p:sp>
          <p:nvSpPr>
            <p:cNvPr id="598" name=""/>
            <p:cNvSpPr/>
            <p:nvPr/>
          </p:nvSpPr>
          <p:spPr>
            <a:xfrm>
              <a:off x="3543480" y="4683240"/>
              <a:ext cx="468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543480" y="4589640"/>
              <a:ext cx="468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3773520" y="3575160"/>
            <a:ext cx="0" cy="10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3595320" y="5119200"/>
            <a:ext cx="345960" cy="592560"/>
            <a:chOff x="3595320" y="5119200"/>
            <a:chExt cx="345960" cy="592560"/>
          </a:xfrm>
        </p:grpSpPr>
        <p:sp>
          <p:nvSpPr>
            <p:cNvPr id="602" name=""/>
            <p:cNvSpPr/>
            <p:nvPr/>
          </p:nvSpPr>
          <p:spPr>
            <a:xfrm flipV="1">
              <a:off x="3768480" y="511920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3595320" y="558324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3646080" y="564660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3692160" y="57117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3772080" y="470700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3864240" y="4183200"/>
            <a:ext cx="691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6727680" y="4138560"/>
            <a:ext cx="352080" cy="1090440"/>
            <a:chOff x="6727680" y="4138560"/>
            <a:chExt cx="352080" cy="1090440"/>
          </a:xfrm>
        </p:grpSpPr>
        <p:sp>
          <p:nvSpPr>
            <p:cNvPr id="609" name=""/>
            <p:cNvSpPr/>
            <p:nvPr/>
          </p:nvSpPr>
          <p:spPr>
            <a:xfrm flipH="1">
              <a:off x="6757560" y="413856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 flipV="1">
              <a:off x="6756120" y="431604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6754680" y="4497480"/>
              <a:ext cx="32256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6752880" y="467532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6729120" y="487044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flipV="1">
              <a:off x="6727680" y="5047920"/>
              <a:ext cx="32256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7350480" y="4475160"/>
            <a:ext cx="930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ixtu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6961320" y="3443400"/>
            <a:ext cx="280800" cy="280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7251840" y="3973680"/>
            <a:ext cx="0" cy="1519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3360600" y="3946680"/>
            <a:ext cx="0" cy="1519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"/>
          <p:cNvSpPr/>
          <p:nvPr/>
        </p:nvSpPr>
        <p:spPr>
          <a:xfrm>
            <a:off x="838080" y="2995560"/>
            <a:ext cx="1325520" cy="1649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"/>
          <p:cNvSpPr/>
          <p:nvPr/>
        </p:nvSpPr>
        <p:spPr>
          <a:xfrm>
            <a:off x="2216160" y="3305160"/>
            <a:ext cx="901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"/>
          <p:cNvSpPr/>
          <p:nvPr/>
        </p:nvSpPr>
        <p:spPr>
          <a:xfrm>
            <a:off x="978480" y="3367080"/>
            <a:ext cx="977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"/>
          <p:cNvSpPr/>
          <p:nvPr/>
        </p:nvSpPr>
        <p:spPr>
          <a:xfrm>
            <a:off x="2351520" y="2852640"/>
            <a:ext cx="7052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"/>
          <p:cNvSpPr/>
          <p:nvPr/>
        </p:nvSpPr>
        <p:spPr>
          <a:xfrm>
            <a:off x="2749680" y="4317840"/>
            <a:ext cx="526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"/>
          <p:cNvSpPr/>
          <p:nvPr/>
        </p:nvSpPr>
        <p:spPr>
          <a:xfrm>
            <a:off x="7412040" y="3762360"/>
            <a:ext cx="753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ix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"/>
          <p:cNvSpPr/>
          <p:nvPr/>
        </p:nvSpPr>
        <p:spPr>
          <a:xfrm>
            <a:off x="638280" y="13334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"/>
          <p:cNvSpPr/>
          <p:nvPr/>
        </p:nvSpPr>
        <p:spPr>
          <a:xfrm>
            <a:off x="311040" y="795240"/>
            <a:ext cx="8420040" cy="38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y tricky differential equation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sier solution – use EDA tool to generate data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netlist as show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ive PWL source with original V-t data set(s), at p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CCS into load = Rfixture provides “adjusted” V-t cur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905360" y="4944960"/>
            <a:ext cx="468360" cy="93600"/>
            <a:chOff x="4905360" y="4944960"/>
            <a:chExt cx="468360" cy="93600"/>
          </a:xfrm>
        </p:grpSpPr>
        <p:sp>
          <p:nvSpPr>
            <p:cNvPr id="628" name=""/>
            <p:cNvSpPr/>
            <p:nvPr/>
          </p:nvSpPr>
          <p:spPr>
            <a:xfrm>
              <a:off x="4905360" y="503856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905360" y="494496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984560" y="5049360"/>
            <a:ext cx="345960" cy="592560"/>
            <a:chOff x="4984560" y="5049360"/>
            <a:chExt cx="345960" cy="592560"/>
          </a:xfrm>
        </p:grpSpPr>
        <p:sp>
          <p:nvSpPr>
            <p:cNvPr id="631" name=""/>
            <p:cNvSpPr/>
            <p:nvPr/>
          </p:nvSpPr>
          <p:spPr>
            <a:xfrm flipV="1">
              <a:off x="5157720" y="504936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4984560" y="551340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5035320" y="557676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5081400" y="56419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837040" y="3941640"/>
            <a:ext cx="236520" cy="664920"/>
            <a:chOff x="5837040" y="3941640"/>
            <a:chExt cx="236520" cy="664920"/>
          </a:xfrm>
        </p:grpSpPr>
        <p:sp>
          <p:nvSpPr>
            <p:cNvPr id="636" name=""/>
            <p:cNvSpPr/>
            <p:nvPr/>
          </p:nvSpPr>
          <p:spPr>
            <a:xfrm flipH="1">
              <a:off x="5857560" y="394164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5856480" y="405000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855040" y="4160520"/>
              <a:ext cx="21636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 flipV="1">
              <a:off x="5854320" y="426888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5838480" y="438804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 flipV="1">
              <a:off x="5837040" y="4496400"/>
              <a:ext cx="21636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922640" y="3940200"/>
            <a:ext cx="236520" cy="664920"/>
            <a:chOff x="4922640" y="3940200"/>
            <a:chExt cx="236520" cy="664920"/>
          </a:xfrm>
        </p:grpSpPr>
        <p:sp>
          <p:nvSpPr>
            <p:cNvPr id="643" name=""/>
            <p:cNvSpPr/>
            <p:nvPr/>
          </p:nvSpPr>
          <p:spPr>
            <a:xfrm flipH="1">
              <a:off x="4943160" y="394020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4942080" y="404856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4940640" y="4159080"/>
              <a:ext cx="21636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4939920" y="426744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24080" y="438660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flipV="1">
              <a:off x="4922640" y="4494960"/>
              <a:ext cx="21636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5149800" y="3600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"/>
          <p:cNvSpPr/>
          <p:nvPr/>
        </p:nvSpPr>
        <p:spPr>
          <a:xfrm>
            <a:off x="6075360" y="35845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"/>
          <p:cNvSpPr/>
          <p:nvPr/>
        </p:nvSpPr>
        <p:spPr>
          <a:xfrm>
            <a:off x="5146560" y="46036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5792760" y="4968720"/>
            <a:ext cx="468360" cy="93600"/>
            <a:chOff x="5792760" y="4968720"/>
            <a:chExt cx="468360" cy="93600"/>
          </a:xfrm>
        </p:grpSpPr>
        <p:sp>
          <p:nvSpPr>
            <p:cNvPr id="653" name=""/>
            <p:cNvSpPr/>
            <p:nvPr/>
          </p:nvSpPr>
          <p:spPr>
            <a:xfrm>
              <a:off x="5792760" y="50623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92760" y="49687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5871960" y="5060520"/>
            <a:ext cx="345960" cy="592560"/>
            <a:chOff x="5871960" y="5060520"/>
            <a:chExt cx="345960" cy="592560"/>
          </a:xfrm>
        </p:grpSpPr>
        <p:sp>
          <p:nvSpPr>
            <p:cNvPr id="656" name=""/>
            <p:cNvSpPr/>
            <p:nvPr/>
          </p:nvSpPr>
          <p:spPr>
            <a:xfrm flipV="1">
              <a:off x="6045120" y="506052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5871960" y="552456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5922720" y="558792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5968800" y="565308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033960" y="46148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"/>
          <p:cNvSpPr/>
          <p:nvPr/>
        </p:nvSpPr>
        <p:spPr>
          <a:xfrm>
            <a:off x="4813200" y="3814920"/>
            <a:ext cx="0" cy="1519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"/>
          <p:cNvSpPr/>
          <p:nvPr/>
        </p:nvSpPr>
        <p:spPr>
          <a:xfrm>
            <a:off x="5727600" y="3841920"/>
            <a:ext cx="0" cy="1519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"/>
          <p:cNvSpPr/>
          <p:nvPr/>
        </p:nvSpPr>
        <p:spPr>
          <a:xfrm>
            <a:off x="5141880" y="5056200"/>
            <a:ext cx="41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"/>
          <p:cNvSpPr/>
          <p:nvPr/>
        </p:nvSpPr>
        <p:spPr>
          <a:xfrm>
            <a:off x="6118200" y="5041800"/>
            <a:ext cx="41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"/>
          <p:cNvSpPr/>
          <p:nvPr/>
        </p:nvSpPr>
        <p:spPr>
          <a:xfrm>
            <a:off x="5139000" y="3959280"/>
            <a:ext cx="41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"/>
          <p:cNvSpPr/>
          <p:nvPr/>
        </p:nvSpPr>
        <p:spPr>
          <a:xfrm>
            <a:off x="6053400" y="3865680"/>
            <a:ext cx="41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"/>
          <p:cNvSpPr/>
          <p:nvPr/>
        </p:nvSpPr>
        <p:spPr>
          <a:xfrm>
            <a:off x="4440240" y="3648240"/>
            <a:ext cx="3362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"/>
          <p:cNvSpPr/>
          <p:nvPr/>
        </p:nvSpPr>
        <p:spPr>
          <a:xfrm>
            <a:off x="5396040" y="3621240"/>
            <a:ext cx="3362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"/>
          <p:cNvSpPr/>
          <p:nvPr/>
        </p:nvSpPr>
        <p:spPr>
          <a:xfrm>
            <a:off x="5060880" y="4657680"/>
            <a:ext cx="179280" cy="141480"/>
          </a:xfrm>
          <a:prstGeom prst="ellipse">
            <a:avLst/>
          </a:prstGeom>
          <a:solidFill>
            <a:srgbClr val="ff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"/>
          <p:cNvSpPr/>
          <p:nvPr/>
        </p:nvSpPr>
        <p:spPr>
          <a:xfrm>
            <a:off x="5935680" y="4694400"/>
            <a:ext cx="179280" cy="141120"/>
          </a:xfrm>
          <a:prstGeom prst="ellipse">
            <a:avLst/>
          </a:prstGeom>
          <a:solidFill>
            <a:srgbClr val="ff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"/>
          <p:cNvSpPr/>
          <p:nvPr/>
        </p:nvSpPr>
        <p:spPr>
          <a:xfrm>
            <a:off x="5227920" y="4548240"/>
            <a:ext cx="41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"/>
          <p:cNvSpPr/>
          <p:nvPr/>
        </p:nvSpPr>
        <p:spPr>
          <a:xfrm>
            <a:off x="6166080" y="4572000"/>
            <a:ext cx="41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ssessmen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78000" y="713880"/>
            <a:ext cx="789912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We can now adjust V-t curves for AC C_com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0099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66"/>
                </a:solidFill>
                <a:latin typeface="Verdana"/>
              </a:rPr>
              <a:t>Enabling each portion of differential buffer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0099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66"/>
                </a:solidFill>
                <a:latin typeface="Verdana"/>
              </a:rPr>
              <a:t>Take a separate V-t curve (Main Only, Boost onl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0099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66"/>
                </a:solidFill>
                <a:latin typeface="Verdana"/>
              </a:rPr>
              <a:t>Take AC domain frequency response for entire buff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ingle-ended response only analyzed so f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0099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66"/>
                </a:solidFill>
                <a:latin typeface="Verdana"/>
              </a:rPr>
              <a:t>Match AC domain with model &amp; extract adjusted V-t cur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Can we repeat the process for differential behavio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859400" y="3090960"/>
            <a:ext cx="4320360" cy="2638440"/>
            <a:chOff x="1859400" y="3090960"/>
            <a:chExt cx="4320360" cy="2638440"/>
          </a:xfrm>
        </p:grpSpPr>
        <p:graphicFrame>
          <p:nvGraphicFramePr>
            <p:cNvPr id="676" name=""/>
            <p:cNvGraphicFramePr/>
            <p:nvPr/>
          </p:nvGraphicFramePr>
          <p:xfrm>
            <a:off x="1859400" y="3090960"/>
            <a:ext cx="4320360" cy="2638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59400" y="3090960"/>
                      <a:ext cx="4320360" cy="26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8" name=""/>
            <p:cNvSpPr/>
            <p:nvPr/>
          </p:nvSpPr>
          <p:spPr>
            <a:xfrm flipV="1">
              <a:off x="4285080" y="5218200"/>
              <a:ext cx="1373400" cy="36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flipV="1">
              <a:off x="2314440" y="5055120"/>
              <a:ext cx="1007280" cy="48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200560" y="535824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182200" y="53686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18760" y="535824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48200" y="53197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Hz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100240" y="3455640"/>
              <a:ext cx="0" cy="162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61200" y="32248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543600" y="4821120"/>
            <a:ext cx="816120" cy="8240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Hig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a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ilter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62000" y="-360"/>
            <a:ext cx="84484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About Differential C_comp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00080" y="739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"/>
          <p:cNvSpPr/>
          <p:nvPr/>
        </p:nvSpPr>
        <p:spPr>
          <a:xfrm>
            <a:off x="7323120" y="1317600"/>
            <a:ext cx="274680" cy="238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"/>
          <p:cNvSpPr/>
          <p:nvPr/>
        </p:nvSpPr>
        <p:spPr>
          <a:xfrm>
            <a:off x="4341960" y="1438200"/>
            <a:ext cx="299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4514760" y="1441440"/>
            <a:ext cx="0" cy="39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"/>
          <p:cNvSpPr/>
          <p:nvPr/>
        </p:nvSpPr>
        <p:spPr>
          <a:xfrm flipH="1" flipV="1">
            <a:off x="3381120" y="1428840"/>
            <a:ext cx="6120" cy="29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"/>
          <p:cNvSpPr/>
          <p:nvPr/>
        </p:nvSpPr>
        <p:spPr>
          <a:xfrm>
            <a:off x="7148520" y="1766880"/>
            <a:ext cx="56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4305240" y="2285640"/>
            <a:ext cx="339840" cy="498960"/>
            <a:chOff x="4305240" y="2285640"/>
            <a:chExt cx="339840" cy="498960"/>
          </a:xfrm>
        </p:grpSpPr>
        <p:sp>
          <p:nvSpPr>
            <p:cNvPr id="695" name=""/>
            <p:cNvSpPr/>
            <p:nvPr/>
          </p:nvSpPr>
          <p:spPr>
            <a:xfrm flipV="1">
              <a:off x="4474800" y="2285640"/>
              <a:ext cx="0" cy="39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4305240" y="2676240"/>
              <a:ext cx="33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4354920" y="2729520"/>
              <a:ext cx="241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4399920" y="2784600"/>
              <a:ext cx="149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6762600" y="2308320"/>
            <a:ext cx="459000" cy="77760"/>
            <a:chOff x="6762600" y="2308320"/>
            <a:chExt cx="459000" cy="77760"/>
          </a:xfrm>
        </p:grpSpPr>
        <p:sp>
          <p:nvSpPr>
            <p:cNvPr id="700" name=""/>
            <p:cNvSpPr/>
            <p:nvPr/>
          </p:nvSpPr>
          <p:spPr>
            <a:xfrm>
              <a:off x="6762600" y="2386080"/>
              <a:ext cx="459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762600" y="2308320"/>
              <a:ext cx="459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6988320" y="1452600"/>
            <a:ext cx="0" cy="84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6813360" y="2754000"/>
            <a:ext cx="339480" cy="498960"/>
            <a:chOff x="6813360" y="2754000"/>
            <a:chExt cx="339480" cy="498960"/>
          </a:xfrm>
        </p:grpSpPr>
        <p:sp>
          <p:nvSpPr>
            <p:cNvPr id="704" name=""/>
            <p:cNvSpPr/>
            <p:nvPr/>
          </p:nvSpPr>
          <p:spPr>
            <a:xfrm flipV="1">
              <a:off x="6983280" y="2754000"/>
              <a:ext cx="0" cy="39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6813360" y="3144600"/>
              <a:ext cx="33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6863400" y="3197880"/>
              <a:ext cx="241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908040" y="3252960"/>
              <a:ext cx="149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6986520" y="2406600"/>
            <a:ext cx="0" cy="48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"/>
          <p:cNvSpPr/>
          <p:nvPr/>
        </p:nvSpPr>
        <p:spPr>
          <a:xfrm>
            <a:off x="7349760" y="2182680"/>
            <a:ext cx="13770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3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4192560" y="1227240"/>
            <a:ext cx="142560" cy="432000"/>
            <a:chOff x="4192560" y="1227240"/>
            <a:chExt cx="142560" cy="432000"/>
          </a:xfrm>
        </p:grpSpPr>
        <p:sp>
          <p:nvSpPr>
            <p:cNvPr id="711" name=""/>
            <p:cNvSpPr/>
            <p:nvPr/>
          </p:nvSpPr>
          <p:spPr>
            <a:xfrm>
              <a:off x="4335120" y="1227240"/>
              <a:ext cx="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4192560" y="1227600"/>
              <a:ext cx="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3147840" y="2220480"/>
            <a:ext cx="338400" cy="498960"/>
            <a:chOff x="3147840" y="2220480"/>
            <a:chExt cx="338400" cy="498960"/>
          </a:xfrm>
        </p:grpSpPr>
        <p:sp>
          <p:nvSpPr>
            <p:cNvPr id="714" name=""/>
            <p:cNvSpPr/>
            <p:nvPr/>
          </p:nvSpPr>
          <p:spPr>
            <a:xfrm flipV="1">
              <a:off x="3316680" y="2220480"/>
              <a:ext cx="0" cy="39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3147840" y="2611080"/>
              <a:ext cx="338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3197160" y="2664360"/>
              <a:ext cx="240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3242160" y="2719440"/>
              <a:ext cx="148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734640" y="974880"/>
            <a:ext cx="13269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8.3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025440" y="1720800"/>
            <a:ext cx="344520" cy="509400"/>
            <a:chOff x="3025440" y="1720800"/>
            <a:chExt cx="344520" cy="509400"/>
          </a:xfrm>
        </p:grpSpPr>
        <p:sp>
          <p:nvSpPr>
            <p:cNvPr id="720" name=""/>
            <p:cNvSpPr/>
            <p:nvPr/>
          </p:nvSpPr>
          <p:spPr>
            <a:xfrm flipH="1">
              <a:off x="3055320" y="1720800"/>
              <a:ext cx="314640" cy="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flipV="1">
              <a:off x="3053880" y="1803240"/>
              <a:ext cx="314640" cy="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3051720" y="1888560"/>
              <a:ext cx="315000" cy="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 flipV="1">
              <a:off x="3050640" y="1971720"/>
              <a:ext cx="314640" cy="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027240" y="2062800"/>
              <a:ext cx="314640" cy="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 flipV="1">
              <a:off x="3025440" y="2145600"/>
              <a:ext cx="315000" cy="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4159080" y="1825560"/>
            <a:ext cx="345600" cy="455760"/>
            <a:chOff x="4159080" y="1825560"/>
            <a:chExt cx="345600" cy="455760"/>
          </a:xfrm>
        </p:grpSpPr>
        <p:sp>
          <p:nvSpPr>
            <p:cNvPr id="727" name=""/>
            <p:cNvSpPr/>
            <p:nvPr/>
          </p:nvSpPr>
          <p:spPr>
            <a:xfrm flipH="1">
              <a:off x="4188240" y="1825560"/>
              <a:ext cx="316440" cy="7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4186800" y="1899720"/>
              <a:ext cx="316440" cy="7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4185360" y="1975320"/>
              <a:ext cx="316800" cy="7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 flipV="1">
              <a:off x="4183560" y="2049480"/>
              <a:ext cx="316440" cy="7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4160160" y="2131200"/>
              <a:ext cx="316440" cy="7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 flipV="1">
              <a:off x="4159080" y="2205720"/>
              <a:ext cx="316800" cy="7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4507200" y="2044800"/>
            <a:ext cx="88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"/>
          <p:cNvSpPr/>
          <p:nvPr/>
        </p:nvSpPr>
        <p:spPr>
          <a:xfrm>
            <a:off x="3396240" y="1652760"/>
            <a:ext cx="75240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5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848200" y="1434960"/>
            <a:ext cx="0" cy="39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5586480" y="2830680"/>
            <a:ext cx="458640" cy="77760"/>
            <a:chOff x="5586480" y="2830680"/>
            <a:chExt cx="458640" cy="77760"/>
          </a:xfrm>
        </p:grpSpPr>
        <p:sp>
          <p:nvSpPr>
            <p:cNvPr id="737" name=""/>
            <p:cNvSpPr/>
            <p:nvPr/>
          </p:nvSpPr>
          <p:spPr>
            <a:xfrm>
              <a:off x="5586480" y="2908440"/>
              <a:ext cx="45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586480" y="2830680"/>
              <a:ext cx="45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5616360" y="2894040"/>
            <a:ext cx="338040" cy="500040"/>
            <a:chOff x="5616360" y="2894040"/>
            <a:chExt cx="338040" cy="500040"/>
          </a:xfrm>
        </p:grpSpPr>
        <p:sp>
          <p:nvSpPr>
            <p:cNvPr id="740" name=""/>
            <p:cNvSpPr/>
            <p:nvPr/>
          </p:nvSpPr>
          <p:spPr>
            <a:xfrm flipV="1">
              <a:off x="5785560" y="2894040"/>
              <a:ext cx="0" cy="3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5616360" y="3285360"/>
              <a:ext cx="338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5665680" y="3339000"/>
              <a:ext cx="24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5710680" y="3394080"/>
              <a:ext cx="148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5492520" y="1819440"/>
            <a:ext cx="345960" cy="499680"/>
            <a:chOff x="5492520" y="1819440"/>
            <a:chExt cx="345960" cy="499680"/>
          </a:xfrm>
        </p:grpSpPr>
        <p:sp>
          <p:nvSpPr>
            <p:cNvPr id="745" name=""/>
            <p:cNvSpPr/>
            <p:nvPr/>
          </p:nvSpPr>
          <p:spPr>
            <a:xfrm flipH="1">
              <a:off x="5522400" y="1819440"/>
              <a:ext cx="316080" cy="8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 flipV="1">
              <a:off x="5520960" y="1900800"/>
              <a:ext cx="316080" cy="8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5518800" y="1983960"/>
              <a:ext cx="316440" cy="8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5517720" y="2065320"/>
              <a:ext cx="316080" cy="8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5494320" y="2154960"/>
              <a:ext cx="316080" cy="8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 flipV="1">
              <a:off x="5492520" y="2236320"/>
              <a:ext cx="316440" cy="8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5797440" y="2320920"/>
            <a:ext cx="0" cy="48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"/>
          <p:cNvSpPr/>
          <p:nvPr/>
        </p:nvSpPr>
        <p:spPr>
          <a:xfrm>
            <a:off x="5905080" y="1662120"/>
            <a:ext cx="7354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"/>
          <p:cNvSpPr/>
          <p:nvPr/>
        </p:nvSpPr>
        <p:spPr>
          <a:xfrm>
            <a:off x="5843520" y="2449440"/>
            <a:ext cx="10983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4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"/>
          <p:cNvSpPr/>
          <p:nvPr/>
        </p:nvSpPr>
        <p:spPr>
          <a:xfrm>
            <a:off x="3378240" y="1433520"/>
            <a:ext cx="80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"/>
          <p:cNvSpPr/>
          <p:nvPr/>
        </p:nvSpPr>
        <p:spPr>
          <a:xfrm>
            <a:off x="6553080" y="3720960"/>
            <a:ext cx="274680" cy="236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"/>
          <p:cNvSpPr/>
          <p:nvPr/>
        </p:nvSpPr>
        <p:spPr>
          <a:xfrm>
            <a:off x="3571920" y="3846600"/>
            <a:ext cx="2992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745080" y="3833280"/>
            <a:ext cx="0" cy="39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3528720" y="4774680"/>
            <a:ext cx="338040" cy="500760"/>
            <a:chOff x="3528720" y="4774680"/>
            <a:chExt cx="338040" cy="500760"/>
          </a:xfrm>
        </p:grpSpPr>
        <p:sp>
          <p:nvSpPr>
            <p:cNvPr id="759" name=""/>
            <p:cNvSpPr/>
            <p:nvPr/>
          </p:nvSpPr>
          <p:spPr>
            <a:xfrm flipV="1">
              <a:off x="3697920" y="4774680"/>
              <a:ext cx="0" cy="3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3528720" y="5166720"/>
              <a:ext cx="338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3578040" y="5220360"/>
              <a:ext cx="24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3623040" y="5275440"/>
              <a:ext cx="148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5994360" y="4716360"/>
            <a:ext cx="457200" cy="77760"/>
            <a:chOff x="5994360" y="4716360"/>
            <a:chExt cx="457200" cy="77760"/>
          </a:xfrm>
        </p:grpSpPr>
        <p:sp>
          <p:nvSpPr>
            <p:cNvPr id="764" name=""/>
            <p:cNvSpPr/>
            <p:nvPr/>
          </p:nvSpPr>
          <p:spPr>
            <a:xfrm>
              <a:off x="5994360" y="47941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94360" y="471636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6218280" y="3860640"/>
            <a:ext cx="0" cy="84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6044760" y="5162040"/>
            <a:ext cx="338040" cy="498960"/>
            <a:chOff x="6044760" y="5162040"/>
            <a:chExt cx="338040" cy="498960"/>
          </a:xfrm>
        </p:grpSpPr>
        <p:sp>
          <p:nvSpPr>
            <p:cNvPr id="768" name=""/>
            <p:cNvSpPr/>
            <p:nvPr/>
          </p:nvSpPr>
          <p:spPr>
            <a:xfrm flipV="1">
              <a:off x="6213960" y="5162040"/>
              <a:ext cx="0" cy="39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044760" y="5552640"/>
              <a:ext cx="338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6094080" y="5605920"/>
              <a:ext cx="24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6139080" y="5661000"/>
              <a:ext cx="148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6216480" y="4815000"/>
            <a:ext cx="0" cy="48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"/>
          <p:cNvSpPr/>
          <p:nvPr/>
        </p:nvSpPr>
        <p:spPr>
          <a:xfrm>
            <a:off x="6581520" y="4532400"/>
            <a:ext cx="13924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3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3422520" y="3633840"/>
            <a:ext cx="142560" cy="433440"/>
            <a:chOff x="3422520" y="3633840"/>
            <a:chExt cx="142560" cy="433440"/>
          </a:xfrm>
        </p:grpSpPr>
        <p:sp>
          <p:nvSpPr>
            <p:cNvPr id="775" name=""/>
            <p:cNvSpPr/>
            <p:nvPr/>
          </p:nvSpPr>
          <p:spPr>
            <a:xfrm>
              <a:off x="3565080" y="3633840"/>
              <a:ext cx="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3422520" y="3633840"/>
              <a:ext cx="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3390480" y="4233960"/>
            <a:ext cx="344520" cy="551880"/>
            <a:chOff x="3390480" y="4233960"/>
            <a:chExt cx="344520" cy="551880"/>
          </a:xfrm>
        </p:grpSpPr>
        <p:sp>
          <p:nvSpPr>
            <p:cNvPr id="778" name=""/>
            <p:cNvSpPr/>
            <p:nvPr/>
          </p:nvSpPr>
          <p:spPr>
            <a:xfrm flipH="1">
              <a:off x="3420360" y="4233960"/>
              <a:ext cx="314640" cy="9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3418920" y="4323960"/>
              <a:ext cx="314640" cy="9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3416760" y="4415400"/>
              <a:ext cx="315000" cy="9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flipV="1">
              <a:off x="3415680" y="4505760"/>
              <a:ext cx="314640" cy="9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3392280" y="4604400"/>
              <a:ext cx="314640" cy="9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3390480" y="4694400"/>
              <a:ext cx="315000" cy="9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2687760" y="3833640"/>
            <a:ext cx="72540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"/>
          <p:cNvSpPr/>
          <p:nvPr/>
        </p:nvSpPr>
        <p:spPr>
          <a:xfrm>
            <a:off x="3737520" y="4451400"/>
            <a:ext cx="88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"/>
          <p:cNvSpPr/>
          <p:nvPr/>
        </p:nvSpPr>
        <p:spPr>
          <a:xfrm>
            <a:off x="2706480" y="4097160"/>
            <a:ext cx="75240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5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5079960" y="3843360"/>
            <a:ext cx="0" cy="39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4826160" y="5251320"/>
            <a:ext cx="458640" cy="79560"/>
            <a:chOff x="4826160" y="5251320"/>
            <a:chExt cx="458640" cy="79560"/>
          </a:xfrm>
        </p:grpSpPr>
        <p:sp>
          <p:nvSpPr>
            <p:cNvPr id="789" name=""/>
            <p:cNvSpPr/>
            <p:nvPr/>
          </p:nvSpPr>
          <p:spPr>
            <a:xfrm>
              <a:off x="4826160" y="5330880"/>
              <a:ext cx="45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826160" y="5251320"/>
              <a:ext cx="45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4865400" y="5316480"/>
            <a:ext cx="338040" cy="500040"/>
            <a:chOff x="4865400" y="5316480"/>
            <a:chExt cx="338040" cy="500040"/>
          </a:xfrm>
        </p:grpSpPr>
        <p:sp>
          <p:nvSpPr>
            <p:cNvPr id="792" name=""/>
            <p:cNvSpPr/>
            <p:nvPr/>
          </p:nvSpPr>
          <p:spPr>
            <a:xfrm flipV="1">
              <a:off x="5034600" y="5316480"/>
              <a:ext cx="0" cy="3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865400" y="5707800"/>
              <a:ext cx="338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4914720" y="5761440"/>
              <a:ext cx="24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4959720" y="5816520"/>
              <a:ext cx="148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4723920" y="4227480"/>
            <a:ext cx="344520" cy="507960"/>
            <a:chOff x="4723920" y="4227480"/>
            <a:chExt cx="344520" cy="507960"/>
          </a:xfrm>
        </p:grpSpPr>
        <p:sp>
          <p:nvSpPr>
            <p:cNvPr id="797" name=""/>
            <p:cNvSpPr/>
            <p:nvPr/>
          </p:nvSpPr>
          <p:spPr>
            <a:xfrm flipH="1">
              <a:off x="4753800" y="4227480"/>
              <a:ext cx="314640" cy="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 flipV="1">
              <a:off x="4752360" y="4310280"/>
              <a:ext cx="314640" cy="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4750200" y="4394520"/>
              <a:ext cx="315000" cy="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 flipV="1">
              <a:off x="4749120" y="4476960"/>
              <a:ext cx="314640" cy="8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4725720" y="4568400"/>
              <a:ext cx="314640" cy="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 flipV="1">
              <a:off x="4723920" y="4651200"/>
              <a:ext cx="315000" cy="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5037120" y="4743360"/>
            <a:ext cx="0" cy="490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"/>
          <p:cNvSpPr/>
          <p:nvPr/>
        </p:nvSpPr>
        <p:spPr>
          <a:xfrm>
            <a:off x="5128920" y="4081320"/>
            <a:ext cx="7354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"/>
          <p:cNvSpPr/>
          <p:nvPr/>
        </p:nvSpPr>
        <p:spPr>
          <a:xfrm>
            <a:off x="3336480" y="3263760"/>
            <a:ext cx="13420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8.3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2700360" y="3841920"/>
            <a:ext cx="0" cy="33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2492280" y="4650840"/>
            <a:ext cx="338400" cy="500760"/>
            <a:chOff x="2492280" y="4650840"/>
            <a:chExt cx="338400" cy="500760"/>
          </a:xfrm>
        </p:grpSpPr>
        <p:sp>
          <p:nvSpPr>
            <p:cNvPr id="808" name=""/>
            <p:cNvSpPr/>
            <p:nvPr/>
          </p:nvSpPr>
          <p:spPr>
            <a:xfrm flipV="1">
              <a:off x="2661120" y="4650840"/>
              <a:ext cx="0" cy="3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2492280" y="5042880"/>
              <a:ext cx="338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2541600" y="5096520"/>
              <a:ext cx="240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2586600" y="5151600"/>
              <a:ext cx="148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2344320" y="4151160"/>
            <a:ext cx="344520" cy="509400"/>
            <a:chOff x="2344320" y="4151160"/>
            <a:chExt cx="344520" cy="509400"/>
          </a:xfrm>
        </p:grpSpPr>
        <p:sp>
          <p:nvSpPr>
            <p:cNvPr id="813" name=""/>
            <p:cNvSpPr/>
            <p:nvPr/>
          </p:nvSpPr>
          <p:spPr>
            <a:xfrm flipH="1">
              <a:off x="2374200" y="4151160"/>
              <a:ext cx="314640" cy="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 flipV="1">
              <a:off x="2372760" y="4233600"/>
              <a:ext cx="314640" cy="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2370600" y="4318920"/>
              <a:ext cx="315000" cy="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 flipV="1">
              <a:off x="2369520" y="4402080"/>
              <a:ext cx="314640" cy="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346120" y="4493160"/>
              <a:ext cx="314640" cy="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 flipV="1">
              <a:off x="2344320" y="4575960"/>
              <a:ext cx="315000" cy="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6380280" y="4249800"/>
            <a:ext cx="56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"/>
          <p:cNvSpPr/>
          <p:nvPr/>
        </p:nvSpPr>
        <p:spPr>
          <a:xfrm>
            <a:off x="5103360" y="4863960"/>
            <a:ext cx="11134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4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"/>
          <p:cNvSpPr/>
          <p:nvPr/>
        </p:nvSpPr>
        <p:spPr>
          <a:xfrm>
            <a:off x="543960" y="1827360"/>
            <a:ext cx="168048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match 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2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high Hz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2P 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2N ad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up, ac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differential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"/>
          <p:cNvSpPr/>
          <p:nvPr/>
        </p:nvSpPr>
        <p:spPr>
          <a:xfrm>
            <a:off x="2319480" y="1703520"/>
            <a:ext cx="609480" cy="1892160"/>
          </a:xfrm>
          <a:prstGeom prst="rect">
            <a:avLst/>
          </a:prstGeom>
          <a:noFill/>
          <a:ln w="1908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"/>
          <p:cNvSpPr/>
          <p:nvPr/>
        </p:nvSpPr>
        <p:spPr>
          <a:xfrm flipH="1" flipV="1">
            <a:off x="2722320" y="1428840"/>
            <a:ext cx="12600" cy="86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2403000" y="2295360"/>
            <a:ext cx="344520" cy="509400"/>
            <a:chOff x="2403000" y="2295360"/>
            <a:chExt cx="344520" cy="509400"/>
          </a:xfrm>
        </p:grpSpPr>
        <p:sp>
          <p:nvSpPr>
            <p:cNvPr id="825" name=""/>
            <p:cNvSpPr/>
            <p:nvPr/>
          </p:nvSpPr>
          <p:spPr>
            <a:xfrm flipH="1">
              <a:off x="2432880" y="2295360"/>
              <a:ext cx="314640" cy="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 flipV="1">
              <a:off x="2431440" y="2377800"/>
              <a:ext cx="314640" cy="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2429280" y="2463120"/>
              <a:ext cx="315000" cy="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 flipV="1">
              <a:off x="2428200" y="2546280"/>
              <a:ext cx="314640" cy="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404800" y="2637360"/>
              <a:ext cx="314640" cy="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flipV="1">
              <a:off x="2403000" y="2720160"/>
              <a:ext cx="315000" cy="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31" name=""/>
          <p:cNvSpPr/>
          <p:nvPr/>
        </p:nvSpPr>
        <p:spPr>
          <a:xfrm flipV="1">
            <a:off x="2697120" y="2814480"/>
            <a:ext cx="0" cy="102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"/>
          <p:cNvSpPr/>
          <p:nvPr/>
        </p:nvSpPr>
        <p:spPr>
          <a:xfrm>
            <a:off x="2722680" y="1433520"/>
            <a:ext cx="65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"/>
          <p:cNvSpPr/>
          <p:nvPr/>
        </p:nvSpPr>
        <p:spPr>
          <a:xfrm>
            <a:off x="1011600" y="1092240"/>
            <a:ext cx="1035720" cy="337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ias = 0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"/>
          <p:cNvSpPr/>
          <p:nvPr/>
        </p:nvSpPr>
        <p:spPr>
          <a:xfrm>
            <a:off x="941400" y="5276880"/>
            <a:ext cx="2225520" cy="370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e need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R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 Black"/>
              </a:rPr>
              <a:t>diff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not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Black"/>
              </a:rPr>
              <a:t>diff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59840" y="0"/>
            <a:ext cx="845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Differential C_comp (Bias = 0 V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209520" y="896760"/>
            <a:ext cx="8237520" cy="48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623880" y="698400"/>
            <a:ext cx="8051760" cy="533412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1803240" y="4335480"/>
            <a:ext cx="2808360" cy="8240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ff. C_comp resembles a pass-b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ilter (BW ~ 1/R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59840" y="0"/>
            <a:ext cx="845028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About Differential C_comp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28520" y="53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"/>
          <p:cNvSpPr/>
          <p:nvPr/>
        </p:nvSpPr>
        <p:spPr>
          <a:xfrm>
            <a:off x="7197840" y="1009800"/>
            <a:ext cx="280800" cy="268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"/>
          <p:cNvSpPr/>
          <p:nvPr/>
        </p:nvSpPr>
        <p:spPr>
          <a:xfrm>
            <a:off x="4152960" y="1144440"/>
            <a:ext cx="305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4329000" y="1149120"/>
            <a:ext cx="0" cy="44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"/>
          <p:cNvSpPr/>
          <p:nvPr/>
        </p:nvSpPr>
        <p:spPr>
          <a:xfrm flipH="1" flipV="1">
            <a:off x="3171600" y="1135080"/>
            <a:ext cx="6120" cy="33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"/>
          <p:cNvSpPr/>
          <p:nvPr/>
        </p:nvSpPr>
        <p:spPr>
          <a:xfrm>
            <a:off x="7020000" y="1515960"/>
            <a:ext cx="56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4115880" y="2101320"/>
            <a:ext cx="345960" cy="562680"/>
            <a:chOff x="4115880" y="2101320"/>
            <a:chExt cx="345960" cy="562680"/>
          </a:xfrm>
        </p:grpSpPr>
        <p:sp>
          <p:nvSpPr>
            <p:cNvPr id="847" name=""/>
            <p:cNvSpPr/>
            <p:nvPr/>
          </p:nvSpPr>
          <p:spPr>
            <a:xfrm flipV="1">
              <a:off x="4289040" y="2101320"/>
              <a:ext cx="0" cy="44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4115880" y="254196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4166640" y="260208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4212720" y="2664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6626160" y="2125800"/>
            <a:ext cx="468360" cy="88920"/>
            <a:chOff x="6626160" y="2125800"/>
            <a:chExt cx="468360" cy="88920"/>
          </a:xfrm>
        </p:grpSpPr>
        <p:sp>
          <p:nvSpPr>
            <p:cNvPr id="852" name=""/>
            <p:cNvSpPr/>
            <p:nvPr/>
          </p:nvSpPr>
          <p:spPr>
            <a:xfrm>
              <a:off x="6626160" y="22147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626160" y="212580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6856560" y="1160640"/>
            <a:ext cx="0" cy="95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6678360" y="2628720"/>
            <a:ext cx="345960" cy="563760"/>
            <a:chOff x="6678360" y="2628720"/>
            <a:chExt cx="345960" cy="563760"/>
          </a:xfrm>
        </p:grpSpPr>
        <p:sp>
          <p:nvSpPr>
            <p:cNvPr id="856" name=""/>
            <p:cNvSpPr/>
            <p:nvPr/>
          </p:nvSpPr>
          <p:spPr>
            <a:xfrm flipV="1">
              <a:off x="6851520" y="2628720"/>
              <a:ext cx="0" cy="44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6678360" y="307008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6729120" y="313020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6775200" y="319248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6854760" y="2236680"/>
            <a:ext cx="0" cy="55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"/>
          <p:cNvSpPr/>
          <p:nvPr/>
        </p:nvSpPr>
        <p:spPr>
          <a:xfrm>
            <a:off x="7225920" y="1984320"/>
            <a:ext cx="13770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3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4000680" y="907200"/>
            <a:ext cx="145440" cy="487440"/>
            <a:chOff x="4000680" y="907200"/>
            <a:chExt cx="145440" cy="487440"/>
          </a:xfrm>
        </p:grpSpPr>
        <p:sp>
          <p:nvSpPr>
            <p:cNvPr id="863" name=""/>
            <p:cNvSpPr/>
            <p:nvPr/>
          </p:nvSpPr>
          <p:spPr>
            <a:xfrm>
              <a:off x="4146120" y="907200"/>
              <a:ext cx="0" cy="48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4000680" y="907560"/>
              <a:ext cx="0" cy="48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2933280" y="2027160"/>
            <a:ext cx="345960" cy="563760"/>
            <a:chOff x="2933280" y="2027160"/>
            <a:chExt cx="345960" cy="563760"/>
          </a:xfrm>
        </p:grpSpPr>
        <p:sp>
          <p:nvSpPr>
            <p:cNvPr id="866" name=""/>
            <p:cNvSpPr/>
            <p:nvPr/>
          </p:nvSpPr>
          <p:spPr>
            <a:xfrm flipV="1">
              <a:off x="3106440" y="2027160"/>
              <a:ext cx="0" cy="44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2933280" y="246852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2984040" y="252864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3030120" y="25909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3533040" y="622440"/>
            <a:ext cx="1402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8.3 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2808360" y="1463760"/>
            <a:ext cx="352080" cy="574200"/>
            <a:chOff x="2808360" y="1463760"/>
            <a:chExt cx="352080" cy="574200"/>
          </a:xfrm>
        </p:grpSpPr>
        <p:sp>
          <p:nvSpPr>
            <p:cNvPr id="872" name=""/>
            <p:cNvSpPr/>
            <p:nvPr/>
          </p:nvSpPr>
          <p:spPr>
            <a:xfrm flipH="1">
              <a:off x="2838240" y="146376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 flipV="1">
              <a:off x="2836800" y="155700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2835360" y="165276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 flipV="1">
              <a:off x="2833560" y="174636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2809800" y="184932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 flipV="1">
              <a:off x="2808360" y="194256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3967200" y="1582560"/>
            <a:ext cx="352080" cy="512640"/>
            <a:chOff x="3967200" y="1582560"/>
            <a:chExt cx="352080" cy="512640"/>
          </a:xfrm>
        </p:grpSpPr>
        <p:sp>
          <p:nvSpPr>
            <p:cNvPr id="879" name=""/>
            <p:cNvSpPr/>
            <p:nvPr/>
          </p:nvSpPr>
          <p:spPr>
            <a:xfrm flipH="1">
              <a:off x="3997080" y="1582560"/>
              <a:ext cx="32220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 flipV="1">
              <a:off x="3995640" y="1666080"/>
              <a:ext cx="32220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3994200" y="1751400"/>
              <a:ext cx="32256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3992400" y="1834920"/>
              <a:ext cx="32220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3968640" y="1926720"/>
              <a:ext cx="32220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>
              <a:off x="3967200" y="2010240"/>
              <a:ext cx="32256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4321440" y="1828800"/>
            <a:ext cx="88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"/>
          <p:cNvSpPr/>
          <p:nvPr/>
        </p:nvSpPr>
        <p:spPr>
          <a:xfrm>
            <a:off x="3187440" y="1387440"/>
            <a:ext cx="75240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5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5692680" y="1141560"/>
            <a:ext cx="0" cy="44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5424480" y="2714760"/>
            <a:ext cx="468360" cy="88920"/>
            <a:chOff x="5424480" y="2714760"/>
            <a:chExt cx="468360" cy="88920"/>
          </a:xfrm>
        </p:grpSpPr>
        <p:sp>
          <p:nvSpPr>
            <p:cNvPr id="889" name=""/>
            <p:cNvSpPr/>
            <p:nvPr/>
          </p:nvSpPr>
          <p:spPr>
            <a:xfrm>
              <a:off x="5424480" y="280368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424480" y="271476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5454360" y="2787480"/>
            <a:ext cx="345960" cy="563760"/>
            <a:chOff x="5454360" y="2787480"/>
            <a:chExt cx="345960" cy="563760"/>
          </a:xfrm>
        </p:grpSpPr>
        <p:sp>
          <p:nvSpPr>
            <p:cNvPr id="892" name=""/>
            <p:cNvSpPr/>
            <p:nvPr/>
          </p:nvSpPr>
          <p:spPr>
            <a:xfrm flipV="1">
              <a:off x="5627520" y="2787480"/>
              <a:ext cx="0" cy="44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5454360" y="322884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5505120" y="328896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5551200" y="33512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5329080" y="1574640"/>
            <a:ext cx="352080" cy="563760"/>
            <a:chOff x="5329080" y="1574640"/>
            <a:chExt cx="352080" cy="563760"/>
          </a:xfrm>
        </p:grpSpPr>
        <p:sp>
          <p:nvSpPr>
            <p:cNvPr id="897" name=""/>
            <p:cNvSpPr/>
            <p:nvPr/>
          </p:nvSpPr>
          <p:spPr>
            <a:xfrm flipH="1">
              <a:off x="5358960" y="1574640"/>
              <a:ext cx="32220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5357520" y="1666440"/>
              <a:ext cx="32220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5356080" y="1760040"/>
              <a:ext cx="32256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 flipV="1">
              <a:off x="5354280" y="1851480"/>
              <a:ext cx="322200" cy="9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5330520" y="1953000"/>
              <a:ext cx="32220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flipV="1">
              <a:off x="5329080" y="2044800"/>
              <a:ext cx="32256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5640480" y="2139840"/>
            <a:ext cx="0" cy="55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"/>
          <p:cNvSpPr/>
          <p:nvPr/>
        </p:nvSpPr>
        <p:spPr>
          <a:xfrm>
            <a:off x="5749560" y="1397160"/>
            <a:ext cx="7354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"/>
          <p:cNvSpPr/>
          <p:nvPr/>
        </p:nvSpPr>
        <p:spPr>
          <a:xfrm>
            <a:off x="5664240" y="2114640"/>
            <a:ext cx="120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P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33 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"/>
          <p:cNvSpPr/>
          <p:nvPr/>
        </p:nvSpPr>
        <p:spPr>
          <a:xfrm>
            <a:off x="3168720" y="1139760"/>
            <a:ext cx="826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"/>
          <p:cNvSpPr/>
          <p:nvPr/>
        </p:nvSpPr>
        <p:spPr>
          <a:xfrm>
            <a:off x="6411960" y="3719520"/>
            <a:ext cx="280800" cy="26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"/>
          <p:cNvSpPr/>
          <p:nvPr/>
        </p:nvSpPr>
        <p:spPr>
          <a:xfrm>
            <a:off x="3367080" y="3860640"/>
            <a:ext cx="305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3543480" y="3846240"/>
            <a:ext cx="0" cy="44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3322440" y="4908240"/>
            <a:ext cx="345960" cy="563760"/>
            <a:chOff x="3322440" y="4908240"/>
            <a:chExt cx="345960" cy="563760"/>
          </a:xfrm>
        </p:grpSpPr>
        <p:sp>
          <p:nvSpPr>
            <p:cNvPr id="911" name=""/>
            <p:cNvSpPr/>
            <p:nvPr/>
          </p:nvSpPr>
          <p:spPr>
            <a:xfrm flipV="1">
              <a:off x="3495600" y="4908240"/>
              <a:ext cx="0" cy="44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3322440" y="534960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3373200" y="540972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3419280" y="54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5840280" y="4842000"/>
            <a:ext cx="468360" cy="88920"/>
            <a:chOff x="5840280" y="4842000"/>
            <a:chExt cx="468360" cy="88920"/>
          </a:xfrm>
        </p:grpSpPr>
        <p:sp>
          <p:nvSpPr>
            <p:cNvPr id="916" name=""/>
            <p:cNvSpPr/>
            <p:nvPr/>
          </p:nvSpPr>
          <p:spPr>
            <a:xfrm>
              <a:off x="5840280" y="49309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840280" y="484200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6070680" y="3876840"/>
            <a:ext cx="0" cy="95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5892480" y="5344920"/>
            <a:ext cx="345960" cy="563760"/>
            <a:chOff x="5892480" y="5344920"/>
            <a:chExt cx="345960" cy="563760"/>
          </a:xfrm>
        </p:grpSpPr>
        <p:sp>
          <p:nvSpPr>
            <p:cNvPr id="920" name=""/>
            <p:cNvSpPr/>
            <p:nvPr/>
          </p:nvSpPr>
          <p:spPr>
            <a:xfrm flipV="1">
              <a:off x="6065640" y="5344920"/>
              <a:ext cx="0" cy="44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5892480" y="578628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5943240" y="584640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5989320" y="590868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6068880" y="4952880"/>
            <a:ext cx="0" cy="55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"/>
          <p:cNvSpPr/>
          <p:nvPr/>
        </p:nvSpPr>
        <p:spPr>
          <a:xfrm>
            <a:off x="6440400" y="4635360"/>
            <a:ext cx="13924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3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3214800" y="3621960"/>
            <a:ext cx="145440" cy="488880"/>
            <a:chOff x="3214800" y="3621960"/>
            <a:chExt cx="145440" cy="488880"/>
          </a:xfrm>
        </p:grpSpPr>
        <p:sp>
          <p:nvSpPr>
            <p:cNvPr id="927" name=""/>
            <p:cNvSpPr/>
            <p:nvPr/>
          </p:nvSpPr>
          <p:spPr>
            <a:xfrm>
              <a:off x="3360240" y="3621960"/>
              <a:ext cx="0" cy="48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3214800" y="3622320"/>
              <a:ext cx="0" cy="48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3181320" y="4297320"/>
            <a:ext cx="352080" cy="623160"/>
            <a:chOff x="3181320" y="4297320"/>
            <a:chExt cx="352080" cy="623160"/>
          </a:xfrm>
        </p:grpSpPr>
        <p:sp>
          <p:nvSpPr>
            <p:cNvPr id="930" name=""/>
            <p:cNvSpPr/>
            <p:nvPr/>
          </p:nvSpPr>
          <p:spPr>
            <a:xfrm flipH="1">
              <a:off x="3211200" y="4297320"/>
              <a:ext cx="32220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3209760" y="4398480"/>
              <a:ext cx="32220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3208320" y="4502520"/>
              <a:ext cx="32256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flipV="1">
              <a:off x="3206520" y="4603680"/>
              <a:ext cx="32220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3182760" y="4716000"/>
              <a:ext cx="32220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3181320" y="4817160"/>
              <a:ext cx="32256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6" name=""/>
          <p:cNvSpPr/>
          <p:nvPr/>
        </p:nvSpPr>
        <p:spPr>
          <a:xfrm flipV="1">
            <a:off x="2482920" y="3844440"/>
            <a:ext cx="6937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"/>
          <p:cNvSpPr/>
          <p:nvPr/>
        </p:nvSpPr>
        <p:spPr>
          <a:xfrm>
            <a:off x="3535920" y="4543560"/>
            <a:ext cx="88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"/>
          <p:cNvSpPr/>
          <p:nvPr/>
        </p:nvSpPr>
        <p:spPr>
          <a:xfrm>
            <a:off x="2482560" y="4143240"/>
            <a:ext cx="75240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5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4906800" y="3857760"/>
            <a:ext cx="0" cy="44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4648320" y="5446800"/>
            <a:ext cx="468360" cy="88920"/>
            <a:chOff x="4648320" y="5446800"/>
            <a:chExt cx="468360" cy="88920"/>
          </a:xfrm>
        </p:grpSpPr>
        <p:sp>
          <p:nvSpPr>
            <p:cNvPr id="941" name=""/>
            <p:cNvSpPr/>
            <p:nvPr/>
          </p:nvSpPr>
          <p:spPr>
            <a:xfrm>
              <a:off x="4648320" y="55357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648320" y="544680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4687560" y="5519520"/>
            <a:ext cx="345960" cy="563760"/>
            <a:chOff x="4687560" y="5519520"/>
            <a:chExt cx="345960" cy="563760"/>
          </a:xfrm>
        </p:grpSpPr>
        <p:sp>
          <p:nvSpPr>
            <p:cNvPr id="944" name=""/>
            <p:cNvSpPr/>
            <p:nvPr/>
          </p:nvSpPr>
          <p:spPr>
            <a:xfrm flipV="1">
              <a:off x="4860720" y="5519520"/>
              <a:ext cx="0" cy="44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4687560" y="596088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4738320" y="602100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4784400" y="608328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4543560" y="4290840"/>
            <a:ext cx="352080" cy="573120"/>
            <a:chOff x="4543560" y="4290840"/>
            <a:chExt cx="352080" cy="573120"/>
          </a:xfrm>
        </p:grpSpPr>
        <p:sp>
          <p:nvSpPr>
            <p:cNvPr id="949" name=""/>
            <p:cNvSpPr/>
            <p:nvPr/>
          </p:nvSpPr>
          <p:spPr>
            <a:xfrm flipH="1">
              <a:off x="4573440" y="429084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 flipV="1">
              <a:off x="4572000" y="438408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4570560" y="4479120"/>
              <a:ext cx="32256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flipV="1">
              <a:off x="4568760" y="4572360"/>
              <a:ext cx="322200" cy="9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4545000" y="467532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 flipV="1">
              <a:off x="4543560" y="4768920"/>
              <a:ext cx="32256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5" name=""/>
          <p:cNvSpPr/>
          <p:nvPr/>
        </p:nvSpPr>
        <p:spPr>
          <a:xfrm>
            <a:off x="4863960" y="4873680"/>
            <a:ext cx="0" cy="55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"/>
          <p:cNvSpPr/>
          <p:nvPr/>
        </p:nvSpPr>
        <p:spPr>
          <a:xfrm>
            <a:off x="4957560" y="4125960"/>
            <a:ext cx="7354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"/>
          <p:cNvSpPr/>
          <p:nvPr/>
        </p:nvSpPr>
        <p:spPr>
          <a:xfrm>
            <a:off x="3125520" y="3203640"/>
            <a:ext cx="141804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8.3 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2476440" y="3855960"/>
            <a:ext cx="0" cy="37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2263320" y="4768560"/>
            <a:ext cx="345960" cy="563760"/>
            <a:chOff x="2263320" y="4768560"/>
            <a:chExt cx="345960" cy="563760"/>
          </a:xfrm>
        </p:grpSpPr>
        <p:sp>
          <p:nvSpPr>
            <p:cNvPr id="960" name=""/>
            <p:cNvSpPr/>
            <p:nvPr/>
          </p:nvSpPr>
          <p:spPr>
            <a:xfrm flipV="1">
              <a:off x="2436480" y="4768560"/>
              <a:ext cx="0" cy="44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2263320" y="520992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2314080" y="527004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2360160" y="53323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2112840" y="4205160"/>
            <a:ext cx="352080" cy="574560"/>
            <a:chOff x="2112840" y="4205160"/>
            <a:chExt cx="352080" cy="574560"/>
          </a:xfrm>
        </p:grpSpPr>
        <p:sp>
          <p:nvSpPr>
            <p:cNvPr id="965" name=""/>
            <p:cNvSpPr/>
            <p:nvPr/>
          </p:nvSpPr>
          <p:spPr>
            <a:xfrm flipH="1">
              <a:off x="2142720" y="420516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 flipV="1">
              <a:off x="2141280" y="429840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2139840" y="439416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flipV="1">
              <a:off x="2138040" y="448812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2114280" y="459072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 flipV="1">
              <a:off x="2112840" y="468432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6235920" y="4316400"/>
            <a:ext cx="56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"/>
          <p:cNvSpPr/>
          <p:nvPr/>
        </p:nvSpPr>
        <p:spPr>
          <a:xfrm>
            <a:off x="4897800" y="4865760"/>
            <a:ext cx="120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33 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"/>
          <p:cNvSpPr/>
          <p:nvPr/>
        </p:nvSpPr>
        <p:spPr>
          <a:xfrm>
            <a:off x="477360" y="1584360"/>
            <a:ext cx="168048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match 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2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high Hz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2P 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2N ad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up, ac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differential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"/>
          <p:cNvSpPr/>
          <p:nvPr/>
        </p:nvSpPr>
        <p:spPr>
          <a:xfrm>
            <a:off x="2087640" y="1444680"/>
            <a:ext cx="622080" cy="2133720"/>
          </a:xfrm>
          <a:prstGeom prst="rect">
            <a:avLst/>
          </a:prstGeom>
          <a:noFill/>
          <a:ln w="1908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"/>
          <p:cNvSpPr/>
          <p:nvPr/>
        </p:nvSpPr>
        <p:spPr>
          <a:xfrm flipH="1" flipV="1">
            <a:off x="2498400" y="1134720"/>
            <a:ext cx="12600" cy="98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2173320" y="2111400"/>
            <a:ext cx="352080" cy="574200"/>
            <a:chOff x="2173320" y="2111400"/>
            <a:chExt cx="352080" cy="574200"/>
          </a:xfrm>
        </p:grpSpPr>
        <p:sp>
          <p:nvSpPr>
            <p:cNvPr id="977" name=""/>
            <p:cNvSpPr/>
            <p:nvPr/>
          </p:nvSpPr>
          <p:spPr>
            <a:xfrm flipH="1">
              <a:off x="2203200" y="211140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 flipV="1">
              <a:off x="2201760" y="220464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2200320" y="230040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 flipV="1">
              <a:off x="2198520" y="239400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2174760" y="249696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 flipV="1">
              <a:off x="2173320" y="259020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3" name=""/>
          <p:cNvSpPr/>
          <p:nvPr/>
        </p:nvSpPr>
        <p:spPr>
          <a:xfrm flipV="1">
            <a:off x="2473200" y="2696760"/>
            <a:ext cx="0" cy="11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"/>
          <p:cNvSpPr/>
          <p:nvPr/>
        </p:nvSpPr>
        <p:spPr>
          <a:xfrm>
            <a:off x="2498760" y="1139760"/>
            <a:ext cx="66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"/>
          <p:cNvSpPr/>
          <p:nvPr/>
        </p:nvSpPr>
        <p:spPr>
          <a:xfrm>
            <a:off x="783720" y="754200"/>
            <a:ext cx="1375560" cy="337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i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0.75 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31760" y="0"/>
            <a:ext cx="7431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Diff. C_comp (Bias = 0.75 V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217440" y="848880"/>
            <a:ext cx="8237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8" name="" descr=""/>
          <p:cNvPicPr/>
          <p:nvPr/>
        </p:nvPicPr>
        <p:blipFill>
          <a:blip r:embed="rId1"/>
          <a:stretch/>
        </p:blipFill>
        <p:spPr>
          <a:xfrm>
            <a:off x="441360" y="635040"/>
            <a:ext cx="7962840" cy="553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50480" y="-360"/>
            <a:ext cx="84596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About Differential C_comp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0" y="615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"/>
          <p:cNvSpPr/>
          <p:nvPr/>
        </p:nvSpPr>
        <p:spPr>
          <a:xfrm>
            <a:off x="6926400" y="1143000"/>
            <a:ext cx="280800" cy="268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"/>
          <p:cNvSpPr/>
          <p:nvPr/>
        </p:nvSpPr>
        <p:spPr>
          <a:xfrm>
            <a:off x="3881520" y="1278000"/>
            <a:ext cx="30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4057560" y="1282320"/>
            <a:ext cx="0" cy="44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2900160" y="1268280"/>
            <a:ext cx="6120" cy="33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"/>
          <p:cNvSpPr/>
          <p:nvPr/>
        </p:nvSpPr>
        <p:spPr>
          <a:xfrm>
            <a:off x="6748560" y="1649520"/>
            <a:ext cx="56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3844440" y="2235240"/>
            <a:ext cx="345960" cy="561960"/>
            <a:chOff x="3844440" y="2235240"/>
            <a:chExt cx="345960" cy="561960"/>
          </a:xfrm>
        </p:grpSpPr>
        <p:sp>
          <p:nvSpPr>
            <p:cNvPr id="997" name=""/>
            <p:cNvSpPr/>
            <p:nvPr/>
          </p:nvSpPr>
          <p:spPr>
            <a:xfrm flipV="1">
              <a:off x="4017600" y="2235240"/>
              <a:ext cx="0" cy="44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3844440" y="267516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3895200" y="273528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3941280" y="27972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6354720" y="2259000"/>
            <a:ext cx="468360" cy="88920"/>
            <a:chOff x="6354720" y="2259000"/>
            <a:chExt cx="468360" cy="88920"/>
          </a:xfrm>
        </p:grpSpPr>
        <p:sp>
          <p:nvSpPr>
            <p:cNvPr id="1002" name=""/>
            <p:cNvSpPr/>
            <p:nvPr/>
          </p:nvSpPr>
          <p:spPr>
            <a:xfrm>
              <a:off x="6354720" y="23479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354720" y="225900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6585120" y="1293840"/>
            <a:ext cx="0" cy="95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6406920" y="2761920"/>
            <a:ext cx="345960" cy="563760"/>
            <a:chOff x="6406920" y="2761920"/>
            <a:chExt cx="345960" cy="563760"/>
          </a:xfrm>
        </p:grpSpPr>
        <p:sp>
          <p:nvSpPr>
            <p:cNvPr id="1006" name=""/>
            <p:cNvSpPr/>
            <p:nvPr/>
          </p:nvSpPr>
          <p:spPr>
            <a:xfrm flipV="1">
              <a:off x="6580080" y="2761920"/>
              <a:ext cx="0" cy="44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6406920" y="320328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6457680" y="326340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6503760" y="332568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10" name=""/>
          <p:cNvSpPr/>
          <p:nvPr/>
        </p:nvSpPr>
        <p:spPr>
          <a:xfrm>
            <a:off x="6583320" y="2370240"/>
            <a:ext cx="0" cy="55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"/>
          <p:cNvSpPr/>
          <p:nvPr/>
        </p:nvSpPr>
        <p:spPr>
          <a:xfrm>
            <a:off x="6649920" y="2511360"/>
            <a:ext cx="16815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6 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3728880" y="1040400"/>
            <a:ext cx="145800" cy="487440"/>
            <a:chOff x="3728880" y="1040400"/>
            <a:chExt cx="145800" cy="487440"/>
          </a:xfrm>
        </p:grpSpPr>
        <p:sp>
          <p:nvSpPr>
            <p:cNvPr id="1013" name=""/>
            <p:cNvSpPr/>
            <p:nvPr/>
          </p:nvSpPr>
          <p:spPr>
            <a:xfrm>
              <a:off x="3874680" y="1040400"/>
              <a:ext cx="0" cy="48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3728880" y="1040760"/>
              <a:ext cx="0" cy="48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2661840" y="2160360"/>
            <a:ext cx="345960" cy="563760"/>
            <a:chOff x="2661840" y="2160360"/>
            <a:chExt cx="345960" cy="563760"/>
          </a:xfrm>
        </p:grpSpPr>
        <p:sp>
          <p:nvSpPr>
            <p:cNvPr id="1016" name=""/>
            <p:cNvSpPr/>
            <p:nvPr/>
          </p:nvSpPr>
          <p:spPr>
            <a:xfrm flipV="1">
              <a:off x="2835000" y="2160360"/>
              <a:ext cx="0" cy="44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2661840" y="260172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2712600" y="266184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2758680" y="27241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3261600" y="755640"/>
            <a:ext cx="15552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.86 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536920" y="1596960"/>
            <a:ext cx="352080" cy="574560"/>
            <a:chOff x="2536920" y="1596960"/>
            <a:chExt cx="352080" cy="574560"/>
          </a:xfrm>
        </p:grpSpPr>
        <p:sp>
          <p:nvSpPr>
            <p:cNvPr id="1022" name=""/>
            <p:cNvSpPr/>
            <p:nvPr/>
          </p:nvSpPr>
          <p:spPr>
            <a:xfrm flipH="1">
              <a:off x="2566800" y="159696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 flipV="1">
              <a:off x="2565360" y="169020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2563920" y="178596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flipV="1">
              <a:off x="2562120" y="187992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2538360" y="198252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 flipV="1">
              <a:off x="2536920" y="207612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3695760" y="1716120"/>
            <a:ext cx="352080" cy="512640"/>
            <a:chOff x="3695760" y="1716120"/>
            <a:chExt cx="352080" cy="512640"/>
          </a:xfrm>
        </p:grpSpPr>
        <p:sp>
          <p:nvSpPr>
            <p:cNvPr id="1029" name=""/>
            <p:cNvSpPr/>
            <p:nvPr/>
          </p:nvSpPr>
          <p:spPr>
            <a:xfrm flipH="1">
              <a:off x="3725640" y="1716120"/>
              <a:ext cx="32220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 flipV="1">
              <a:off x="3724200" y="1799640"/>
              <a:ext cx="32220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3722760" y="1884600"/>
              <a:ext cx="32256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 flipV="1">
              <a:off x="3720960" y="1968120"/>
              <a:ext cx="32220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3697200" y="2059920"/>
              <a:ext cx="32220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 flipV="1">
              <a:off x="3695760" y="2143800"/>
              <a:ext cx="32256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4050000" y="1962000"/>
            <a:ext cx="88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"/>
          <p:cNvSpPr/>
          <p:nvPr/>
        </p:nvSpPr>
        <p:spPr>
          <a:xfrm>
            <a:off x="2916000" y="1521000"/>
            <a:ext cx="75240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5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421240" y="127440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5153040" y="2847960"/>
            <a:ext cx="468360" cy="88920"/>
            <a:chOff x="5153040" y="2847960"/>
            <a:chExt cx="468360" cy="88920"/>
          </a:xfrm>
        </p:grpSpPr>
        <p:sp>
          <p:nvSpPr>
            <p:cNvPr id="1039" name=""/>
            <p:cNvSpPr/>
            <p:nvPr/>
          </p:nvSpPr>
          <p:spPr>
            <a:xfrm>
              <a:off x="5153040" y="2936880"/>
              <a:ext cx="4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153040" y="2847960"/>
              <a:ext cx="4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5195520" y="2933640"/>
            <a:ext cx="345960" cy="563760"/>
            <a:chOff x="5195520" y="2933640"/>
            <a:chExt cx="345960" cy="563760"/>
          </a:xfrm>
        </p:grpSpPr>
        <p:sp>
          <p:nvSpPr>
            <p:cNvPr id="1042" name=""/>
            <p:cNvSpPr/>
            <p:nvPr/>
          </p:nvSpPr>
          <p:spPr>
            <a:xfrm flipV="1">
              <a:off x="5368680" y="2933640"/>
              <a:ext cx="0" cy="44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5195520" y="337500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5246280" y="343512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5292360" y="34974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5057640" y="1708200"/>
            <a:ext cx="352080" cy="562680"/>
            <a:chOff x="5057640" y="1708200"/>
            <a:chExt cx="352080" cy="562680"/>
          </a:xfrm>
        </p:grpSpPr>
        <p:sp>
          <p:nvSpPr>
            <p:cNvPr id="1047" name=""/>
            <p:cNvSpPr/>
            <p:nvPr/>
          </p:nvSpPr>
          <p:spPr>
            <a:xfrm flipH="1">
              <a:off x="5087520" y="1708200"/>
              <a:ext cx="322200" cy="9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 flipV="1">
              <a:off x="5086080" y="1799640"/>
              <a:ext cx="322200" cy="9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5084640" y="1893600"/>
              <a:ext cx="322560" cy="9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 flipV="1">
              <a:off x="5082840" y="1985040"/>
              <a:ext cx="322200" cy="9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5059080" y="2086200"/>
              <a:ext cx="322200" cy="9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 flipV="1">
              <a:off x="5057640" y="2177640"/>
              <a:ext cx="322560" cy="9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5369040" y="2273400"/>
            <a:ext cx="0" cy="55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"/>
          <p:cNvSpPr/>
          <p:nvPr/>
        </p:nvSpPr>
        <p:spPr>
          <a:xfrm>
            <a:off x="5478120" y="1530360"/>
            <a:ext cx="88776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"/>
          <p:cNvSpPr/>
          <p:nvPr/>
        </p:nvSpPr>
        <p:spPr>
          <a:xfrm>
            <a:off x="5392440" y="2247840"/>
            <a:ext cx="120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P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.6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6" name=""/>
          <p:cNvSpPr/>
          <p:nvPr/>
        </p:nvSpPr>
        <p:spPr>
          <a:xfrm>
            <a:off x="2897280" y="1273320"/>
            <a:ext cx="826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"/>
          <p:cNvSpPr/>
          <p:nvPr/>
        </p:nvSpPr>
        <p:spPr>
          <a:xfrm>
            <a:off x="6140520" y="3852720"/>
            <a:ext cx="280800" cy="26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"/>
          <p:cNvSpPr/>
          <p:nvPr/>
        </p:nvSpPr>
        <p:spPr>
          <a:xfrm>
            <a:off x="3095640" y="3994200"/>
            <a:ext cx="305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3271680" y="3979440"/>
            <a:ext cx="0" cy="44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3050640" y="5041800"/>
            <a:ext cx="345960" cy="563760"/>
            <a:chOff x="3050640" y="5041800"/>
            <a:chExt cx="345960" cy="563760"/>
          </a:xfrm>
        </p:grpSpPr>
        <p:sp>
          <p:nvSpPr>
            <p:cNvPr id="1061" name=""/>
            <p:cNvSpPr/>
            <p:nvPr/>
          </p:nvSpPr>
          <p:spPr>
            <a:xfrm flipV="1">
              <a:off x="3223800" y="5041800"/>
              <a:ext cx="0" cy="44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3050640" y="548316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3101400" y="554328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3147480" y="56055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5568840" y="4975200"/>
            <a:ext cx="468360" cy="88920"/>
            <a:chOff x="5568840" y="4975200"/>
            <a:chExt cx="468360" cy="88920"/>
          </a:xfrm>
        </p:grpSpPr>
        <p:sp>
          <p:nvSpPr>
            <p:cNvPr id="1066" name=""/>
            <p:cNvSpPr/>
            <p:nvPr/>
          </p:nvSpPr>
          <p:spPr>
            <a:xfrm>
              <a:off x="5568840" y="50641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568840" y="497520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5799240" y="4010040"/>
            <a:ext cx="0" cy="95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5621040" y="5478120"/>
            <a:ext cx="345960" cy="563760"/>
            <a:chOff x="5621040" y="5478120"/>
            <a:chExt cx="345960" cy="563760"/>
          </a:xfrm>
        </p:grpSpPr>
        <p:sp>
          <p:nvSpPr>
            <p:cNvPr id="1070" name=""/>
            <p:cNvSpPr/>
            <p:nvPr/>
          </p:nvSpPr>
          <p:spPr>
            <a:xfrm flipV="1">
              <a:off x="5794200" y="5478120"/>
              <a:ext cx="0" cy="44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5621040" y="591948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5671800" y="597960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5717880" y="604188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5797440" y="5086440"/>
            <a:ext cx="0" cy="55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"/>
          <p:cNvSpPr/>
          <p:nvPr/>
        </p:nvSpPr>
        <p:spPr>
          <a:xfrm>
            <a:off x="6168960" y="4768920"/>
            <a:ext cx="169704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6 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2943360" y="3755160"/>
            <a:ext cx="145440" cy="488880"/>
            <a:chOff x="2943360" y="3755160"/>
            <a:chExt cx="145440" cy="488880"/>
          </a:xfrm>
        </p:grpSpPr>
        <p:sp>
          <p:nvSpPr>
            <p:cNvPr id="1077" name=""/>
            <p:cNvSpPr/>
            <p:nvPr/>
          </p:nvSpPr>
          <p:spPr>
            <a:xfrm>
              <a:off x="3088800" y="3755160"/>
              <a:ext cx="0" cy="48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2943360" y="3755520"/>
              <a:ext cx="0" cy="48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2909880" y="4430880"/>
            <a:ext cx="352080" cy="623160"/>
            <a:chOff x="2909880" y="4430880"/>
            <a:chExt cx="352080" cy="623160"/>
          </a:xfrm>
        </p:grpSpPr>
        <p:sp>
          <p:nvSpPr>
            <p:cNvPr id="1080" name=""/>
            <p:cNvSpPr/>
            <p:nvPr/>
          </p:nvSpPr>
          <p:spPr>
            <a:xfrm flipH="1">
              <a:off x="2939760" y="4430880"/>
              <a:ext cx="32220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 flipV="1">
              <a:off x="2938320" y="4532040"/>
              <a:ext cx="32220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2936880" y="4636080"/>
              <a:ext cx="32256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 flipV="1">
              <a:off x="2935080" y="4737240"/>
              <a:ext cx="32220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2911320" y="4849560"/>
              <a:ext cx="32220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 flipV="1">
              <a:off x="2909880" y="4950720"/>
              <a:ext cx="32256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86" name=""/>
          <p:cNvSpPr/>
          <p:nvPr/>
        </p:nvSpPr>
        <p:spPr>
          <a:xfrm flipV="1">
            <a:off x="2211480" y="3978360"/>
            <a:ext cx="693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7" name=""/>
          <p:cNvSpPr/>
          <p:nvPr/>
        </p:nvSpPr>
        <p:spPr>
          <a:xfrm>
            <a:off x="3264480" y="4676760"/>
            <a:ext cx="88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"/>
          <p:cNvSpPr/>
          <p:nvPr/>
        </p:nvSpPr>
        <p:spPr>
          <a:xfrm>
            <a:off x="2211120" y="4276800"/>
            <a:ext cx="75240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5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4635360" y="399060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4376880" y="5580000"/>
            <a:ext cx="468000" cy="88920"/>
            <a:chOff x="4376880" y="5580000"/>
            <a:chExt cx="468000" cy="88920"/>
          </a:xfrm>
        </p:grpSpPr>
        <p:sp>
          <p:nvSpPr>
            <p:cNvPr id="1091" name=""/>
            <p:cNvSpPr/>
            <p:nvPr/>
          </p:nvSpPr>
          <p:spPr>
            <a:xfrm>
              <a:off x="4376880" y="5668920"/>
              <a:ext cx="468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376880" y="5580000"/>
              <a:ext cx="468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4416120" y="5652720"/>
            <a:ext cx="345960" cy="563760"/>
            <a:chOff x="4416120" y="5652720"/>
            <a:chExt cx="345960" cy="563760"/>
          </a:xfrm>
        </p:grpSpPr>
        <p:sp>
          <p:nvSpPr>
            <p:cNvPr id="1094" name=""/>
            <p:cNvSpPr/>
            <p:nvPr/>
          </p:nvSpPr>
          <p:spPr>
            <a:xfrm flipV="1">
              <a:off x="4589280" y="5652720"/>
              <a:ext cx="0" cy="44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4416120" y="609408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4466880" y="615420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4512960" y="621648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4272120" y="4424400"/>
            <a:ext cx="352080" cy="573120"/>
            <a:chOff x="4272120" y="4424400"/>
            <a:chExt cx="352080" cy="573120"/>
          </a:xfrm>
        </p:grpSpPr>
        <p:sp>
          <p:nvSpPr>
            <p:cNvPr id="1099" name=""/>
            <p:cNvSpPr/>
            <p:nvPr/>
          </p:nvSpPr>
          <p:spPr>
            <a:xfrm flipH="1">
              <a:off x="4302000" y="442440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 flipV="1">
              <a:off x="4300560" y="451764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4299120" y="4612680"/>
              <a:ext cx="32256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 flipV="1">
              <a:off x="4297320" y="4705920"/>
              <a:ext cx="322200" cy="9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4273560" y="480888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4272120" y="4902480"/>
              <a:ext cx="32256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4592520" y="5006880"/>
            <a:ext cx="0" cy="55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"/>
          <p:cNvSpPr/>
          <p:nvPr/>
        </p:nvSpPr>
        <p:spPr>
          <a:xfrm>
            <a:off x="4686120" y="4259160"/>
            <a:ext cx="88776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"/>
          <p:cNvSpPr/>
          <p:nvPr/>
        </p:nvSpPr>
        <p:spPr>
          <a:xfrm>
            <a:off x="2854080" y="3336840"/>
            <a:ext cx="15703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.86 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2205000" y="3989160"/>
            <a:ext cx="0" cy="37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1991880" y="4902120"/>
            <a:ext cx="345960" cy="563760"/>
            <a:chOff x="1991880" y="4902120"/>
            <a:chExt cx="345960" cy="563760"/>
          </a:xfrm>
        </p:grpSpPr>
        <p:sp>
          <p:nvSpPr>
            <p:cNvPr id="1110" name=""/>
            <p:cNvSpPr/>
            <p:nvPr/>
          </p:nvSpPr>
          <p:spPr>
            <a:xfrm flipV="1">
              <a:off x="2165040" y="4902120"/>
              <a:ext cx="0" cy="44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1991880" y="534348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2042640" y="540360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2088720" y="546588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1841400" y="4338720"/>
            <a:ext cx="352080" cy="574200"/>
            <a:chOff x="1841400" y="4338720"/>
            <a:chExt cx="352080" cy="574200"/>
          </a:xfrm>
        </p:grpSpPr>
        <p:sp>
          <p:nvSpPr>
            <p:cNvPr id="1115" name=""/>
            <p:cNvSpPr/>
            <p:nvPr/>
          </p:nvSpPr>
          <p:spPr>
            <a:xfrm flipH="1">
              <a:off x="1871280" y="433872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 flipV="1">
              <a:off x="1869840" y="443196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1868400" y="452772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 flipV="1">
              <a:off x="1866600" y="462132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1842840" y="472428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 flipV="1">
              <a:off x="1841400" y="481752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21" name=""/>
          <p:cNvSpPr/>
          <p:nvPr/>
        </p:nvSpPr>
        <p:spPr>
          <a:xfrm>
            <a:off x="5964480" y="4449600"/>
            <a:ext cx="56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"/>
          <p:cNvSpPr/>
          <p:nvPr/>
        </p:nvSpPr>
        <p:spPr>
          <a:xfrm>
            <a:off x="4626000" y="4998960"/>
            <a:ext cx="120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.6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3" name=""/>
          <p:cNvSpPr/>
          <p:nvPr/>
        </p:nvSpPr>
        <p:spPr>
          <a:xfrm>
            <a:off x="205920" y="1717560"/>
            <a:ext cx="168048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match 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2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high Hz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2P 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2N ad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up, ac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differential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4" name=""/>
          <p:cNvSpPr/>
          <p:nvPr/>
        </p:nvSpPr>
        <p:spPr>
          <a:xfrm>
            <a:off x="1816200" y="1577880"/>
            <a:ext cx="622080" cy="2133720"/>
          </a:xfrm>
          <a:prstGeom prst="rect">
            <a:avLst/>
          </a:prstGeom>
          <a:noFill/>
          <a:ln w="1908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"/>
          <p:cNvSpPr/>
          <p:nvPr/>
        </p:nvSpPr>
        <p:spPr>
          <a:xfrm flipH="1" flipV="1">
            <a:off x="2226960" y="1268280"/>
            <a:ext cx="12600" cy="98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1901880" y="2244600"/>
            <a:ext cx="352080" cy="574560"/>
            <a:chOff x="1901880" y="2244600"/>
            <a:chExt cx="352080" cy="574560"/>
          </a:xfrm>
        </p:grpSpPr>
        <p:sp>
          <p:nvSpPr>
            <p:cNvPr id="1127" name=""/>
            <p:cNvSpPr/>
            <p:nvPr/>
          </p:nvSpPr>
          <p:spPr>
            <a:xfrm flipH="1">
              <a:off x="1931760" y="224460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 flipV="1">
              <a:off x="1930320" y="233784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1928880" y="243360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 flipV="1">
              <a:off x="1927080" y="252756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1903320" y="263016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 flipV="1">
              <a:off x="1901880" y="272376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33" name=""/>
          <p:cNvSpPr/>
          <p:nvPr/>
        </p:nvSpPr>
        <p:spPr>
          <a:xfrm flipV="1">
            <a:off x="2201760" y="2830320"/>
            <a:ext cx="0" cy="11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"/>
          <p:cNvSpPr/>
          <p:nvPr/>
        </p:nvSpPr>
        <p:spPr>
          <a:xfrm>
            <a:off x="2227320" y="1273320"/>
            <a:ext cx="66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5" name=""/>
          <p:cNvSpPr/>
          <p:nvPr/>
        </p:nvSpPr>
        <p:spPr>
          <a:xfrm>
            <a:off x="502560" y="887400"/>
            <a:ext cx="1260000" cy="337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i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.5 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743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Diff. C_comp (Bias = 1.5 V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0" y="1039680"/>
            <a:ext cx="8237520" cy="48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8" name="" descr=""/>
          <p:cNvPicPr/>
          <p:nvPr/>
        </p:nvPicPr>
        <p:blipFill>
          <a:blip r:embed="rId1"/>
          <a:stretch/>
        </p:blipFill>
        <p:spPr>
          <a:xfrm>
            <a:off x="484200" y="765000"/>
            <a:ext cx="8204040" cy="547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 Simple Proposal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6040" y="668160"/>
            <a:ext cx="8237520" cy="52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 two “traditional” IBIS keywords to IBIS 5.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[C_comp Series R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[C_comp Series C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_comp Series R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anch </a:t>
            </a:r>
            <a:r>
              <a:rPr b="1" lang="en-US" sz="1600" spc="-1" strike="noStrike">
                <a:solidFill>
                  <a:srgbClr val="c7015b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units below are volts, oh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Voltage          typ      min    ma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.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2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NA      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.75               2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NA      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.5               80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NA      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_comp Series C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anch </a:t>
            </a:r>
            <a:r>
              <a:rPr b="1" lang="en-US" sz="1600" spc="-1" strike="noStrike">
                <a:solidFill>
                  <a:srgbClr val="c7015b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units below are volts, fara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Voltage          typ    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n    ma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.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4p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      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.75              2.33p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      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.5               1.63p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      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3341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oncep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6040" y="754200"/>
            <a:ext cx="823752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approach captures both buffer Z(f) and Z(V) variations, improving time- and frequency-domain mod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supports the “Rdie” DDR approach currently documented by JEDEC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avoids direct frequency-based tables, difficult extraction methods or extensive model pre-processing. 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pporting these in today's tools should not represent any more of a burden than classic C_comp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ables here cover an I-V-like voltage range, but need not match I-V ranges for any particular table.  In many cases a pair of voltage rows for a particular [... R] and [... C] with different voltages but identical R and C values per corner would be perfectly adequate.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506520" y="1108080"/>
            <a:ext cx="7304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76280" y="2112840"/>
            <a:ext cx="468360" cy="93600"/>
            <a:chOff x="476280" y="2112840"/>
            <a:chExt cx="468360" cy="93600"/>
          </a:xfrm>
        </p:grpSpPr>
        <p:sp>
          <p:nvSpPr>
            <p:cNvPr id="94" name=""/>
            <p:cNvSpPr/>
            <p:nvPr/>
          </p:nvSpPr>
          <p:spPr>
            <a:xfrm>
              <a:off x="476280" y="220644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6280" y="211284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706320" y="1098720"/>
            <a:ext cx="0" cy="10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19120" y="2642760"/>
            <a:ext cx="374400" cy="592560"/>
            <a:chOff x="519120" y="2642760"/>
            <a:chExt cx="374400" cy="592560"/>
          </a:xfrm>
        </p:grpSpPr>
        <p:sp>
          <p:nvSpPr>
            <p:cNvPr id="98" name=""/>
            <p:cNvSpPr/>
            <p:nvPr/>
          </p:nvSpPr>
          <p:spPr>
            <a:xfrm flipV="1">
              <a:off x="705960" y="264276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519120" y="3106800"/>
              <a:ext cx="37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73480" y="3170160"/>
              <a:ext cx="266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23880" y="3235320"/>
              <a:ext cx="164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704880" y="223056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797400" y="1706400"/>
            <a:ext cx="691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7827840" y="947880"/>
            <a:ext cx="281160" cy="280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38160" y="2468520"/>
            <a:ext cx="468360" cy="93600"/>
            <a:chOff x="1838160" y="2468520"/>
            <a:chExt cx="468360" cy="93600"/>
          </a:xfrm>
        </p:grpSpPr>
        <p:sp>
          <p:nvSpPr>
            <p:cNvPr id="106" name=""/>
            <p:cNvSpPr/>
            <p:nvPr/>
          </p:nvSpPr>
          <p:spPr>
            <a:xfrm>
              <a:off x="1838160" y="25621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38160" y="24685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917360" y="2572920"/>
            <a:ext cx="345960" cy="592560"/>
            <a:chOff x="1917360" y="2572920"/>
            <a:chExt cx="345960" cy="592560"/>
          </a:xfrm>
        </p:grpSpPr>
        <p:sp>
          <p:nvSpPr>
            <p:cNvPr id="109" name=""/>
            <p:cNvSpPr/>
            <p:nvPr/>
          </p:nvSpPr>
          <p:spPr>
            <a:xfrm flipV="1">
              <a:off x="2090520" y="257292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917360" y="303696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968120" y="310032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014200" y="316548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046040" y="1455840"/>
            <a:ext cx="236520" cy="664560"/>
            <a:chOff x="4046040" y="1455840"/>
            <a:chExt cx="236520" cy="664560"/>
          </a:xfrm>
        </p:grpSpPr>
        <p:sp>
          <p:nvSpPr>
            <p:cNvPr id="114" name=""/>
            <p:cNvSpPr/>
            <p:nvPr/>
          </p:nvSpPr>
          <p:spPr>
            <a:xfrm flipH="1">
              <a:off x="4066560" y="145584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4065480" y="156420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4064040" y="1674360"/>
              <a:ext cx="21636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4063320" y="178308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4047480" y="190188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4046040" y="2010240"/>
              <a:ext cx="21636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855440" y="1463760"/>
            <a:ext cx="236520" cy="664560"/>
            <a:chOff x="1855440" y="1463760"/>
            <a:chExt cx="236520" cy="664560"/>
          </a:xfrm>
        </p:grpSpPr>
        <p:sp>
          <p:nvSpPr>
            <p:cNvPr id="121" name=""/>
            <p:cNvSpPr/>
            <p:nvPr/>
          </p:nvSpPr>
          <p:spPr>
            <a:xfrm flipH="1">
              <a:off x="1875960" y="146376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1874880" y="157212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873440" y="1682280"/>
              <a:ext cx="21636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1872720" y="179100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856880" y="190980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1855440" y="2018160"/>
              <a:ext cx="21636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082960" y="11239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10987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2079720" y="21272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002120" y="2482920"/>
            <a:ext cx="468360" cy="93600"/>
            <a:chOff x="4002120" y="2482920"/>
            <a:chExt cx="468360" cy="93600"/>
          </a:xfrm>
        </p:grpSpPr>
        <p:sp>
          <p:nvSpPr>
            <p:cNvPr id="131" name=""/>
            <p:cNvSpPr/>
            <p:nvPr/>
          </p:nvSpPr>
          <p:spPr>
            <a:xfrm>
              <a:off x="4002120" y="25765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02120" y="24829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080960" y="2575080"/>
            <a:ext cx="345960" cy="591840"/>
            <a:chOff x="4080960" y="2575080"/>
            <a:chExt cx="345960" cy="591840"/>
          </a:xfrm>
        </p:grpSpPr>
        <p:sp>
          <p:nvSpPr>
            <p:cNvPr id="134" name=""/>
            <p:cNvSpPr/>
            <p:nvPr/>
          </p:nvSpPr>
          <p:spPr>
            <a:xfrm flipV="1">
              <a:off x="4254120" y="2575080"/>
              <a:ext cx="0" cy="46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080960" y="303840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131720" y="310176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177800" y="31669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243320" y="21286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742840" y="1873080"/>
            <a:ext cx="1076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anch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082920" y="1473120"/>
            <a:ext cx="236520" cy="664920"/>
            <a:chOff x="6082920" y="1473120"/>
            <a:chExt cx="236520" cy="664920"/>
          </a:xfrm>
        </p:grpSpPr>
        <p:sp>
          <p:nvSpPr>
            <p:cNvPr id="141" name=""/>
            <p:cNvSpPr/>
            <p:nvPr/>
          </p:nvSpPr>
          <p:spPr>
            <a:xfrm flipH="1">
              <a:off x="6103440" y="147312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6102360" y="158148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100920" y="1692000"/>
              <a:ext cx="21636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100200" y="180036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6084360" y="191952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6082920" y="2027880"/>
              <a:ext cx="21636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321600" y="1116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039000" y="2500200"/>
            <a:ext cx="468000" cy="93600"/>
            <a:chOff x="6039000" y="2500200"/>
            <a:chExt cx="468000" cy="93600"/>
          </a:xfrm>
        </p:grpSpPr>
        <p:sp>
          <p:nvSpPr>
            <p:cNvPr id="149" name=""/>
            <p:cNvSpPr/>
            <p:nvPr/>
          </p:nvSpPr>
          <p:spPr>
            <a:xfrm>
              <a:off x="6039000" y="2593800"/>
              <a:ext cx="468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39000" y="2500200"/>
              <a:ext cx="468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117840" y="2592000"/>
            <a:ext cx="345960" cy="592560"/>
            <a:chOff x="6117840" y="2592000"/>
            <a:chExt cx="345960" cy="592560"/>
          </a:xfrm>
        </p:grpSpPr>
        <p:sp>
          <p:nvSpPr>
            <p:cNvPr id="152" name=""/>
            <p:cNvSpPr/>
            <p:nvPr/>
          </p:nvSpPr>
          <p:spPr>
            <a:xfrm flipV="1">
              <a:off x="6291000" y="259200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6117840" y="305604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68600" y="311940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6214680" y="31845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280200" y="21463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2314440" y="1247760"/>
            <a:ext cx="400320" cy="1600200"/>
          </a:xfrm>
          <a:custGeom>
            <a:avLst/>
            <a:gdLst>
              <a:gd name="textAreaLeft" fmla="*/ 0 w 400320"/>
              <a:gd name="textAreaRight" fmla="*/ 144360 w 4003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c7015b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874760" y="1909800"/>
            <a:ext cx="1076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anch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4446720" y="1284120"/>
            <a:ext cx="399960" cy="1600200"/>
          </a:xfrm>
          <a:custGeom>
            <a:avLst/>
            <a:gdLst>
              <a:gd name="textAreaLeft" fmla="*/ 0 w 399960"/>
              <a:gd name="textAreaRight" fmla="*/ 144360 w 3999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c7015b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6968880" y="1917720"/>
            <a:ext cx="1076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anch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6540480" y="1292400"/>
            <a:ext cx="399960" cy="1600200"/>
          </a:xfrm>
          <a:custGeom>
            <a:avLst/>
            <a:gdLst>
              <a:gd name="textAreaLeft" fmla="*/ 0 w 399960"/>
              <a:gd name="textAreaRight" fmla="*/ 144360 w 3999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c7015b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8134200" y="2085840"/>
            <a:ext cx="762120" cy="0"/>
          </a:xfrm>
          <a:prstGeom prst="line">
            <a:avLst/>
          </a:prstGeom>
          <a:ln w="76320">
            <a:solidFill>
              <a:srgbClr val="c7015b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8224920" y="2173320"/>
            <a:ext cx="485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7015b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Keyword Syntax Rule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5760" y="705960"/>
            <a:ext cx="82375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C_comp Series R] and [C_comp Series C]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re optiona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re hierarchically located within [Model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ay appear multiple times within any [Model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ontain only one subparameter, "Branch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ontain four columns of data after the required subparame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olumns are voltage, and typ/min/max ohms (for [... Series R]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olumns are voltage, and typ/min/max farads (for [... Series C]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do not affect, override or interfere with existing C_comp 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f one is present, the other is required for any given Branch val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voltage corresponds to pad vs. pulldown/ground clamp rail (really, the bias voltage for AC sweep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voltage sweep should correspond to pulldown range (-Vcc to 2*Vcc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ust not contain negative values (voltage, capacitance or resistanc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ranch subparame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s required for any usage of [C_comp Series R] and/or [C_comp Series C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ontains an integer argument, positive and non-zer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o two [... Series C] tables may have the same Branch value in the same [Model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o two [... Series R] tables may have the same Branch value in the same [Model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f multiple tables are present, one must use the value 1 and others must use sequential increasing Branch 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Issue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36160" y="705960"/>
            <a:ext cx="845676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se keywords are generally subject to the same usage rules and restrictions as C_comp (e.g., not in series devices or [Driver Schedule] scheduled models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special treatment or procedure is defined here for differential buffers.  A differential RC could be defined in a separate keyword structure, along with a differential C_comp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se keywords are not expected to be used with multi-lingual (IBIS 4.1/4.2) buff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BIS AMI should be unaffected, though the use of heavily voltage-dependent RC circuits may violate the LTI assumption in some cas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itional keywords or subparameters may be required should separate RC circuits connected to the pullup rail, power clamp rail, etc. be need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act to and usage in ECL designs is unknow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79440" y="28350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From April &amp; October 2004</a:t>
            </a:r>
            <a:br>
              <a:rPr sz="2800"/>
            </a:b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IBIS Summits…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8237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08080" y="151920"/>
            <a:ext cx="7316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How is C_comp data collected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9280" y="761760"/>
            <a:ext cx="7248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99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66"/>
                </a:solidFill>
                <a:latin typeface="Verdana"/>
              </a:rPr>
              <a:t>Common method for single-ended buffer C_com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Vsource with known edge rate, dV/d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sure the input curr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culate capacitance (may have to take an averag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378080" y="1111320"/>
            <a:ext cx="5581440" cy="1896840"/>
            <a:chOff x="1378080" y="1111320"/>
            <a:chExt cx="5581440" cy="1896840"/>
          </a:xfrm>
        </p:grpSpPr>
        <p:sp>
          <p:nvSpPr>
            <p:cNvPr id="173" name=""/>
            <p:cNvSpPr/>
            <p:nvPr/>
          </p:nvSpPr>
          <p:spPr>
            <a:xfrm rot="5400000">
              <a:off x="1486080" y="1002960"/>
              <a:ext cx="1091160" cy="1307520"/>
            </a:xfrm>
            <a:prstGeom prst="triangle">
              <a:avLst>
                <a:gd name="adj" fmla="val 50000"/>
              </a:avLst>
            </a:prstGeom>
            <a:solidFill>
              <a:srgbClr val="ff5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49960" y="1661040"/>
              <a:ext cx="101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74920" y="1482120"/>
              <a:ext cx="76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Driver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55120" y="1893240"/>
              <a:ext cx="800280" cy="7304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64080" y="1652760"/>
              <a:ext cx="0" cy="23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139200" y="1849680"/>
              <a:ext cx="1022760" cy="74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64080" y="2615040"/>
              <a:ext cx="0" cy="23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56720" y="2838600"/>
              <a:ext cx="42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30520" y="2916000"/>
              <a:ext cx="26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13680" y="2990880"/>
              <a:ext cx="11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2970000" y="1497960"/>
              <a:ext cx="791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758120" y="1987920"/>
              <a:ext cx="2080800" cy="627120"/>
              <a:chOff x="4758120" y="1987920"/>
              <a:chExt cx="2080800" cy="627120"/>
            </a:xfrm>
          </p:grpSpPr>
          <p:sp>
            <p:nvSpPr>
              <p:cNvPr id="185" name=""/>
              <p:cNvSpPr/>
              <p:nvPr/>
            </p:nvSpPr>
            <p:spPr>
              <a:xfrm flipV="1">
                <a:off x="5389200" y="1996200"/>
                <a:ext cx="827280" cy="6181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216480" y="1987920"/>
                <a:ext cx="6224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758120" y="2615040"/>
                <a:ext cx="6224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 rot="13786800">
              <a:off x="5868360" y="2118600"/>
              <a:ext cx="412560" cy="889560"/>
            </a:xfrm>
            <a:custGeom>
              <a:avLst/>
              <a:gdLst>
                <a:gd name="textAreaLeft" fmla="*/ 263520 w 412560"/>
                <a:gd name="textAreaRight" fmla="*/ 412920 w 412560"/>
                <a:gd name="textAreaTop" fmla="*/ 23040 h 889560"/>
                <a:gd name="textAreaBottom" fmla="*/ 866520 h 88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47200" y="1129680"/>
              <a:ext cx="24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31480" y="2075400"/>
              <a:ext cx="18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58640" y="2109600"/>
              <a:ext cx="94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Vsourc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58960" y="2642400"/>
              <a:ext cx="70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dV/dt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004760" y="4295880"/>
            <a:ext cx="5681520" cy="1038240"/>
            <a:chOff x="1004760" y="4295880"/>
            <a:chExt cx="5681520" cy="1038240"/>
          </a:xfrm>
        </p:grpSpPr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004760" y="4295880"/>
                  <a:ext cx="1751040" cy="84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C</m:t>
                      </m:r>
                      <m:r>
                        <m:t xml:space="preserve">∗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4814640" y="4314960"/>
                  <a:ext cx="1871640" cy="101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I</m:t>
                          </m:r>
                        </m:num>
                        <m:den>
                          <m:r>
                            <m:t xml:space="preserve">(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"/>
            <p:cNvSpPr/>
            <p:nvPr/>
          </p:nvSpPr>
          <p:spPr>
            <a:xfrm>
              <a:off x="3841560" y="4505400"/>
              <a:ext cx="6764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015920" y="5334120"/>
            <a:ext cx="6769080" cy="660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at about for the differential cas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ow about pre-emphasis (wired-or structures)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6040" y="114480"/>
            <a:ext cx="74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IBIS for SerDes Pre-Emphasi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419200" y="1571760"/>
            <a:ext cx="684360" cy="637920"/>
          </a:xfrm>
          <a:prstGeom prst="ellipse">
            <a:avLst/>
          </a:prstGeom>
          <a:solidFill>
            <a:srgbClr val="ff5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2760840" y="1636560"/>
            <a:ext cx="0" cy="509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2760840" y="1380960"/>
            <a:ext cx="0" cy="19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2760840" y="2209680"/>
            <a:ext cx="0" cy="3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1873080" y="2592360"/>
            <a:ext cx="177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873080" y="25923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3649680" y="25923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668600" y="2909880"/>
            <a:ext cx="204480" cy="3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3649680" y="2909880"/>
            <a:ext cx="204840" cy="3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1873080" y="3228840"/>
            <a:ext cx="0" cy="76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3649680" y="3228840"/>
            <a:ext cx="0" cy="76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1805040" y="3738600"/>
            <a:ext cx="136440" cy="128520"/>
          </a:xfrm>
          <a:prstGeom prst="ellipse">
            <a:avLst/>
          </a:prstGeom>
          <a:solidFill>
            <a:srgbClr val="ff5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1668600" y="4759200"/>
            <a:ext cx="40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1736640" y="4822920"/>
            <a:ext cx="27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1805040" y="48862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873080" y="3994200"/>
            <a:ext cx="204840" cy="636120"/>
            <a:chOff x="1873080" y="3994200"/>
            <a:chExt cx="204840" cy="636120"/>
          </a:xfrm>
        </p:grpSpPr>
        <p:sp>
          <p:nvSpPr>
            <p:cNvPr id="215" name=""/>
            <p:cNvSpPr/>
            <p:nvPr/>
          </p:nvSpPr>
          <p:spPr>
            <a:xfrm>
              <a:off x="1873080" y="399420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73080" y="4205880"/>
              <a:ext cx="20484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873080" y="431244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873080" y="410004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73080" y="441828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1873080" y="4524120"/>
              <a:ext cx="20484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873080" y="463068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3444840" y="4759200"/>
            <a:ext cx="40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3513240" y="4822920"/>
            <a:ext cx="27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4886280"/>
            <a:ext cx="13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649680" y="3994200"/>
            <a:ext cx="204840" cy="636120"/>
            <a:chOff x="3649680" y="3994200"/>
            <a:chExt cx="204840" cy="636120"/>
          </a:xfrm>
        </p:grpSpPr>
        <p:sp>
          <p:nvSpPr>
            <p:cNvPr id="226" name=""/>
            <p:cNvSpPr/>
            <p:nvPr/>
          </p:nvSpPr>
          <p:spPr>
            <a:xfrm>
              <a:off x="3649680" y="399420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49680" y="4205880"/>
              <a:ext cx="20484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3649680" y="431244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649680" y="410004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9680" y="441828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649680" y="4524120"/>
              <a:ext cx="20484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649680" y="463068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3581280" y="3357720"/>
            <a:ext cx="136800" cy="126720"/>
          </a:xfrm>
          <a:prstGeom prst="ellipse">
            <a:avLst/>
          </a:prstGeom>
          <a:solidFill>
            <a:srgbClr val="ff5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1941480" y="3803760"/>
            <a:ext cx="16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5834160" y="1571760"/>
            <a:ext cx="684000" cy="637920"/>
          </a:xfrm>
          <a:prstGeom prst="ellipse">
            <a:avLst/>
          </a:prstGeom>
          <a:solidFill>
            <a:srgbClr val="ff5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176880" y="1636560"/>
            <a:ext cx="0" cy="509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6176880" y="1380960"/>
            <a:ext cx="0" cy="19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6176880" y="2209680"/>
            <a:ext cx="0" cy="3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5288040" y="2592360"/>
            <a:ext cx="177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5288040" y="25923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>
            <a:off x="7064280" y="25923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082840" y="2909880"/>
            <a:ext cx="204840" cy="3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7064280" y="2909880"/>
            <a:ext cx="204840" cy="3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1397160" y="277668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3938040" y="278280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4758840" y="278280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7344360" y="27828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1989360" y="348444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X+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3097080" y="3133800"/>
            <a:ext cx="4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X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489560" y="3989520"/>
            <a:ext cx="2241360" cy="1822320"/>
            <a:chOff x="4489560" y="3989520"/>
            <a:chExt cx="2241360" cy="1822320"/>
          </a:xfrm>
        </p:grpSpPr>
        <p:sp>
          <p:nvSpPr>
            <p:cNvPr id="251" name=""/>
            <p:cNvSpPr/>
            <p:nvPr/>
          </p:nvSpPr>
          <p:spPr>
            <a:xfrm>
              <a:off x="4489560" y="3989520"/>
              <a:ext cx="2225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 Black"/>
                </a:rPr>
                <a:t>Pre-Emphasis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A = 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C = P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B = 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D = P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62600" y="45306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877000" y="45306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05400" y="4987800"/>
              <a:ext cx="2225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 Black"/>
                </a:rPr>
                <a:t>De-Emphasis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A = 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C = P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B = 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D = P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62600" y="552132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77000" y="529272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638720" y="16858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6689160" y="1685880"/>
            <a:ext cx="72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o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5267160" y="320976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343836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5343480" y="343836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3743280" y="38196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7095960" y="3209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1533600" y="1152360"/>
            <a:ext cx="2438280" cy="1371600"/>
          </a:xfrm>
          <a:prstGeom prst="rect">
            <a:avLst/>
          </a:prstGeom>
          <a:noFill/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12840" y="753840"/>
            <a:ext cx="8237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1596960" y="83988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Pullup – Main (+ &amp; -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5038560" y="1152360"/>
            <a:ext cx="2438640" cy="1371600"/>
          </a:xfrm>
          <a:prstGeom prst="rect">
            <a:avLst/>
          </a:prstGeom>
          <a:noFill/>
          <a:ln w="12600">
            <a:solidFill>
              <a:srgbClr val="00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5215320" y="84780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66"/>
                </a:solidFill>
                <a:latin typeface="Arial Black"/>
              </a:rPr>
              <a:t>Pullup – Boost (+ &amp; -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1380960" y="3514680"/>
            <a:ext cx="3048120" cy="1523880"/>
          </a:xfrm>
          <a:prstGeom prst="rect">
            <a:avLst/>
          </a:prstGeom>
          <a:noFill/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2037600" y="5286240"/>
            <a:ext cx="166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Ground Clam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in + &amp;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6404040" y="3773520"/>
            <a:ext cx="2444760" cy="1310760"/>
          </a:xfrm>
          <a:prstGeom prst="rect">
            <a:avLst/>
          </a:prstGeom>
          <a:noFill/>
          <a:ln w="126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Arial Black"/>
              </a:rPr>
              <a:t>1) Extract C_com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Arial Black"/>
              </a:rPr>
              <a:t>for entire buff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Arial Black"/>
              </a:rPr>
              <a:t>2) Split C_com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Arial Black"/>
              </a:rPr>
              <a:t>across Main, Bo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03:33:43Z</dcterms:created>
  <dc:creator>Michael Mirmak</dc:creator>
  <dc:description/>
  <dc:language>en-US</dc:language>
  <cp:lastModifiedBy>Michael Mirmak</cp:lastModifiedBy>
  <dcterms:modified xsi:type="dcterms:W3CDTF">2008-09-30T20:12:32Z</dcterms:modified>
  <cp:revision>662</cp:revision>
  <dc:subject/>
  <dc:title>Touchstone 2.0 Propos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