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38188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C40A-51A6-41DC-9E20-5BFEFED6B094}" type="slidenum">
              <a:rPr b="0" lang="en-US" sz="10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15200" y="6006960"/>
            <a:ext cx="1521000" cy="392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40680" y="6400800"/>
            <a:ext cx="182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914400" y="6400800"/>
            <a:ext cx="4038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Electronic Module Description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© SiSoft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lectrical Module Description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 new approach to describing packages and modul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alter Katz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rch 25, 2008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mPins] (Module Pins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m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ule 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Typ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[Diff mPins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High m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tive Low mPin Numb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ference Desig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art Numb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ib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raditional IBIS package mod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are Die Component”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.ebd&gt;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file&gt;.em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ntion for this docu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Pin is an EMD [mPin]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 is a component [Pin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ower of Hierarchical 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is the package model of a flip chip di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mounted directly to the module, there is no “package model at all”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wire bond, who knows how far the wire bond connection is, and height over what return path?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put into a small outline smd, then there is some interconnect model from the silicon pads to the point the package touches the PCB or MCM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f it is a stacked dram, then it might have some special three dimensional model to predict the s parameter model at very high edge rat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D files addresses all of th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n Die Power Supply Distrib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hancement to “Bare Die” .ibs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ROUND is just another Supply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are Die Supply Ne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ssociated with Component “Power” Pa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minal Noi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witching Noise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 Die Power Delivery Mod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pacitors between Supply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 Nam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ist of mPins/Pi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MD m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mponents 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crete components are not include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locking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ries and parallel termination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pply Cap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is contained in separate 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Extension “.imod”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 Spice” Meta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t is expected that translators will be required for each target simul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.subckt &lt;name&gt; &lt;nodes&gt; … &lt;parameter&gt;=&lt;value&gt; 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s </a:t>
            </a:r>
            <a:br>
              <a:rPr sz="36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rners (Typ, Min, Max) (worst, best , …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le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ircuit Na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de Li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El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G Conductanc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 Lin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LG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able Drive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X Subck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ther possible elem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iscellaneou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.includ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.paramet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rner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low/Typ/Fas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in/Max Noi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in/Max CrossTal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Level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 Resis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 Induc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 Capacito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G Conductanc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 T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RLGC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 DC Voltag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s will handle &gt;95% of System SI requirement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 el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X elemen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mpulse Respons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oles and Zero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Circui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specific Extended Ne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licit Coupled Circui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ckt with pins and pads of [Interconnect Equivalent Nets]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Original IBIS Concep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i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havioral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reshold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V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T curv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ckage Parasitic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Lumped RLC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xample fbdimm.emd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ule] fbmi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S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S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0 PN1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CLK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2 CLK#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3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4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m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9 1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1 1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1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2 AMB amb.ibs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3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U4 SDRAM sdram.ibs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nterfacing Extended Nets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o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7 8 U1.1 U1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9 10 U2.7 U2.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XX U1.7 U1.9 U2.1 U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LK 11 12 U3.1 U3.2 U4.1 U4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0 13 U3.3 U4.3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ADR1 14 U3.4 U4.4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pply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1 2 U1.3 U2.3 U3.5 U4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3 4 U1.4 U2.4 U3.6 U4.6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5 6 U1.5 U2.5 U3.7 U4.7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Voltage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0.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DD 2.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EE 12.5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s] ! One or more per Xne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typ psn.imod psn_typ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typ psn.imod psn_typ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in psn.imod psn_min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max psn.imod psn_max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SS all vss.imod vss (1 2 U1.3 U2.3 U3.5 U4.5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Begin Subckts] ! Per 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mPin mPin_L Pin Pin_L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Typ_Model psn.imod psn_typ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in_Model psn.imod psn_m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Max_Model psn.imod psn_max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Interconnect Equivalent Net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Xnets with same number of mPins and Pin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and use the same interconnect model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S1 (7 8 U1.1 U1.2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PN1 (9 10 U2.7 U2.8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upled Subck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! Victim : Aggressor Lis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victim_nodes aggressor_n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S1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PXX PN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n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Victim_Xnet ADR1 ADR0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! Grouping Nets in a BU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psn (xnet1 nodes, xnet2 nodes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 psn_cpl.imod   psn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 psn _cpl.imod   psn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PN1 PS1 PX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Subckt] adr  (victim_nodes aggressor_nodes …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Best_Model 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 adr_cpl.imod  adr _cpl _Best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Worst_Model adr _cpl.imod adr _cpl _wors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Xnet ADR0 ADR1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ubckt “Views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ckts can be significantly more detailed during the IC/Module design cycl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same subckts can be simplified for system design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C/Module designers can supply the more detailed subckts to high valued customers that have more need and expertise to do more refined analysi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mb.ibs sdram.ib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amb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PS1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PS1#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POWER VSS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POWER VD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VE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N1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8 PN1# SerDesT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8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SerDesR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_H,Pad_L,VSS,VDD,VEE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81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Component] sdram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Pin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CLK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2 CLK# CLK_IN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3 ADR0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4 ADR1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5 POWER GND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6 POWER VX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7 POWER VY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Diff Pin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1 2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On Die Caps]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X 1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Cap GND VY .2pF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[Model] Input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Arial"/>
              </a:rPr>
              <a:t>External Model (Pad, GND, VX, VY)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need correct current behavior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DC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1MegHz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99"/>
                </a:solidFill>
                <a:latin typeface="Arial"/>
              </a:rPr>
              <a:t>AC 5GHx</a:t>
            </a:r>
            <a:endParaRPr b="0" lang="en-US" sz="9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KG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BD style interconnect mode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umped RLGC Matrix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Ev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lectronic Board Description (EBD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stributed/Lumped RLC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matrix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nly Pin to Pad interconnec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ultiple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ad to pad interconnect between componen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No power distribu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C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ore flexible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tter Loss represent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 parameter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W line (table drive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ot integrated with IB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Module Interconnect Modeling Requirement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Interconnect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gnal Coupling (crosstalk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ail voltage AC coupl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C drop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ed Spring Mod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oids, cutouts, islands in pla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upling between Signal Interconnects and Power Distribution (SS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quires Full Module Layout Descrip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 Data Ba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an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tackup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nalogy to IBIS is full transistor spice model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P issue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rner” / “Min/Max” issu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rners Min/Max Issue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rners mean something differ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cess varia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ater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outing of individual nets on a module have a range of interconnect for a bu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t by ne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est and worst of all nets in a bus, or more than typ min max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IMM (PCIe) (rank, # sdrams, …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ystems require DIMM interchangeabilit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havioral Corne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sonanc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EMD Solu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tains the following sec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mPin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ins on the “periphery” of the modu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Componen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stance of IBIS component (IBIS file / Component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Extended Ne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onnects between mPins and Components Pi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pan multiple CAD Ne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Series and Parallel Termination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Differential Net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Supply Nets] (Power Nets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Interconnect Subck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orts are mPins and/or Pin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ll of these pins are at the same voltag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[Coupled Subckts]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wkatz</cp:lastModifiedBy>
  <dcterms:modified xsi:type="dcterms:W3CDTF">2008-03-25T20:02:13Z</dcterms:modified>
  <cp:revision>312</cp:revision>
  <dc:subject/>
  <dc:title>Slide 1</dc:title>
</cp:coreProperties>
</file>