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5B9-D2B4-4EA4-A63F-8C5D6368B2F6}" type="slidenum">
              <a:rPr b="0" lang="en-US" sz="10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15200" y="6006960"/>
            <a:ext cx="1521000" cy="39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40680" y="640080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lectrical Module Description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 new approach to describing packages and modu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lter Katz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rch 4, 2008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Pins] (Module Pins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Typ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Diff 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High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Low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ference Desig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art Numb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ib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are Die Component”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.ebd&gt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em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ntion for this docu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is an EMD [Pin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d is a component [Pin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wer of Hierarchical 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the package model of a flip chip di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mounted directly to the module, there is no “package model at all”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wire bond, who knows how far the wire bond connection is, and height over what return path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put into a small outline smd, then there is some interconnect model from the silicon pads to the point the package touches the PCB or MCM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a stacked dram that might have some special three dimensional model to predict the s parameter model at very high edge rat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D files addresses all of th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n Die Power Supply Distrib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hancement to Bare Die .ibs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ROUND is just another Supply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are Die Supply Ne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ssociated with Component “Power”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Noi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witching Noise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Die Power Delivery Mod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pacitors between Supply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 Nam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ist of Pins/Pa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MD 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ponents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crete components are not includ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locking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pply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is contained in separate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Extension .imo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Spice” Meta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t is expected that translators will be required for each target simul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.subckt &lt;name&gt; &lt;nodes&gt; … &lt;parameter&gt;=&lt;value&gt; 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 </a:t>
            </a:r>
            <a:br>
              <a:rPr sz="36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yp, Min, Max (worst, best , …) (corner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ircuit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de Li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El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 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LG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ble Drive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X Subck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.includ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.paramet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Lev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RLGC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s will handle &gt;95% of System SI requirement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 ele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Circui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specific Extended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Interconnect Equivalent X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[Interconnect Equivalent Nets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riginal IBIS Concep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V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T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ckage Parasi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umped RL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ample fbdimm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ule] fbmi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S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S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0 PN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CLK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2 CLK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3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4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1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1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1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2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3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4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facing Extended Nets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o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7 8 U1.1 U1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9 10 U2.7 U2.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XX U1.7 U1.9 U2.1 U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LK 11 12 U3.1 U3.2 U4.1 U4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0 13 U3.3 U4.3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1 14 U3.4 U4.4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pply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1 2 U1.3 U2.3 U3.5 U4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3 4 U1.4 U2.4 U3.6 U4.6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5 6 U1.5 U2.5 U3.7 U4.7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Voltage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0.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12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s] ! One or more per Xne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typ psn.imod psn_typ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typ psn.imod psn_typ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in psn.imod psn_min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ax psn.imod psn_max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all vss.imod vss (1 2 U1.3 U2.3 U3.5 U4.5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Begin Subckts] ! Per 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pin pin_l pad pad_l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Typ_Model psn.imod psn_typ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in_Model psn.imod psn_m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ax_Model psn.imod psn_max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Xnets with same number of Pins and Pad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and use the same interconnect model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! Victim : Aggressor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S1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XX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1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Grouping Nets in a BU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xnet1 nodes, xnet2 nodes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b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“Views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s can be significantly more detailed during the IC/Module design cycl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ame subckts can be simplified for system design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C/Module designers can supply the more detailed subckts to high valued customers that have more need and expertise to do more refined analys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mb.ibs sdram.ib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ad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S1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S1#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N1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N1#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_H,Pad_L,VSS,VDD,VEE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ad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CLK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CLK#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ADR0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ADR1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GN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OWER VY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On Die Cap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X 1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Y .2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, GND, VX, VY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need correct current behavior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DC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1MegHz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5GHx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KG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BD style interconnect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umped RLGC Matrix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lectronic Board Description (EBD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tributed/Lumped RL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matrix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ly Pin to Pad interconnec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ad to pad interconnect between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ower distrib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C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re flexible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tter Loss repres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 drive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ot integrated with IB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Interconnect Modeling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Coupling (crosstalk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upling between Signal Interconnects and Power Distribution (SS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ires Full Module Layout Descrip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 Data Ba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tacku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ogy to IBIS is full transistor spice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P iss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n/Max” issu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in/Max Issu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rners mean something differ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outing of individual nets on a module have a range of interconnect for a b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et by ne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and worst of all nets in a bus, or more than typ min max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MM (PCIe) (rank, # sdrams, …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stems require DIMM interchangeability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ains the following sec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Supply Nets] (Power Nets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Subck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[Coupled Subckts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wkatz</cp:lastModifiedBy>
  <dcterms:modified xsi:type="dcterms:W3CDTF">2008-02-29T21:55:33Z</dcterms:modified>
  <cp:revision>308</cp:revision>
  <dc:subject/>
  <dc:title>Slide 1</dc:title>
</cp:coreProperties>
</file>