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B4D8-669C-4863-8610-CA01EB782C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1E5D-5B1A-4884-8E4A-95BF4E35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AB96-492E-47F3-BE2E-76B7B336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D372-41A6-46EE-BB8C-4B09E73156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61154-B756-4C4D-A8D4-690BE971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0B55-D2DA-4875-8CD4-FBAAF67A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A72B-F2E1-4700-B239-26463DF8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836AD-9D95-4D79-AC54-CC0046D1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304D1-4335-4600-B004-AA2EB944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8BD4-48C7-4F9D-82E6-702A5A94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3197-B4C0-4B09-85B5-BF0EEB7E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B58E-31EC-4A6E-B1E7-D8158E2C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01.22.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1531-45DD-4603-BF54-866BD8465EB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925640" y="6391440"/>
            <a:ext cx="390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* Other brands and names may be claimed as the property of others</a:t>
            </a:r>
            <a:endParaRPr b="0" lang="en-US" sz="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28560" y="2533680"/>
            <a:ext cx="6265800" cy="14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election of Common Mode Requirements in Industry Specifications</a:t>
            </a:r>
            <a:br>
              <a:rPr sz="2600"/>
            </a:br>
            <a:br>
              <a:rPr sz="2600"/>
            </a:b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Background for New IBIS Measurements</a:t>
            </a:r>
            <a:endParaRPr b="1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3020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ichael Mirmak</a:t>
            </a:r>
            <a:br>
              <a:rPr sz="1800"/>
            </a:b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January 22, 2008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B 2.0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440" y="663480"/>
            <a:ext cx="6191280" cy="429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4120" y="4959360"/>
            <a:ext cx="844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60a8"/>
                </a:solidFill>
                <a:uFillTx/>
                <a:latin typeface="Verdana"/>
              </a:rPr>
              <a:t>TX, Full/low speed signaling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: the crossover voltage (Vcrs) must be between 1.3 and 2.0 V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60a8"/>
                </a:solidFill>
                <a:uFillTx/>
                <a:latin typeface="Verdana"/>
              </a:rPr>
              <a:t>RX, High speed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: (guideline) reliably receive signals with CM voltage (Vhscm) between -50 mV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and 500 mV (nominal at 200 mV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60a8"/>
                </a:solidFill>
                <a:uFillTx/>
                <a:latin typeface="Verdana"/>
              </a:rPr>
              <a:t>RX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: Differential Common Mode Range (Vcm) must be between 0.8 - 2.5 V (includes Vdi range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E4B4-CF19-47DD-8328-A00E9DDAC1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ial ATA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541680" y="264960"/>
            <a:ext cx="5334120" cy="4534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7320" y="2484360"/>
            <a:ext cx="3565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60a8"/>
                </a:solidFill>
                <a:uFillTx/>
                <a:latin typeface="Verdana"/>
              </a:rPr>
              <a:t>SATA 2.0 Vcm, AC Requirements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X: 50 mVp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RX: 100-150 mVp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60a8"/>
                </a:solidFill>
                <a:uFillTx/>
                <a:latin typeface="Verdana"/>
              </a:rPr>
              <a:t>SATA 1.0 Vcm AC Requirements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X, RX: 0-2.0 V on each signal,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all conditions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RX: 100 mV max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inusoidal amplitude, at connector;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requency between 2 and 200 MHz;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ommon mode transients to settle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within 10% of DC value within 10 ns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60a8"/>
                </a:solidFill>
                <a:uFillTx/>
                <a:latin typeface="Verdana"/>
              </a:rPr>
              <a:t>SATA 1.0 Vcm DC Requirements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RX: 200-450 mV (at receiver connector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338640" y="1111320"/>
            <a:ext cx="128520" cy="544320"/>
          </a:xfrm>
          <a:custGeom>
            <a:avLst/>
            <a:gdLst>
              <a:gd name="textAreaLeft" fmla="*/ 82080 w 128520"/>
              <a:gd name="textAreaRight" fmla="*/ 128880 w 128520"/>
              <a:gd name="textAreaTop" fmla="*/ 14040 h 544320"/>
              <a:gd name="textAreaBottom" fmla="*/ 530280 h 54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C403-86EB-4947-900E-A446C81E701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CI Express*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99880" y="1386000"/>
            <a:ext cx="39704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860a8"/>
                </a:solidFill>
                <a:uFillTx/>
                <a:latin typeface="Verdana"/>
              </a:rPr>
              <a:t>Electrical Idle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: the state of the output driver in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which both lines, D+ and D-, are driven to the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DC common mode voltage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VTX-CM-AC-PP TX AC common mode voltage: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100 mVPP (5.0 Gt/s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VTX-CM-AC-peak TX AC common mode voltage: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20 mV (2.5 Gt/s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VTX-AC-CM-PP and VTX-AC-CM-peak are measured over at least 10</a:t>
            </a:r>
            <a:r>
              <a:rPr b="0" lang="en-US" sz="1200" spc="-1" strike="noStrike" baseline="30000">
                <a:solidFill>
                  <a:srgbClr val="0860a8"/>
                </a:solidFill>
                <a:latin typeface="Verdana"/>
              </a:rPr>
              <a:t>6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 UI.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VTX-DC-CM TX DC common mode voltage: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0 - 3.6 V for 2.5 and 5.0 Gt/s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Measured at the TX pins under any conditions.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70240" y="120600"/>
            <a:ext cx="4830840" cy="5845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68560" y="2513160"/>
            <a:ext cx="462240" cy="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368960" y="2281320"/>
            <a:ext cx="128520" cy="471240"/>
          </a:xfrm>
          <a:custGeom>
            <a:avLst/>
            <a:gdLst>
              <a:gd name="textAreaLeft" fmla="*/ 82080 w 128520"/>
              <a:gd name="textAreaRight" fmla="*/ 128880 w 128520"/>
              <a:gd name="textAreaTop" fmla="*/ 12240 h 471240"/>
              <a:gd name="textAreaBottom" fmla="*/ 459000 h 47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363920" y="3236760"/>
            <a:ext cx="128880" cy="471600"/>
          </a:xfrm>
          <a:custGeom>
            <a:avLst/>
            <a:gdLst>
              <a:gd name="textAreaLeft" fmla="*/ 82440 w 128880"/>
              <a:gd name="textAreaRight" fmla="*/ 128880 w 12888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8DB1A-CA6F-45B6-AE96-FA0138A392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9:39:38Z</dcterms:created>
  <dc:creator>Michael Mirmak</dc:creator>
  <dc:description/>
  <dc:language>en-US</dc:language>
  <cp:lastModifiedBy>Michael Mirmak</cp:lastModifiedBy>
  <dcterms:modified xsi:type="dcterms:W3CDTF">2008-01-22T17:53:49Z</dcterms:modified>
  <cp:revision>24</cp:revision>
  <dc:subject/>
  <dc:title>Common Mode Requirements</dc:title>
</cp:coreProperties>
</file>