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291B-F4B7-40B3-87AD-1F0F4699F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B409-7996-4F77-82B1-3A2BA7EF8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4AC5-9775-4136-A194-44BB12FBD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4B3F-9DC9-4E32-84EF-9E7481B3D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84074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3783600"/>
            <a:ext cx="84074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3783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783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9400" y="1371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71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3783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9400" y="3783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783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66840" y="1371600"/>
            <a:ext cx="840744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84074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410256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960" y="1371600"/>
            <a:ext cx="410256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4680" y="156960"/>
            <a:ext cx="84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960" y="1371600"/>
            <a:ext cx="410256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66840" y="3783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1371600"/>
            <a:ext cx="840744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410256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960" y="3783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6840" y="3783600"/>
            <a:ext cx="84074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84074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6840" y="3783600"/>
            <a:ext cx="84074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96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6840" y="3783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960" y="3783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9400" y="1371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1960" y="1371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6840" y="3783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9400" y="3783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1960" y="3783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6840" y="1371600"/>
            <a:ext cx="840744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84074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410256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960" y="1371600"/>
            <a:ext cx="410256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84074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64680" y="156960"/>
            <a:ext cx="84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960" y="1371600"/>
            <a:ext cx="410256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66840" y="3783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410256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96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960" y="3783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66840" y="3783600"/>
            <a:ext cx="84074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84074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6840" y="3783600"/>
            <a:ext cx="84074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96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6840" y="3783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960" y="3783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09400" y="1371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51960" y="1371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66840" y="3783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09400" y="3783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51960" y="3783600"/>
            <a:ext cx="27068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410256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371600"/>
            <a:ext cx="410256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4680" y="156960"/>
            <a:ext cx="84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371600"/>
            <a:ext cx="410256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3783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410256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783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371600"/>
            <a:ext cx="410256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3783600"/>
            <a:ext cx="8407440" cy="22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5760"/>
            <a:ext cx="9144000" cy="82224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996320" y="6080040"/>
            <a:ext cx="984240" cy="68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66840" y="1371600"/>
            <a:ext cx="84074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82760" indent="-2397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27280" indent="-2304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27280" indent="-2304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27280" indent="-2304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F843-D0A5-4FBB-A5DA-DE5929BF467B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286760" y="270000"/>
            <a:ext cx="1630080" cy="1128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8440" y="1957320"/>
            <a:ext cx="7754760" cy="14716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55308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49AD-291B-4916-BD44-12A6F9245404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689040" algn="ctr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1430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688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6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6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454040" y="2125800"/>
            <a:ext cx="6228000" cy="2757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655308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093F-768B-45A9-A13D-C24F8BA5CB5D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28440" y="1957320"/>
            <a:ext cx="7754760" cy="14716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MS PGothic"/>
              </a:rPr>
              <a:t>Strategies for Coping with Non-linear and Non-time Invariant Behavior for High Speed Serial Buffer Model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88840" y="3619440"/>
            <a:ext cx="7810560" cy="15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ichard Mellit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ults from DesignCon2008 paper with Steve Pytel, Michael Tsuk, and Toni Donis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R filt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6765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t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56000" y="2254320"/>
            <a:ext cx="909720" cy="56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56000" y="3164040"/>
            <a:ext cx="909720" cy="56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*U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56000" y="4754520"/>
            <a:ext cx="909720" cy="56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*U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56000" y="3959280"/>
            <a:ext cx="909720" cy="56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*U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48080" y="2368440"/>
            <a:ext cx="907920" cy="3398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48080" y="3276720"/>
            <a:ext cx="907920" cy="3412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48080" y="4071960"/>
            <a:ext cx="907920" cy="3412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48080" y="4867200"/>
            <a:ext cx="907920" cy="3412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2027160"/>
            <a:ext cx="4316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93760" y="2027160"/>
            <a:ext cx="454320" cy="2954520"/>
          </a:xfrm>
          <a:custGeom>
            <a:avLst/>
            <a:gdLst/>
            <a:ahLst/>
            <a:rect l="l" t="t" r="r" b="b"/>
            <a:pathLst>
              <a:path w="192" h="1248">
                <a:moveTo>
                  <a:pt x="0" y="0"/>
                </a:moveTo>
                <a:lnTo>
                  <a:pt x="0" y="1248"/>
                </a:lnTo>
                <a:lnTo>
                  <a:pt x="192" y="1248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93760" y="4186080"/>
            <a:ext cx="454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93760" y="3390840"/>
            <a:ext cx="454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93760" y="2481120"/>
            <a:ext cx="454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33800" y="1752480"/>
            <a:ext cx="908280" cy="56844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50000">
                <a:srgbClr val="009900"/>
              </a:gs>
              <a:gs pos="100000">
                <a:srgbClr val="00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33800" y="3049560"/>
            <a:ext cx="1022400" cy="68112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50000">
                <a:srgbClr val="009900"/>
              </a:gs>
              <a:gs pos="100000">
                <a:srgbClr val="00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st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33800" y="3911760"/>
            <a:ext cx="1022400" cy="68076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50000">
                <a:srgbClr val="009900"/>
              </a:gs>
              <a:gs pos="100000">
                <a:srgbClr val="00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st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33800" y="4754520"/>
            <a:ext cx="1022400" cy="68112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50000">
                <a:srgbClr val="009900"/>
              </a:gs>
              <a:gs pos="100000">
                <a:srgbClr val="00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st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65720" y="3390840"/>
            <a:ext cx="568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65720" y="4186080"/>
            <a:ext cx="568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65720" y="5094360"/>
            <a:ext cx="568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65720" y="2595600"/>
            <a:ext cx="2498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68880" y="2027160"/>
            <a:ext cx="568440" cy="34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956200" y="2822400"/>
            <a:ext cx="681120" cy="454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56200" y="3049560"/>
            <a:ext cx="908280" cy="11365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480"/>
                </a:moveTo>
                <a:lnTo>
                  <a:pt x="144" y="480"/>
                </a:lnTo>
                <a:lnTo>
                  <a:pt x="384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56200" y="3049560"/>
            <a:ext cx="1363680" cy="2044800"/>
          </a:xfrm>
          <a:custGeom>
            <a:avLst/>
            <a:gdLst/>
            <a:ahLst/>
            <a:rect l="l" t="t" r="r" b="b"/>
            <a:pathLst>
              <a:path w="576" h="864">
                <a:moveTo>
                  <a:pt x="0" y="864"/>
                </a:moveTo>
                <a:lnTo>
                  <a:pt x="384" y="864"/>
                </a:lnTo>
                <a:lnTo>
                  <a:pt x="432" y="864"/>
                </a:lnTo>
                <a:lnTo>
                  <a:pt x="576" y="864"/>
                </a:lnTo>
                <a:lnTo>
                  <a:pt x="48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12000" y="3097080"/>
            <a:ext cx="6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124080"/>
            <a:ext cx="6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68880" y="2879640"/>
            <a:ext cx="6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1889280"/>
            <a:ext cx="6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42080" y="2286000"/>
            <a:ext cx="6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32560" y="2595600"/>
            <a:ext cx="568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24640" y="2141640"/>
            <a:ext cx="907920" cy="907920"/>
          </a:xfrm>
          <a:prstGeom prst="ellipse">
            <a:avLst/>
          </a:prstGeom>
          <a:gradFill rotWithShape="0">
            <a:gsLst>
              <a:gs pos="0">
                <a:srgbClr val="46752f"/>
              </a:gs>
              <a:gs pos="50000">
                <a:srgbClr val="99ff66"/>
              </a:gs>
              <a:gs pos="100000">
                <a:srgbClr val="4675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on-Linear Experimen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52280" y="1295280"/>
            <a:ext cx="3522600" cy="2679840"/>
            <a:chOff x="152280" y="1295280"/>
            <a:chExt cx="3522600" cy="2679840"/>
          </a:xfrm>
        </p:grpSpPr>
        <p:sp>
          <p:nvSpPr>
            <p:cNvPr id="285" name=""/>
            <p:cNvSpPr/>
            <p:nvPr/>
          </p:nvSpPr>
          <p:spPr>
            <a:xfrm>
              <a:off x="1407960" y="1776240"/>
              <a:ext cx="961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Vou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dif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7800" y="2666880"/>
              <a:ext cx="123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Rou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063440" y="1295280"/>
              <a:ext cx="344520" cy="619200"/>
              <a:chOff x="1063440" y="1295280"/>
              <a:chExt cx="344520" cy="619200"/>
            </a:xfrm>
          </p:grpSpPr>
          <p:sp>
            <p:nvSpPr>
              <p:cNvPr id="288" name=""/>
              <p:cNvSpPr/>
              <p:nvPr/>
            </p:nvSpPr>
            <p:spPr>
              <a:xfrm>
                <a:off x="1063440" y="1295280"/>
                <a:ext cx="344520" cy="619200"/>
              </a:xfrm>
              <a:prstGeom prst="flowChartDecision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35880" y="1438200"/>
                <a:ext cx="0" cy="333360"/>
              </a:xfrm>
              <a:prstGeom prst="line">
                <a:avLst/>
              </a:prstGeom>
              <a:ln w="38160">
                <a:solidFill>
                  <a:srgbClr val="aa014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300040" y="1295280"/>
              <a:ext cx="344520" cy="619200"/>
              <a:chOff x="2300040" y="1295280"/>
              <a:chExt cx="344520" cy="619200"/>
            </a:xfrm>
          </p:grpSpPr>
          <p:sp>
            <p:nvSpPr>
              <p:cNvPr id="291" name=""/>
              <p:cNvSpPr/>
              <p:nvPr/>
            </p:nvSpPr>
            <p:spPr>
              <a:xfrm>
                <a:off x="2300040" y="1295280"/>
                <a:ext cx="344520" cy="619200"/>
              </a:xfrm>
              <a:prstGeom prst="flowChartDecision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472480" y="1438200"/>
                <a:ext cx="0" cy="333360"/>
              </a:xfrm>
              <a:prstGeom prst="line">
                <a:avLst/>
              </a:prstGeom>
              <a:ln w="38160">
                <a:solidFill>
                  <a:srgbClr val="aa014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1133280" y="2670120"/>
              <a:ext cx="274680" cy="1305000"/>
            </a:xfrm>
            <a:custGeom>
              <a:avLst/>
              <a:gdLst/>
              <a:ahLst/>
              <a:rect l="l" t="t" r="r" b="b"/>
              <a:pathLst>
                <a:path w="192" h="912">
                  <a:moveTo>
                    <a:pt x="96" y="0"/>
                  </a:moveTo>
                  <a:lnTo>
                    <a:pt x="96" y="144"/>
                  </a:lnTo>
                  <a:lnTo>
                    <a:pt x="192" y="192"/>
                  </a:lnTo>
                  <a:lnTo>
                    <a:pt x="0" y="288"/>
                  </a:lnTo>
                  <a:lnTo>
                    <a:pt x="192" y="384"/>
                  </a:lnTo>
                  <a:lnTo>
                    <a:pt x="0" y="480"/>
                  </a:lnTo>
                  <a:lnTo>
                    <a:pt x="192" y="576"/>
                  </a:lnTo>
                  <a:lnTo>
                    <a:pt x="96" y="624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96" y="912"/>
                  </a:lnTo>
                  <a:lnTo>
                    <a:pt x="192" y="768"/>
                  </a:lnTo>
                  <a:lnTo>
                    <a:pt x="96" y="76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69880" y="2670120"/>
              <a:ext cx="274680" cy="1305000"/>
            </a:xfrm>
            <a:custGeom>
              <a:avLst/>
              <a:gdLst/>
              <a:ahLst/>
              <a:rect l="l" t="t" r="r" b="b"/>
              <a:pathLst>
                <a:path w="192" h="912">
                  <a:moveTo>
                    <a:pt x="96" y="0"/>
                  </a:moveTo>
                  <a:lnTo>
                    <a:pt x="96" y="144"/>
                  </a:lnTo>
                  <a:lnTo>
                    <a:pt x="192" y="192"/>
                  </a:lnTo>
                  <a:lnTo>
                    <a:pt x="0" y="288"/>
                  </a:lnTo>
                  <a:lnTo>
                    <a:pt x="192" y="384"/>
                  </a:lnTo>
                  <a:lnTo>
                    <a:pt x="0" y="480"/>
                  </a:lnTo>
                  <a:lnTo>
                    <a:pt x="192" y="576"/>
                  </a:lnTo>
                  <a:lnTo>
                    <a:pt x="96" y="624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96" y="912"/>
                  </a:lnTo>
                  <a:lnTo>
                    <a:pt x="192" y="768"/>
                  </a:lnTo>
                  <a:lnTo>
                    <a:pt x="96" y="76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93920" y="3081240"/>
              <a:ext cx="412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93920" y="3219480"/>
              <a:ext cx="412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61960" y="3219480"/>
              <a:ext cx="274680" cy="755640"/>
            </a:xfrm>
            <a:custGeom>
              <a:avLst/>
              <a:gdLst/>
              <a:ahLst/>
              <a:rect l="l" t="t" r="r" b="b"/>
              <a:pathLst>
                <a:path w="192" h="528">
                  <a:moveTo>
                    <a:pt x="96" y="0"/>
                  </a:moveTo>
                  <a:lnTo>
                    <a:pt x="96" y="384"/>
                  </a:lnTo>
                  <a:lnTo>
                    <a:pt x="0" y="384"/>
                  </a:lnTo>
                  <a:lnTo>
                    <a:pt x="96" y="528"/>
                  </a:lnTo>
                  <a:lnTo>
                    <a:pt x="192" y="384"/>
                  </a:lnTo>
                  <a:lnTo>
                    <a:pt x="96" y="384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400200" y="2670120"/>
              <a:ext cx="0" cy="411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1360" y="3081240"/>
              <a:ext cx="411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1360" y="3219480"/>
              <a:ext cx="411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9400" y="3219480"/>
              <a:ext cx="274680" cy="755640"/>
            </a:xfrm>
            <a:custGeom>
              <a:avLst/>
              <a:gdLst/>
              <a:ahLst/>
              <a:rect l="l" t="t" r="r" b="b"/>
              <a:pathLst>
                <a:path w="192" h="528">
                  <a:moveTo>
                    <a:pt x="96" y="0"/>
                  </a:moveTo>
                  <a:lnTo>
                    <a:pt x="96" y="384"/>
                  </a:lnTo>
                  <a:lnTo>
                    <a:pt x="0" y="384"/>
                  </a:lnTo>
                  <a:lnTo>
                    <a:pt x="96" y="528"/>
                  </a:lnTo>
                  <a:lnTo>
                    <a:pt x="192" y="384"/>
                  </a:lnTo>
                  <a:lnTo>
                    <a:pt x="96" y="384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377640" y="2670120"/>
              <a:ext cx="0" cy="411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03" name=""/>
            <p:cNvCxnSpPr>
              <a:stCxn id="302" idx="0"/>
              <a:endCxn id="293" idx="0"/>
            </p:cNvCxnSpPr>
            <p:nvPr/>
          </p:nvCxnSpPr>
          <p:spPr>
            <a:xfrm>
              <a:off x="377640" y="2657160"/>
              <a:ext cx="89280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4" name=""/>
            <p:cNvCxnSpPr>
              <a:stCxn id="294" idx="0"/>
              <a:endCxn id="298" idx="0"/>
            </p:cNvCxnSpPr>
            <p:nvPr/>
          </p:nvCxnSpPr>
          <p:spPr>
            <a:xfrm>
              <a:off x="2505960" y="2657160"/>
              <a:ext cx="89460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5" name=""/>
            <p:cNvCxnSpPr>
              <a:stCxn id="288" idx="2"/>
              <a:endCxn id="293" idx="1"/>
            </p:cNvCxnSpPr>
            <p:nvPr/>
          </p:nvCxnSpPr>
          <p:spPr>
            <a:xfrm>
              <a:off x="1236600" y="1914480"/>
              <a:ext cx="33840" cy="7437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6" name=""/>
            <p:cNvCxnSpPr>
              <a:stCxn id="291" idx="2"/>
              <a:endCxn id="294" idx="1"/>
            </p:cNvCxnSpPr>
            <p:nvPr/>
          </p:nvCxnSpPr>
          <p:spPr>
            <a:xfrm>
              <a:off x="2473200" y="1914480"/>
              <a:ext cx="33840" cy="7437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07" name=""/>
            <p:cNvSpPr/>
            <p:nvPr/>
          </p:nvSpPr>
          <p:spPr>
            <a:xfrm>
              <a:off x="1476360" y="2670120"/>
              <a:ext cx="123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Rout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2280" y="3200400"/>
              <a:ext cx="123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Cou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38280" y="3163680"/>
              <a:ext cx="123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Cout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07960" y="2119320"/>
              <a:ext cx="9619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01680" y="2050920"/>
              <a:ext cx="137880" cy="13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38280" y="2050920"/>
              <a:ext cx="137880" cy="13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9880" y="1828800"/>
                <a:ext cx="5257800" cy="32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utn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u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ou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utp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u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ou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utn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u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ou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utp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u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ou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on-linear Termination examp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619280" y="1688760"/>
            <a:ext cx="2400120" cy="121140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16272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26589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76200" y="1506600"/>
            <a:ext cx="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104840" y="3143160"/>
            <a:ext cx="2857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04840" y="2900520"/>
            <a:ext cx="28576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62080" y="1689120"/>
            <a:ext cx="285732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90800" y="296064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114300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10120" y="3411360"/>
            <a:ext cx="0" cy="230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838400" y="5048280"/>
            <a:ext cx="285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38760" y="4805280"/>
            <a:ext cx="285732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96000" y="3594240"/>
            <a:ext cx="285732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24720" y="486576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24280" y="304812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34120" y="3581280"/>
            <a:ext cx="1981080" cy="121932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0"/>
                </a:moveTo>
                <a:cubicBezTo>
                  <a:pt x="32" y="160"/>
                  <a:pt x="64" y="320"/>
                  <a:pt x="144" y="432"/>
                </a:cubicBezTo>
                <a:cubicBezTo>
                  <a:pt x="224" y="544"/>
                  <a:pt x="296" y="616"/>
                  <a:pt x="480" y="672"/>
                </a:cubicBezTo>
                <a:cubicBezTo>
                  <a:pt x="664" y="728"/>
                  <a:pt x="956" y="748"/>
                  <a:pt x="1248" y="768"/>
                </a:cubicBezTo>
              </a:path>
            </a:pathLst>
          </a:custGeom>
          <a:noFill/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886400">
            <a:off x="3489480" y="2436840"/>
            <a:ext cx="1600200" cy="45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2680 h 450720"/>
              <a:gd name="textAreaBottom" fmla="*/ 338040 h 45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periment setu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1371600" y="2376720"/>
            <a:ext cx="914400" cy="121896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uf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95480" y="2681280"/>
            <a:ext cx="144792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24280" y="2452680"/>
            <a:ext cx="9144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3672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x Linea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q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6210360" y="2414160"/>
            <a:ext cx="1143000" cy="1066680"/>
          </a:xfrm>
          <a:prstGeom prst="flowChartManualOperation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th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62320" y="2986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2986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38680" y="2986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91320" y="3672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x Linea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q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1752480" y="443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212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t taps at T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5272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t taps at R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858000" y="443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2209680" y="3290400"/>
            <a:ext cx="152424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05320" y="45720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uffer I/V lo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72400" y="24526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9436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1523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itwise e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90720" y="1523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it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90920" y="17524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1981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14600" y="220968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705720" y="1905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nvolved ey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~ QuickEye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15200" y="2602080"/>
            <a:ext cx="469800" cy="401400"/>
          </a:xfrm>
          <a:custGeom>
            <a:avLst/>
            <a:gdLst/>
            <a:ahLst/>
            <a:rect l="l" t="t" r="r" b="b"/>
            <a:pathLst>
              <a:path w="296" h="253">
                <a:moveTo>
                  <a:pt x="0" y="247"/>
                </a:moveTo>
                <a:cubicBezTo>
                  <a:pt x="22" y="246"/>
                  <a:pt x="86" y="248"/>
                  <a:pt x="131" y="242"/>
                </a:cubicBezTo>
                <a:cubicBezTo>
                  <a:pt x="176" y="236"/>
                  <a:pt x="244" y="253"/>
                  <a:pt x="270" y="213"/>
                </a:cubicBezTo>
                <a:cubicBezTo>
                  <a:pt x="296" y="173"/>
                  <a:pt x="284" y="44"/>
                  <a:pt x="28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71800" y="54864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5410080"/>
            <a:ext cx="380880" cy="3812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76720" y="5410080"/>
            <a:ext cx="380880" cy="3812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15200" y="1295280"/>
            <a:ext cx="380880" cy="3812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5334120"/>
            <a:ext cx="380880" cy="3808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077320" y="2514600"/>
            <a:ext cx="380880" cy="3808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2514600"/>
            <a:ext cx="380880" cy="3808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peri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84074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ML Buffer Loa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0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Rou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0 to 70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Rout vari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0 to 100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Rout vari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ta Pattern PRBS1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ad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0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both leg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ann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2” of a 72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ifferential transmission line (50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E termina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 connector “real” chann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I=125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mulation time 100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012680" y="1276200"/>
            <a:ext cx="7543800" cy="459108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outn=Routp=load=50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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out range: 10 to 90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load=50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2895480"/>
            <a:ext cx="3200400" cy="133416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it stream (1) and edge convolution (2) are equa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 taps are set at the transmit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52040" y="3429000"/>
            <a:ext cx="1581120" cy="6426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ut range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 to 9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288480" y="4876920"/>
            <a:ext cx="2264040" cy="5508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ut = 5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ngle resistor equivalent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02200" y="3200400"/>
            <a:ext cx="2180160" cy="119124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 Mathematica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alization (3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4.5 m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733560" y="4038480"/>
            <a:ext cx="152280" cy="1219320"/>
          </a:xfrm>
          <a:prstGeom prst="line">
            <a:avLst/>
          </a:prstGeom>
          <a:ln w="1908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5943240" y="3733920"/>
            <a:ext cx="152280" cy="838080"/>
          </a:xfrm>
          <a:prstGeom prst="line">
            <a:avLst/>
          </a:prstGeom>
          <a:ln w="1908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334120" y="5105520"/>
            <a:ext cx="1218960" cy="380880"/>
          </a:xfrm>
          <a:prstGeom prst="line">
            <a:avLst/>
          </a:prstGeom>
          <a:ln w="1908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ps = 0.79 and -0.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rcRect l="0" t="0" r="10059" b="0"/>
          <a:stretch/>
        </p:blipFill>
        <p:spPr>
          <a:xfrm>
            <a:off x="1324080" y="1295280"/>
            <a:ext cx="7210440" cy="46180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15696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annel =7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12” line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out range: 10 to 90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" y="2514600"/>
            <a:ext cx="3200400" cy="133416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it stream (1) and edge convolution (2) are clos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 tap are set in the transmi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09240" y="2895480"/>
            <a:ext cx="1581120" cy="6426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ut range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 to 9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54480" y="2819520"/>
            <a:ext cx="2180160" cy="6426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 Mathematica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alization(3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495680" y="1828440"/>
            <a:ext cx="76320" cy="1143000"/>
          </a:xfrm>
          <a:prstGeom prst="line">
            <a:avLst/>
          </a:prstGeom>
          <a:ln w="1908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934320" y="1980720"/>
            <a:ext cx="75960" cy="838440"/>
          </a:xfrm>
          <a:prstGeom prst="line">
            <a:avLst/>
          </a:prstGeom>
          <a:ln w="1908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5740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ps = 0.79 and -0.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annel = 7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12” line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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out range: 10 to 90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rcRect l="0" t="0" r="10059" b="0"/>
          <a:stretch/>
        </p:blipFill>
        <p:spPr>
          <a:xfrm>
            <a:off x="1247760" y="1295280"/>
            <a:ext cx="7210440" cy="46180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6441840" y="2819520"/>
            <a:ext cx="1438200" cy="3682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it strea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707640" y="4572000"/>
            <a:ext cx="3381120" cy="6426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 Mathematica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alization w/conv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952880" y="3809520"/>
            <a:ext cx="76320" cy="685800"/>
          </a:xfrm>
          <a:prstGeom prst="line">
            <a:avLst/>
          </a:prstGeom>
          <a:ln w="1908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4800240" y="2971800"/>
            <a:ext cx="1523880" cy="0"/>
          </a:xfrm>
          <a:prstGeom prst="line">
            <a:avLst/>
          </a:prstGeom>
          <a:ln w="1908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93360" y="1676520"/>
            <a:ext cx="1573560" cy="3682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v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343040" y="1905120"/>
            <a:ext cx="1523880" cy="0"/>
          </a:xfrm>
          <a:prstGeom prst="line">
            <a:avLst/>
          </a:prstGeom>
          <a:ln w="1908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05740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ps = 0.79 and -0.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9480" y="3124080"/>
            <a:ext cx="2210040" cy="459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014c"/>
                </a:solidFill>
                <a:latin typeface="Verdana"/>
              </a:rPr>
              <a:t>Zoomed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48720" y="2819520"/>
            <a:ext cx="380880" cy="380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96080" y="1676520"/>
            <a:ext cx="381240" cy="3808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15200" y="4800600"/>
            <a:ext cx="380880" cy="3808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annel = 7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12” line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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out range: 10 to 90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0" t="0" r="0" b="29156"/>
          <a:stretch/>
        </p:blipFill>
        <p:spPr>
          <a:xfrm>
            <a:off x="228600" y="1295280"/>
            <a:ext cx="4724280" cy="38912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rcRect l="0" t="0" r="-751" b="30029"/>
          <a:stretch/>
        </p:blipFill>
        <p:spPr>
          <a:xfrm>
            <a:off x="4495680" y="2362320"/>
            <a:ext cx="4419720" cy="3566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981080" y="2971800"/>
            <a:ext cx="1905120" cy="7855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Conv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Taps set at T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4038480"/>
            <a:ext cx="1905120" cy="3682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Bit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86400" y="1447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~ 10 mv &amp; 0.1ps dif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05740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ps = 0.79 and -0.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4038480"/>
            <a:ext cx="380880" cy="3812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09880" y="3200400"/>
            <a:ext cx="381240" cy="3808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annel = 7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12” line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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out range: 10 to 90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rcRect l="0" t="0" r="-1867" b="29052"/>
          <a:stretch/>
        </p:blipFill>
        <p:spPr>
          <a:xfrm>
            <a:off x="533520" y="1295280"/>
            <a:ext cx="5105160" cy="41356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rcRect l="0" t="0" r="-751" b="30029"/>
          <a:stretch/>
        </p:blipFill>
        <p:spPr>
          <a:xfrm>
            <a:off x="4495680" y="2362320"/>
            <a:ext cx="4419720" cy="3566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095880" y="4038480"/>
            <a:ext cx="1905120" cy="3682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Bit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81080" y="2971800"/>
            <a:ext cx="1905120" cy="7855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Conv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Taps set at R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1447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~ 2 mv &amp; 2ps dif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05740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ps = 0.79 and -0.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848720" y="4038480"/>
            <a:ext cx="380880" cy="3812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3200400"/>
            <a:ext cx="380880" cy="3808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inearity Enables Superpositi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67160" y="2286000"/>
                <a:ext cx="1981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08120" y="3886200"/>
                <a:ext cx="3899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330720" y="4965840"/>
                <a:ext cx="22525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52280" y="108216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 linear system possesses the property of superposition, in other words, the system possesses both the additive and homogeneity properties.  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64760" y="3351600"/>
            <a:ext cx="43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n, by the additive propert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80440" y="4494600"/>
            <a:ext cx="47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 by the homogeneity proper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28440" y="540900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er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is a consta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hannel = 72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12” line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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out range: 10 to 90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SI Jitter distribution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ps = 0.79 and -0.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3624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523880" y="2590920"/>
            <a:ext cx="381240" cy="380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495680" y="2438280"/>
            <a:ext cx="381240" cy="3812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2514600"/>
            <a:ext cx="380880" cy="3808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315200" cy="46180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15696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annel = 7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12” line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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out range: 30 to 70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" y="2514600"/>
            <a:ext cx="3200400" cy="160848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it stream (1) and edge convolution(2) are very clos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 tap are set in the transmi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09240" y="2895480"/>
            <a:ext cx="1581120" cy="6426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ut range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0 to 7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54480" y="2819520"/>
            <a:ext cx="2180160" cy="6426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 Mathematica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alization(3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495680" y="2057400"/>
            <a:ext cx="228600" cy="914400"/>
          </a:xfrm>
          <a:prstGeom prst="line">
            <a:avLst/>
          </a:prstGeom>
          <a:ln w="1908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934320" y="2133360"/>
            <a:ext cx="75960" cy="685800"/>
          </a:xfrm>
          <a:prstGeom prst="line">
            <a:avLst/>
          </a:prstGeom>
          <a:ln w="1908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5740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ps = 0.79 and -0.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7010280" cy="46548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annel = 7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12” line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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out range: 30 to 70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6471000" y="2819520"/>
            <a:ext cx="1378440" cy="3682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it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707640" y="4572000"/>
            <a:ext cx="3381120" cy="6426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 Mathematica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alization w/conv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095880" y="3962160"/>
            <a:ext cx="76320" cy="685800"/>
          </a:xfrm>
          <a:prstGeom prst="line">
            <a:avLst/>
          </a:prstGeom>
          <a:ln w="1908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6095520" y="2971800"/>
            <a:ext cx="228600" cy="609480"/>
          </a:xfrm>
          <a:prstGeom prst="line">
            <a:avLst/>
          </a:prstGeom>
          <a:ln w="1908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93360" y="1676520"/>
            <a:ext cx="1573560" cy="3682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v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638320" y="1905120"/>
            <a:ext cx="228600" cy="533160"/>
          </a:xfrm>
          <a:prstGeom prst="line">
            <a:avLst/>
          </a:prstGeom>
          <a:ln w="1908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5740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ps = 0.79 and -0.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48720" y="2819520"/>
            <a:ext cx="380880" cy="380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772400" y="1676520"/>
            <a:ext cx="380880" cy="3808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391520" y="4724280"/>
            <a:ext cx="380880" cy="3812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rcRect l="0" t="0" r="0" b="29226"/>
          <a:stretch/>
        </p:blipFill>
        <p:spPr>
          <a:xfrm>
            <a:off x="228600" y="1295280"/>
            <a:ext cx="6019920" cy="426096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annel = 7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12” line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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out range: 30 to 70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rcRect l="0" t="0" r="0" b="28082"/>
          <a:stretch/>
        </p:blipFill>
        <p:spPr>
          <a:xfrm>
            <a:off x="3962520" y="2438280"/>
            <a:ext cx="4952880" cy="356256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6095880" y="4038480"/>
            <a:ext cx="1905120" cy="3682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Bit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81080" y="2971800"/>
            <a:ext cx="1905120" cy="7855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Conv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Taps set at T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629400" y="1676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bout the same 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05740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ps = 0.79 and -0.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48720" y="4114800"/>
            <a:ext cx="380880" cy="380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76720" y="3809880"/>
            <a:ext cx="380880" cy="3812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annel = 7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12” line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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out range: 30 to 70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rcRect l="0" t="0" r="0" b="27400"/>
          <a:stretch/>
        </p:blipFill>
        <p:spPr>
          <a:xfrm>
            <a:off x="228600" y="1295280"/>
            <a:ext cx="5562720" cy="42213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rcRect l="0" t="0" r="0" b="28082"/>
          <a:stretch/>
        </p:blipFill>
        <p:spPr>
          <a:xfrm>
            <a:off x="4038480" y="2438280"/>
            <a:ext cx="4953240" cy="35625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6095880" y="4038480"/>
            <a:ext cx="1905120" cy="3682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Bit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2971800"/>
            <a:ext cx="1905120" cy="7855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Conv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Taps set at R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1523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.5mV &amp; 6 ps E0 Dif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ps = 0.79 and -0.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24680" y="4038480"/>
            <a:ext cx="381240" cy="3812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00400" y="3962520"/>
            <a:ext cx="380880" cy="3808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annel =2 connector real system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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out range: 10 to 90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rcRect l="0" t="0" r="0" b="29597"/>
          <a:stretch/>
        </p:blipFill>
        <p:spPr>
          <a:xfrm>
            <a:off x="304920" y="1295280"/>
            <a:ext cx="6172200" cy="33577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rcRect l="0" t="0" r="0" b="28410"/>
          <a:stretch/>
        </p:blipFill>
        <p:spPr>
          <a:xfrm>
            <a:off x="3886200" y="2209680"/>
            <a:ext cx="5257800" cy="37227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095880" y="4038480"/>
            <a:ext cx="1905120" cy="3682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Bit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447920" y="2895480"/>
            <a:ext cx="1904760" cy="7855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Conv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Taps set at T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029200" y="5257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0 min Simulatio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724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 min Simulatio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ps = 0.79 and -0.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924680" y="4114800"/>
            <a:ext cx="381240" cy="380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743200" y="3581280"/>
            <a:ext cx="380880" cy="3812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629400" y="1447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.5mV &amp; 1.5 ps E0 Dif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annel =2 connector real syste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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out range: 10 to 90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4038480"/>
            <a:ext cx="1905120" cy="3682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Bit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rcRect l="0" t="0" r="0" b="26911"/>
          <a:stretch/>
        </p:blipFill>
        <p:spPr>
          <a:xfrm>
            <a:off x="152280" y="1295280"/>
            <a:ext cx="6458040" cy="31258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"/>
          <a:srcRect l="0" t="0" r="0" b="28410"/>
          <a:stretch/>
        </p:blipFill>
        <p:spPr>
          <a:xfrm>
            <a:off x="3886200" y="2286000"/>
            <a:ext cx="5257800" cy="37227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447920" y="2895480"/>
            <a:ext cx="1904760" cy="7855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Conv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Taps set at R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324480" y="4038480"/>
            <a:ext cx="1905120" cy="3682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Bit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5257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0 min Simulatio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45720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 min Simulatio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5740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ps = 0.79 and -0.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077320" y="4038480"/>
            <a:ext cx="380880" cy="3812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629400" y="1447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.7mV &amp; 1.1 ps E0 Dif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3657600"/>
            <a:ext cx="380880" cy="3808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hannel =2 connector real system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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out range: 10 to 90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238880" cy="46530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0" y="3352680"/>
            <a:ext cx="3200400" cy="160848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it stream (1) and edge convolution(2) are very clos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 tap are set in the transmi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80640" y="3733920"/>
            <a:ext cx="1581120" cy="6426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ut range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0 to 7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825880" y="3657600"/>
            <a:ext cx="2180160" cy="6426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 Mathematica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alization(3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4267080" y="2361960"/>
            <a:ext cx="152640" cy="1447560"/>
          </a:xfrm>
          <a:prstGeom prst="line">
            <a:avLst/>
          </a:prstGeom>
          <a:ln w="1908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05720" y="2666880"/>
            <a:ext cx="152280" cy="990720"/>
          </a:xfrm>
          <a:prstGeom prst="line">
            <a:avLst/>
          </a:prstGeom>
          <a:ln w="1908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05740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ps = 0.79 and -0.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annel = 7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12” line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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out range: 0.5pf to 1.5pF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rcRect l="0" t="0" r="0" b="27928"/>
          <a:stretch/>
        </p:blipFill>
        <p:spPr>
          <a:xfrm>
            <a:off x="304920" y="1600200"/>
            <a:ext cx="6457680" cy="30481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rcRect l="0" t="0" r="0" b="28456"/>
          <a:stretch/>
        </p:blipFill>
        <p:spPr>
          <a:xfrm>
            <a:off x="2514600" y="3048120"/>
            <a:ext cx="6458040" cy="30258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6400800" y="4191120"/>
            <a:ext cx="1905120" cy="3682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Bit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05740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ps = 0.79 and -0.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848720" y="4648320"/>
            <a:ext cx="380880" cy="380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629400" y="1905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.3mV &amp; 0.5 ps E0 Dif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14400" y="2362320"/>
            <a:ext cx="1905120" cy="7855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Conv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Taps set at T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133720" y="3276720"/>
            <a:ext cx="380880" cy="3808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rcRect l="0" t="0" r="0" b="28456"/>
          <a:stretch/>
        </p:blipFill>
        <p:spPr>
          <a:xfrm>
            <a:off x="152280" y="1295280"/>
            <a:ext cx="6458040" cy="30258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annel = 7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12” line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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out range: 0.5pf to 1.5pF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rcRect l="0" t="0" r="0" b="28456"/>
          <a:stretch/>
        </p:blipFill>
        <p:spPr>
          <a:xfrm>
            <a:off x="2514600" y="3048120"/>
            <a:ext cx="6458040" cy="30258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248520" y="4267080"/>
            <a:ext cx="1904760" cy="3682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Bit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5740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ps = 0.79 and -0.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924680" y="4572000"/>
            <a:ext cx="381240" cy="380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133720" y="3200400"/>
            <a:ext cx="380880" cy="3808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629400" y="1905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mV &amp; 7.5 ps E0 Dif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066680" y="2209680"/>
            <a:ext cx="1905120" cy="7855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Conv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014c"/>
                </a:solidFill>
                <a:latin typeface="Verdana"/>
              </a:rPr>
              <a:t>Taps set at R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ample of Non-Linearity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84074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resistance, capacitance, or inductance that changes with voltage creates non linear circuit behavi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 transistors are non-lin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y buffers have linear region of oper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BIS is used to represent non linear characteristic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ull transistor models may include time variant effect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569880" indent="-22536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t discussed tod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536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536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84074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ngle resistor equivalent models are insuffic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volution Eye is OK if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qualize taps are set at the Tx or if buffer impedance range is &lt; 40% from nomin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 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dictive algorithms for solution space don’t require more than a few ps or mv of resolu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aptive equalization methods may be impacted by non-linear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itter distribution varies with method. More work is needed on impact of ISI jitter distributions on adaptive algorith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re work is required to determine if algorithms will hunt out correct Rx equaliz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ult may be worse for higher data ra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re data needed he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mple Superposition Example: “Tales of a lone bit” 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6840" y="3720600"/>
            <a:ext cx="84074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lone pulse can be used to determine the response digital pulse stream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s is true as long as superposition holds or the system is line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69880" indent="-22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interconnect channel is linear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e will use an example to how a lone pulse with cursor value of 0.75 and post cursor tap of 0.25 results is an bit stream that can be recognized as 6dB pre-empha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523880"/>
            <a:ext cx="7391520" cy="1828800"/>
          </a:xfrm>
          <a:custGeom>
            <a:avLst/>
            <a:gdLst/>
            <a:ahLst/>
            <a:rect l="l" t="t" r="r" b="b"/>
            <a:pathLst>
              <a:path w="4656" h="1152">
                <a:moveTo>
                  <a:pt x="0" y="768"/>
                </a:moveTo>
                <a:lnTo>
                  <a:pt x="2064" y="768"/>
                </a:lnTo>
                <a:lnTo>
                  <a:pt x="2256" y="0"/>
                </a:lnTo>
                <a:lnTo>
                  <a:pt x="2448" y="0"/>
                </a:lnTo>
                <a:lnTo>
                  <a:pt x="2592" y="1152"/>
                </a:lnTo>
                <a:lnTo>
                  <a:pt x="2825" y="1152"/>
                </a:lnTo>
                <a:lnTo>
                  <a:pt x="2825" y="1145"/>
                </a:lnTo>
                <a:lnTo>
                  <a:pt x="2955" y="761"/>
                </a:lnTo>
                <a:lnTo>
                  <a:pt x="4656" y="768"/>
                </a:lnTo>
              </a:path>
            </a:pathLst>
          </a:custGeom>
          <a:noFill/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1295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ursor=0.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3048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ost cursor =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3680" y="228600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a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137160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137160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3048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2819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it Time or Unit Inter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3526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15238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137160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925040" cy="12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se superposition to string together a bit pattern out of lone bits with the amplitude of the tap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38080" y="2254320"/>
            <a:ext cx="5372280" cy="412200"/>
            <a:chOff x="838080" y="2254320"/>
            <a:chExt cx="5372280" cy="412200"/>
          </a:xfrm>
        </p:grpSpPr>
        <p:sp>
          <p:nvSpPr>
            <p:cNvPr id="153" name=""/>
            <p:cNvSpPr/>
            <p:nvPr/>
          </p:nvSpPr>
          <p:spPr>
            <a:xfrm>
              <a:off x="838080" y="2285640"/>
              <a:ext cx="5229360" cy="380880"/>
            </a:xfrm>
            <a:custGeom>
              <a:avLst/>
              <a:gdLst/>
              <a:ahLst/>
              <a:rect l="l" t="t" r="r" b="b"/>
              <a:pathLst>
                <a:path w="4656" h="1152">
                  <a:moveTo>
                    <a:pt x="0" y="768"/>
                  </a:moveTo>
                  <a:lnTo>
                    <a:pt x="2064" y="768"/>
                  </a:lnTo>
                  <a:lnTo>
                    <a:pt x="2256" y="0"/>
                  </a:lnTo>
                  <a:lnTo>
                    <a:pt x="2448" y="0"/>
                  </a:lnTo>
                  <a:lnTo>
                    <a:pt x="2592" y="1152"/>
                  </a:lnTo>
                  <a:lnTo>
                    <a:pt x="2784" y="1152"/>
                  </a:lnTo>
                  <a:lnTo>
                    <a:pt x="2871" y="764"/>
                  </a:lnTo>
                  <a:lnTo>
                    <a:pt x="4656" y="768"/>
                  </a:lnTo>
                </a:path>
              </a:pathLst>
            </a:custGeom>
            <a:noFill/>
            <a:ln w="190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2254320"/>
              <a:ext cx="506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0    0    0    0    0    0    1    0    0    0    0    0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247760" y="2819520"/>
            <a:ext cx="5343480" cy="412200"/>
            <a:chOff x="1247760" y="2819520"/>
            <a:chExt cx="5343480" cy="412200"/>
          </a:xfrm>
        </p:grpSpPr>
        <p:sp>
          <p:nvSpPr>
            <p:cNvPr id="156" name=""/>
            <p:cNvSpPr/>
            <p:nvPr/>
          </p:nvSpPr>
          <p:spPr>
            <a:xfrm>
              <a:off x="1247760" y="2850840"/>
              <a:ext cx="5229360" cy="380880"/>
            </a:xfrm>
            <a:custGeom>
              <a:avLst/>
              <a:gdLst/>
              <a:ahLst/>
              <a:rect l="l" t="t" r="r" b="b"/>
              <a:pathLst>
                <a:path w="4656" h="1152">
                  <a:moveTo>
                    <a:pt x="0" y="768"/>
                  </a:moveTo>
                  <a:lnTo>
                    <a:pt x="2064" y="768"/>
                  </a:lnTo>
                  <a:lnTo>
                    <a:pt x="2256" y="0"/>
                  </a:lnTo>
                  <a:lnTo>
                    <a:pt x="2448" y="0"/>
                  </a:lnTo>
                  <a:lnTo>
                    <a:pt x="2592" y="1152"/>
                  </a:lnTo>
                  <a:lnTo>
                    <a:pt x="2784" y="1152"/>
                  </a:lnTo>
                  <a:lnTo>
                    <a:pt x="2871" y="764"/>
                  </a:lnTo>
                  <a:lnTo>
                    <a:pt x="4656" y="768"/>
                  </a:lnTo>
                </a:path>
              </a:pathLst>
            </a:custGeom>
            <a:noFill/>
            <a:ln w="190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3880" y="2819520"/>
              <a:ext cx="506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0    0    0    0    0    0    1    0    0    0    0    0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819520" y="3352680"/>
            <a:ext cx="5333760" cy="412560"/>
            <a:chOff x="2819520" y="3352680"/>
            <a:chExt cx="5333760" cy="412560"/>
          </a:xfrm>
        </p:grpSpPr>
        <p:sp>
          <p:nvSpPr>
            <p:cNvPr id="159" name=""/>
            <p:cNvSpPr/>
            <p:nvPr/>
          </p:nvSpPr>
          <p:spPr>
            <a:xfrm>
              <a:off x="2819520" y="3384360"/>
              <a:ext cx="5229000" cy="380880"/>
            </a:xfrm>
            <a:custGeom>
              <a:avLst/>
              <a:gdLst/>
              <a:ahLst/>
              <a:rect l="l" t="t" r="r" b="b"/>
              <a:pathLst>
                <a:path w="4656" h="1152">
                  <a:moveTo>
                    <a:pt x="0" y="768"/>
                  </a:moveTo>
                  <a:lnTo>
                    <a:pt x="2064" y="768"/>
                  </a:lnTo>
                  <a:lnTo>
                    <a:pt x="2256" y="0"/>
                  </a:lnTo>
                  <a:lnTo>
                    <a:pt x="2448" y="0"/>
                  </a:lnTo>
                  <a:lnTo>
                    <a:pt x="2592" y="1152"/>
                  </a:lnTo>
                  <a:lnTo>
                    <a:pt x="2784" y="1152"/>
                  </a:lnTo>
                  <a:lnTo>
                    <a:pt x="2871" y="764"/>
                  </a:lnTo>
                  <a:lnTo>
                    <a:pt x="4656" y="768"/>
                  </a:lnTo>
                </a:path>
              </a:pathLst>
            </a:custGeom>
            <a:noFill/>
            <a:ln w="190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86280" y="3352680"/>
              <a:ext cx="506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0    0    0    0    0    0    1    0    0    0    0    0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200400" y="3886200"/>
            <a:ext cx="5334120" cy="412920"/>
            <a:chOff x="3200400" y="3886200"/>
            <a:chExt cx="5334120" cy="412920"/>
          </a:xfrm>
        </p:grpSpPr>
        <p:sp>
          <p:nvSpPr>
            <p:cNvPr id="162" name=""/>
            <p:cNvSpPr/>
            <p:nvPr/>
          </p:nvSpPr>
          <p:spPr>
            <a:xfrm>
              <a:off x="3200400" y="3918240"/>
              <a:ext cx="5229360" cy="380880"/>
            </a:xfrm>
            <a:custGeom>
              <a:avLst/>
              <a:gdLst/>
              <a:ahLst/>
              <a:rect l="l" t="t" r="r" b="b"/>
              <a:pathLst>
                <a:path w="4656" h="1152">
                  <a:moveTo>
                    <a:pt x="0" y="768"/>
                  </a:moveTo>
                  <a:lnTo>
                    <a:pt x="2064" y="768"/>
                  </a:lnTo>
                  <a:lnTo>
                    <a:pt x="2256" y="0"/>
                  </a:lnTo>
                  <a:lnTo>
                    <a:pt x="2448" y="0"/>
                  </a:lnTo>
                  <a:lnTo>
                    <a:pt x="2592" y="1152"/>
                  </a:lnTo>
                  <a:lnTo>
                    <a:pt x="2784" y="1152"/>
                  </a:lnTo>
                  <a:lnTo>
                    <a:pt x="2871" y="764"/>
                  </a:lnTo>
                  <a:lnTo>
                    <a:pt x="4656" y="768"/>
                  </a:lnTo>
                </a:path>
              </a:pathLst>
            </a:custGeom>
            <a:noFill/>
            <a:ln w="190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3886200"/>
              <a:ext cx="506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0    0    0    0    0    0    1    0    0    0    0    0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533760" y="4387680"/>
            <a:ext cx="5343480" cy="412560"/>
            <a:chOff x="3533760" y="4387680"/>
            <a:chExt cx="5343480" cy="412560"/>
          </a:xfrm>
        </p:grpSpPr>
        <p:sp>
          <p:nvSpPr>
            <p:cNvPr id="165" name=""/>
            <p:cNvSpPr/>
            <p:nvPr/>
          </p:nvSpPr>
          <p:spPr>
            <a:xfrm>
              <a:off x="3533760" y="4419360"/>
              <a:ext cx="5229360" cy="380880"/>
            </a:xfrm>
            <a:custGeom>
              <a:avLst/>
              <a:gdLst/>
              <a:ahLst/>
              <a:rect l="l" t="t" r="r" b="b"/>
              <a:pathLst>
                <a:path w="4656" h="1152">
                  <a:moveTo>
                    <a:pt x="0" y="768"/>
                  </a:moveTo>
                  <a:lnTo>
                    <a:pt x="2064" y="768"/>
                  </a:lnTo>
                  <a:lnTo>
                    <a:pt x="2256" y="0"/>
                  </a:lnTo>
                  <a:lnTo>
                    <a:pt x="2448" y="0"/>
                  </a:lnTo>
                  <a:lnTo>
                    <a:pt x="2592" y="1152"/>
                  </a:lnTo>
                  <a:lnTo>
                    <a:pt x="2784" y="1152"/>
                  </a:lnTo>
                  <a:lnTo>
                    <a:pt x="2871" y="764"/>
                  </a:lnTo>
                  <a:lnTo>
                    <a:pt x="4656" y="768"/>
                  </a:lnTo>
                </a:path>
              </a:pathLst>
            </a:custGeom>
            <a:noFill/>
            <a:ln w="190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9880" y="4387680"/>
              <a:ext cx="506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0    0    0    0    0    0    1    0    0    0    0    0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80880" y="3429000"/>
            <a:ext cx="8305920" cy="2232000"/>
            <a:chOff x="380880" y="3429000"/>
            <a:chExt cx="8305920" cy="2232000"/>
          </a:xfrm>
        </p:grpSpPr>
        <p:sp>
          <p:nvSpPr>
            <p:cNvPr id="168" name=""/>
            <p:cNvSpPr/>
            <p:nvPr/>
          </p:nvSpPr>
          <p:spPr>
            <a:xfrm>
              <a:off x="380880" y="4953240"/>
              <a:ext cx="83059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0    0    0    0    0    0    0    1    1    1    0    0    0    1    1    1    0    0    0    0    0  Bi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0    0    0    0    0    0    0   ¾   ½  ½   -¼  0    0    ¾   ½  ½  -¼   0   0    0    0  Val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1676520" y="3429000"/>
              <a:ext cx="838080" cy="1219320"/>
              <a:chOff x="1676520" y="3429000"/>
              <a:chExt cx="838080" cy="1219320"/>
            </a:xfrm>
          </p:grpSpPr>
          <p:sp>
            <p:nvSpPr>
              <p:cNvPr id="170" name=""/>
              <p:cNvSpPr/>
              <p:nvPr/>
            </p:nvSpPr>
            <p:spPr>
              <a:xfrm>
                <a:off x="1676520" y="3657600"/>
                <a:ext cx="5331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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14600" y="3429000"/>
                <a:ext cx="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457200" y="1600200"/>
            <a:ext cx="7162920" cy="794520"/>
            <a:chOff x="457200" y="1600200"/>
            <a:chExt cx="7162920" cy="794520"/>
          </a:xfrm>
        </p:grpSpPr>
        <p:sp>
          <p:nvSpPr>
            <p:cNvPr id="173" name=""/>
            <p:cNvSpPr/>
            <p:nvPr/>
          </p:nvSpPr>
          <p:spPr>
            <a:xfrm>
              <a:off x="457200" y="1828800"/>
              <a:ext cx="5229360" cy="381240"/>
            </a:xfrm>
            <a:custGeom>
              <a:avLst/>
              <a:gdLst/>
              <a:ahLst/>
              <a:rect l="l" t="t" r="r" b="b"/>
              <a:pathLst>
                <a:path w="4656" h="1152">
                  <a:moveTo>
                    <a:pt x="0" y="768"/>
                  </a:moveTo>
                  <a:lnTo>
                    <a:pt x="2064" y="768"/>
                  </a:lnTo>
                  <a:lnTo>
                    <a:pt x="2256" y="0"/>
                  </a:lnTo>
                  <a:lnTo>
                    <a:pt x="2448" y="0"/>
                  </a:lnTo>
                  <a:lnTo>
                    <a:pt x="2592" y="1152"/>
                  </a:lnTo>
                  <a:lnTo>
                    <a:pt x="2784" y="1152"/>
                  </a:lnTo>
                  <a:lnTo>
                    <a:pt x="2871" y="764"/>
                  </a:lnTo>
                  <a:lnTo>
                    <a:pt x="4656" y="768"/>
                  </a:lnTo>
                </a:path>
              </a:pathLst>
            </a:custGeom>
            <a:noFill/>
            <a:ln w="190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5800" y="1752840"/>
              <a:ext cx="506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0    0    0    0    0    0    1    0    0    0    0    0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95800" y="1792440"/>
              <a:ext cx="32763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3080" y="16002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0.7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15000" y="19051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77120" y="20574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-0.2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57600" y="221004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e now have a familiar wavefor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3733560"/>
            <a:ext cx="8382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6000" indent="-216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otice the familiar de-emphasized waveform which is a composition of lone bit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546840" indent="-2160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bserve that Vshelf is ½ and Vswing is 1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546840" indent="-2160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r 2 tap systems we would call this 6dB de-emphasis 20*log(0.5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16000" indent="-216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sing this concept simulate or measure one lone bit and with out performing any more simulation we can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546840" indent="-2160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etermine the response of an arbitrary string bit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546840" indent="-2160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etermining best or worst case signal distortion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546840" indent="-2160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etermining the eye opening due algorithmically piecing string to that produce aggregated performan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182880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normalize to 1 peak to peak:  Value-1/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057400"/>
            <a:ext cx="89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¼ -¼ -¼  -¼ -¼ -¼ -¼  ½   ¼   ¼  -½ -¼ -¼  ½  ¼   ¼  -½  -¼ -¼  -¼ -¼ ren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995560"/>
            <a:ext cx="7924680" cy="76320"/>
          </a:xfrm>
          <a:prstGeom prst="line">
            <a:avLst/>
          </a:prstGeom>
          <a:ln w="9360">
            <a:solidFill>
              <a:srgbClr val="ffff6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7280" y="2514600"/>
            <a:ext cx="4548240" cy="914400"/>
          </a:xfrm>
          <a:custGeom>
            <a:avLst/>
            <a:gdLst/>
            <a:ahLst/>
            <a:rect l="l" t="t" r="r" b="b"/>
            <a:pathLst>
              <a:path w="2865" h="576">
                <a:moveTo>
                  <a:pt x="0" y="397"/>
                </a:moveTo>
                <a:lnTo>
                  <a:pt x="1486" y="409"/>
                </a:lnTo>
                <a:lnTo>
                  <a:pt x="1604" y="0"/>
                </a:lnTo>
                <a:lnTo>
                  <a:pt x="1778" y="0"/>
                </a:lnTo>
                <a:lnTo>
                  <a:pt x="1865" y="192"/>
                </a:lnTo>
                <a:lnTo>
                  <a:pt x="2169" y="192"/>
                </a:lnTo>
                <a:lnTo>
                  <a:pt x="2256" y="576"/>
                </a:lnTo>
                <a:lnTo>
                  <a:pt x="2430" y="576"/>
                </a:lnTo>
                <a:lnTo>
                  <a:pt x="2517" y="432"/>
                </a:lnTo>
                <a:lnTo>
                  <a:pt x="2865" y="432"/>
                </a:lnTo>
              </a:path>
            </a:pathLst>
          </a:custGeom>
          <a:noFill/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2514600"/>
            <a:ext cx="335268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416"/>
                </a:moveTo>
                <a:lnTo>
                  <a:pt x="144" y="0"/>
                </a:lnTo>
                <a:lnTo>
                  <a:pt x="336" y="0"/>
                </a:lnTo>
                <a:lnTo>
                  <a:pt x="432" y="208"/>
                </a:lnTo>
                <a:lnTo>
                  <a:pt x="768" y="208"/>
                </a:lnTo>
                <a:lnTo>
                  <a:pt x="864" y="624"/>
                </a:lnTo>
                <a:lnTo>
                  <a:pt x="1056" y="624"/>
                </a:lnTo>
                <a:lnTo>
                  <a:pt x="1162" y="449"/>
                </a:lnTo>
                <a:lnTo>
                  <a:pt x="2112" y="444"/>
                </a:lnTo>
              </a:path>
            </a:pathLst>
          </a:custGeom>
          <a:noFill/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147840"/>
            <a:ext cx="7924680" cy="76320"/>
          </a:xfrm>
          <a:prstGeom prst="line">
            <a:avLst/>
          </a:prstGeom>
          <a:ln w="9360">
            <a:solidFill>
              <a:srgbClr val="ffff6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2819520"/>
            <a:ext cx="7924680" cy="75960"/>
          </a:xfrm>
          <a:prstGeom prst="line">
            <a:avLst/>
          </a:prstGeom>
          <a:ln w="9360">
            <a:solidFill>
              <a:srgbClr val="ffff6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562720" y="289512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3156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shelf = 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2438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swing =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0400" y="25146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3429000"/>
            <a:ext cx="7924680" cy="76320"/>
          </a:xfrm>
          <a:prstGeom prst="line">
            <a:avLst/>
          </a:prstGeom>
          <a:ln w="9360">
            <a:solidFill>
              <a:srgbClr val="ffff6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914400"/>
            <a:ext cx="830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    0    0    0    0    0    0    1    1    1    0    0    0    1    1    1    0    0    0    0    0  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    0    0    0    0    0    0   ¾   ½  ½   -¼  0    0    ¾   ½  ½  -¼   0   0    0    0  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h Speed Signaling tool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84074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superposition of edges to create long bits strea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9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dge are altered in time to create jitt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9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thers convolve a channel system function with jitter and d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9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aptive equalization can be determined from bit streams, system function, or pulse respo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9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soft’s QuickEye™ resembles some of the abo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9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 these type of tools make the assumption that linear superposition is val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536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t of the Agen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66840" y="1371600"/>
            <a:ext cx="84074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 CML buff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ing the CML buffer non lin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termine effect of % of linearity for different equalization interpretati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4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468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mple Current Mode Logic (CML) Differential Buffer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2303280" y="2238120"/>
            <a:ext cx="863640" cy="8064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495320" y="3048120"/>
            <a:ext cx="922680" cy="863640"/>
            <a:chOff x="4495320" y="3048120"/>
            <a:chExt cx="922680" cy="863640"/>
          </a:xfrm>
        </p:grpSpPr>
        <p:sp>
          <p:nvSpPr>
            <p:cNvPr id="202" name=""/>
            <p:cNvSpPr/>
            <p:nvPr/>
          </p:nvSpPr>
          <p:spPr>
            <a:xfrm rot="5400000">
              <a:off x="4438080" y="3105360"/>
              <a:ext cx="863640" cy="74916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r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44840" y="3392640"/>
              <a:ext cx="173160" cy="17316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rot="5400000">
            <a:off x="1266480" y="2238120"/>
            <a:ext cx="863640" cy="806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323880" y="2238120"/>
            <a:ext cx="863640" cy="8064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f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204" idx="0"/>
            <a:endCxn id="200" idx="3"/>
          </p:cNvCxnSpPr>
          <p:nvPr/>
        </p:nvCxnSpPr>
        <p:spPr>
          <a:xfrm>
            <a:off x="2116080" y="2641320"/>
            <a:ext cx="202320" cy="10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07" name=""/>
          <p:cNvCxnSpPr>
            <a:stCxn id="200" idx="0"/>
            <a:endCxn id="205" idx="3"/>
          </p:cNvCxnSpPr>
          <p:nvPr/>
        </p:nvCxnSpPr>
        <p:spPr>
          <a:xfrm>
            <a:off x="3152880" y="2641320"/>
            <a:ext cx="186480" cy="10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08" name=""/>
          <p:cNvCxnSpPr>
            <a:stCxn id="205" idx="0"/>
            <a:endCxn id="202" idx="3"/>
          </p:cNvCxnSpPr>
          <p:nvPr/>
        </p:nvCxnSpPr>
        <p:spPr>
          <a:xfrm>
            <a:off x="4173120" y="2641680"/>
            <a:ext cx="322920" cy="838800"/>
          </a:xfrm>
          <a:prstGeom prst="bentConnector3">
            <a:avLst>
              <a:gd name="adj1" fmla="val 47767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09" name=""/>
          <p:cNvCxnSpPr>
            <a:stCxn id="210" idx="1"/>
            <a:endCxn id="205" idx="0"/>
          </p:cNvCxnSpPr>
          <p:nvPr/>
        </p:nvCxnSpPr>
        <p:spPr>
          <a:xfrm flipV="1" rot="10800000">
            <a:off x="4172760" y="2637360"/>
            <a:ext cx="3142440" cy="3960"/>
          </a:xfrm>
          <a:prstGeom prst="bentConnector3">
            <a:avLst>
              <a:gd name="adj1" fmla="val 5021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753200" y="541008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L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9120" y="16002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ta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62120" y="1980360"/>
            <a:ext cx="533160" cy="838440"/>
          </a:xfrm>
          <a:custGeom>
            <a:avLst/>
            <a:gdLst>
              <a:gd name="textAreaLeft" fmla="*/ 0 w 533160"/>
              <a:gd name="textAreaRight" fmla="*/ 533520 w 533160"/>
              <a:gd name="textAreaTop" fmla="*/ -360 h 838440"/>
              <a:gd name="textAreaBottom" fmla="*/ 8384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83" stAng="10800000" swAng="5400000"/>
                <a:lnTo>
                  <a:pt x="12427" y="3477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681"/>
                </a:lnTo>
                <a:lnTo>
                  <a:pt x="12427" y="8681"/>
                </a:lnTo>
                <a:arcTo wR="7223" hR="3479" stAng="16200000" swAng="-5400000"/>
                <a:lnTo>
                  <a:pt x="5204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7160" y="3681360"/>
            <a:ext cx="962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Vou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Comic Sans MS"/>
              </a:rPr>
              <a:t>di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7000" y="457200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ou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093000" y="3168720"/>
            <a:ext cx="344160" cy="619200"/>
            <a:chOff x="6093000" y="3168720"/>
            <a:chExt cx="344160" cy="619200"/>
          </a:xfrm>
        </p:grpSpPr>
        <p:sp>
          <p:nvSpPr>
            <p:cNvPr id="217" name=""/>
            <p:cNvSpPr/>
            <p:nvPr/>
          </p:nvSpPr>
          <p:spPr>
            <a:xfrm>
              <a:off x="6093000" y="3168720"/>
              <a:ext cx="344160" cy="619200"/>
            </a:xfrm>
            <a:prstGeom prst="flowChartDecision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65080" y="3311640"/>
              <a:ext cx="0" cy="333360"/>
            </a:xfrm>
            <a:prstGeom prst="line">
              <a:avLst/>
            </a:prstGeom>
            <a:ln w="38160">
              <a:solidFill>
                <a:srgbClr val="aa01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315200" y="2328840"/>
            <a:ext cx="344520" cy="619200"/>
            <a:chOff x="7315200" y="2328840"/>
            <a:chExt cx="344520" cy="619200"/>
          </a:xfrm>
        </p:grpSpPr>
        <p:sp>
          <p:nvSpPr>
            <p:cNvPr id="210" name=""/>
            <p:cNvSpPr/>
            <p:nvPr/>
          </p:nvSpPr>
          <p:spPr>
            <a:xfrm>
              <a:off x="7315200" y="2328840"/>
              <a:ext cx="344520" cy="619200"/>
            </a:xfrm>
            <a:prstGeom prst="flowChartDecision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87640" y="2471760"/>
              <a:ext cx="0" cy="333360"/>
            </a:xfrm>
            <a:prstGeom prst="line">
              <a:avLst/>
            </a:prstGeom>
            <a:ln w="38160">
              <a:solidFill>
                <a:srgbClr val="aa01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162840" y="4575240"/>
            <a:ext cx="274320" cy="1305000"/>
          </a:xfrm>
          <a:custGeom>
            <a:avLst/>
            <a:gdLst/>
            <a:ahLst/>
            <a:rect l="l" t="t" r="r" b="b"/>
            <a:pathLst>
              <a:path w="192" h="912">
                <a:moveTo>
                  <a:pt x="96" y="0"/>
                </a:moveTo>
                <a:lnTo>
                  <a:pt x="96" y="144"/>
                </a:lnTo>
                <a:lnTo>
                  <a:pt x="192" y="192"/>
                </a:lnTo>
                <a:lnTo>
                  <a:pt x="0" y="288"/>
                </a:lnTo>
                <a:lnTo>
                  <a:pt x="192" y="384"/>
                </a:lnTo>
                <a:lnTo>
                  <a:pt x="0" y="480"/>
                </a:lnTo>
                <a:lnTo>
                  <a:pt x="192" y="576"/>
                </a:lnTo>
                <a:lnTo>
                  <a:pt x="96" y="624"/>
                </a:lnTo>
                <a:lnTo>
                  <a:pt x="96" y="768"/>
                </a:lnTo>
                <a:lnTo>
                  <a:pt x="0" y="768"/>
                </a:lnTo>
                <a:lnTo>
                  <a:pt x="96" y="912"/>
                </a:lnTo>
                <a:lnTo>
                  <a:pt x="192" y="768"/>
                </a:lnTo>
                <a:lnTo>
                  <a:pt x="96" y="768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99440" y="4575240"/>
            <a:ext cx="274680" cy="1305000"/>
          </a:xfrm>
          <a:custGeom>
            <a:avLst/>
            <a:gdLst/>
            <a:ahLst/>
            <a:rect l="l" t="t" r="r" b="b"/>
            <a:pathLst>
              <a:path w="192" h="912">
                <a:moveTo>
                  <a:pt x="96" y="0"/>
                </a:moveTo>
                <a:lnTo>
                  <a:pt x="96" y="144"/>
                </a:lnTo>
                <a:lnTo>
                  <a:pt x="192" y="192"/>
                </a:lnTo>
                <a:lnTo>
                  <a:pt x="0" y="288"/>
                </a:lnTo>
                <a:lnTo>
                  <a:pt x="192" y="384"/>
                </a:lnTo>
                <a:lnTo>
                  <a:pt x="0" y="480"/>
                </a:lnTo>
                <a:lnTo>
                  <a:pt x="192" y="576"/>
                </a:lnTo>
                <a:lnTo>
                  <a:pt x="96" y="624"/>
                </a:lnTo>
                <a:lnTo>
                  <a:pt x="96" y="768"/>
                </a:lnTo>
                <a:lnTo>
                  <a:pt x="0" y="768"/>
                </a:lnTo>
                <a:lnTo>
                  <a:pt x="96" y="912"/>
                </a:lnTo>
                <a:lnTo>
                  <a:pt x="192" y="768"/>
                </a:lnTo>
                <a:lnTo>
                  <a:pt x="96" y="768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23120" y="4986360"/>
            <a:ext cx="41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23120" y="5124600"/>
            <a:ext cx="41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91520" y="5124600"/>
            <a:ext cx="274680" cy="75564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96" y="0"/>
                </a:moveTo>
                <a:lnTo>
                  <a:pt x="96" y="384"/>
                </a:lnTo>
                <a:lnTo>
                  <a:pt x="0" y="384"/>
                </a:lnTo>
                <a:lnTo>
                  <a:pt x="96" y="528"/>
                </a:lnTo>
                <a:lnTo>
                  <a:pt x="192" y="384"/>
                </a:lnTo>
                <a:lnTo>
                  <a:pt x="96" y="38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429760" y="4575240"/>
            <a:ext cx="0" cy="411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00560" y="4986360"/>
            <a:ext cx="41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00560" y="5124600"/>
            <a:ext cx="41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68960" y="5124600"/>
            <a:ext cx="274680" cy="75564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96" y="0"/>
                </a:moveTo>
                <a:lnTo>
                  <a:pt x="96" y="384"/>
                </a:lnTo>
                <a:lnTo>
                  <a:pt x="0" y="384"/>
                </a:lnTo>
                <a:lnTo>
                  <a:pt x="96" y="528"/>
                </a:lnTo>
                <a:lnTo>
                  <a:pt x="192" y="384"/>
                </a:lnTo>
                <a:lnTo>
                  <a:pt x="96" y="38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407200" y="4575240"/>
            <a:ext cx="0" cy="411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30" idx="0"/>
            <a:endCxn id="221" idx="0"/>
          </p:cNvCxnSpPr>
          <p:nvPr/>
        </p:nvCxnSpPr>
        <p:spPr>
          <a:xfrm>
            <a:off x="5407200" y="4562280"/>
            <a:ext cx="89280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2" name=""/>
          <p:cNvCxnSpPr>
            <a:stCxn id="222" idx="0"/>
            <a:endCxn id="226" idx="0"/>
          </p:cNvCxnSpPr>
          <p:nvPr/>
        </p:nvCxnSpPr>
        <p:spPr>
          <a:xfrm>
            <a:off x="7535520" y="4562280"/>
            <a:ext cx="89460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3" name=""/>
          <p:cNvCxnSpPr>
            <a:stCxn id="217" idx="2"/>
            <a:endCxn id="221" idx="1"/>
          </p:cNvCxnSpPr>
          <p:nvPr/>
        </p:nvCxnSpPr>
        <p:spPr>
          <a:xfrm>
            <a:off x="6265440" y="3787560"/>
            <a:ext cx="35640" cy="7736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4" name=""/>
          <p:cNvCxnSpPr>
            <a:stCxn id="210" idx="2"/>
            <a:endCxn id="222" idx="1"/>
          </p:cNvCxnSpPr>
          <p:nvPr/>
        </p:nvCxnSpPr>
        <p:spPr>
          <a:xfrm>
            <a:off x="7488360" y="2948040"/>
            <a:ext cx="49680" cy="161352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6505560" y="4575240"/>
            <a:ext cx="12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out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510552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u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506880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ut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37160" y="4024440"/>
            <a:ext cx="9622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30880" y="3956040"/>
            <a:ext cx="138240" cy="138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3956040"/>
            <a:ext cx="138240" cy="138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03" idx="6"/>
            <a:endCxn id="217" idx="1"/>
          </p:cNvCxnSpPr>
          <p:nvPr/>
        </p:nvCxnSpPr>
        <p:spPr>
          <a:xfrm flipV="1">
            <a:off x="5417640" y="3477960"/>
            <a:ext cx="67572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5181480" y="1752480"/>
            <a:ext cx="1067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17" idx="0"/>
            <a:endCxn id="244" idx="0"/>
          </p:cNvCxnSpPr>
          <p:nvPr/>
        </p:nvCxnSpPr>
        <p:spPr>
          <a:xfrm flipH="1" flipV="1">
            <a:off x="6248160" y="1738080"/>
            <a:ext cx="18000" cy="14306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6248520" y="175248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67480" y="17524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"/>
          <p:cNvCxnSpPr>
            <a:stCxn id="210" idx="0"/>
            <a:endCxn id="245" idx="1"/>
          </p:cNvCxnSpPr>
          <p:nvPr/>
        </p:nvCxnSpPr>
        <p:spPr>
          <a:xfrm flipH="1" flipV="1">
            <a:off x="7467120" y="1766160"/>
            <a:ext cx="21600" cy="5626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48" name=""/>
          <p:cNvSpPr/>
          <p:nvPr/>
        </p:nvSpPr>
        <p:spPr>
          <a:xfrm>
            <a:off x="4267080" y="2590920"/>
            <a:ext cx="138240" cy="13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4:42:17Z</dcterms:created>
  <dc:creator>Richard Mellitz</dc:creator>
  <dc:description/>
  <dc:language>en-US</dc:language>
  <cp:lastModifiedBy>Richard Mellitz</cp:lastModifiedBy>
  <dcterms:modified xsi:type="dcterms:W3CDTF">2007-12-12T22:01:17Z</dcterms:modified>
  <cp:revision>2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