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D7E9-57C4-44BD-B1A8-BAC367F35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BC6C-3FFF-4FE7-AA06-4F1BFE7D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0862-4654-4BDD-8490-2C68DB7D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7EB6-BCE5-44C6-AD05-293724D8A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92D9-0D53-4D68-B39D-9692D247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52A98-E7F5-46D8-BC4B-A7BBE552BA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1C798-2903-4B7B-8B4E-42D8B3B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AFE38-0192-4984-BD76-1A81320E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E5310-BB7D-4D03-91BA-A5EED6DB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037AD-1BC0-430C-A110-14033E59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20C0-6CDB-4DDD-8F36-ABBD7C70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F515F-A3C5-45C4-82AA-AF520B56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EFCDF-93A1-49DD-9408-E874C5AC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F47C5-6D9A-43B2-A611-463BE5F2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EF488-C9F2-4101-974E-443863F3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76F03-C87C-418C-8070-568E4A8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38524-68E9-4584-9FC0-DD09D34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17164-AE05-4ACA-AB34-8C9CB01DC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4A4C-B4D0-4682-B359-C0F84CE1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FDEC-C848-4311-B99E-4AEF739D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4B31-989B-4D03-8946-A31E0194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DA1B-53B6-4F67-8509-423CEEAC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C97C-D8B3-4C7E-ACE4-0E17FA7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8423-A99B-45A1-B392-B0E5039C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8058-2D0B-4D15-AB7E-8444FFE1ED3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0144-1723-45C5-9BEF-28AC8CECD52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28360" y="1263600"/>
            <a:ext cx="635148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gorithmic Modeling (AMI)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yntax Discuss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711440" y="2521080"/>
            <a:ext cx="3571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gust 14,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we ar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t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Draft BIRD had defined new parameter structure and syntax for use in the Algorithmic Modeling S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specific parameters are to be chosen by the user through the EDA platform, which are then passed to the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A platform will pass parameters to DLLs in tree format (different than specified in Draft BI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6D25-E408-4115-BF13-C9994BA195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declarations are 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declarations in IBIS file and instance specific parameters passed to DLL are in differen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SERDES models will requir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C5F6-CEAA-41BD-A796-9966B5FF16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880" y="1196640"/>
            <a:ext cx="84232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arameter syntax in IBIS consistent with the tree format that is used by EDA platform and DLLs (syntax chan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arameter declaration structure remains unchanged (as defined in the Draft BIRD) with Reserved Keywords and “standard” set of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nore_bits, GetWave_exists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” set of parameters are interpreted and used by EDA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hoices for storing Parameter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t parameters in AMI file, IBIS file points to the AMI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also include the DLL model file name per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t parameters declarations in tree format into the 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structure and syntax can be reused regardless where it is stored for use by Algorithm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DC71-D1C1-405E-868E-08F1120BA6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 AMI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4880" y="1072800"/>
            <a:ext cx="8383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Check  can parse, check ami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A Vendors willing to provide starter parser &amp; che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 file will be parsed by EDA platform and the parameters will be passed to model dll as defined in the draft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 file has analog front end and all associated data, AMI file has data for Algorithmic Models – clean and clear disti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n external AMI file reduces the IBIS file changes to ONE new keyword in IB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Algorithmic Model &lt;modelName&gt;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modelName&gt;.ami file cont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 names for supported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 Decla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files instead of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A704-9CB1-4BA4-B39A-40BEFC430F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ami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8640" y="1130040"/>
            <a:ext cx="44449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sampleA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AMI field contains the name of the dll al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100" spc="-1" strike="noStrike">
                <a:solidFill>
                  <a:srgbClr val="ed171f"/>
                </a:solidFill>
                <a:latin typeface="Courier New"/>
              </a:rPr>
              <a:t>Dll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|Reserved Key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linux sampleami_lnx.s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solaris sampleami_sun4.s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windows sampleami.d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mac sampleami_mac.s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100" spc="-1" strike="noStrike">
                <a:solidFill>
                  <a:srgbClr val="ed171f"/>
                </a:solidFill>
                <a:latin typeface="Courier New"/>
              </a:rPr>
              <a:t>Reserved_Parameters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|Reserved Key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all the paremeters under this section are "standard". ie they have unique interpretatios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Ignore_Bits (Type Integer) (Default 21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Max_Init_Aggressors (Type Integer)(Default 25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Init_Returns_Impulse (Type Bool)(Default True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GetWave_Exists (Type Bool) (Default True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| End Reserv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70120" y="1436760"/>
            <a:ext cx="457812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100" spc="-1" strike="noStrike">
                <a:solidFill>
                  <a:srgbClr val="ed171f"/>
                </a:solidFill>
                <a:latin typeface="Courier New"/>
              </a:rPr>
              <a:t>Model_specific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|Reserved Key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txtaps is a 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txtap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tapid (Range -1 3) (type int)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txtapcoef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-1 (Range -0.1 0.1 0.1) (Type float) (Default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0 (Range 1 1 0) (Type float) (Default 1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1 (List -0.1 0.1) (Type float)(Default 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2 (Range -0.01 0.02 0.005) (Type float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(Default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3 (Range -0.01 0.02 0.005) (Type float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(Default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 | tapcoe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 | txta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tx_freq_offset (Range 0 150 1) (Type ppm) (Default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| End User_Defin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here is an example of txtaps instanc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(txtapcoeff (-1 -0.05) (0 1) (1 0) (2 0) (3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 | End SampleA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320F-0A6F-4816-A974-B4F1CBA1C3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 Declarations in IBIS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odel developer published parameters contained in on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for the parameters in Algorithmic Modeling Section very different than syntax for other parameters in the IBIS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B147-5633-4E6F-BD83-A2DCFA7082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8:00:23Z</dcterms:created>
  <dc:creator>Hemant Shah</dc:creator>
  <dc:description/>
  <dc:language>en-US</dc:language>
  <cp:lastModifiedBy>Hemant Shah</cp:lastModifiedBy>
  <cp:lastPrinted>2006-09-27T23:49:20Z</cp:lastPrinted>
  <dcterms:modified xsi:type="dcterms:W3CDTF">2007-08-21T19:03:43Z</dcterms:modified>
  <cp:revision>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8496327</vt:r8>
  </property>
  <property fmtid="{D5CDD505-2E9C-101B-9397-08002B2CF9AE}" pid="3" name="_AuthorEmail">
    <vt:lpwstr>shah@cadence.com</vt:lpwstr>
  </property>
  <property fmtid="{D5CDD505-2E9C-101B-9397-08002B2CF9AE}" pid="4" name="_AuthorEmailDisplayName">
    <vt:lpwstr>Hemant Shah</vt:lpwstr>
  </property>
  <property fmtid="{D5CDD505-2E9C-101B-9397-08002B2CF9AE}" pid="5" name="_EmailSubject">
    <vt:lpwstr>Last weeks presentation on AMI parameter passing</vt:lpwstr>
  </property>
  <property fmtid="{D5CDD505-2E9C-101B-9397-08002B2CF9AE}" pid="6" name="_NewReviewCycle">
    <vt:lpwstr/>
  </property>
</Properties>
</file>