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CB3B-C891-474F-87FD-A1A51E987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AA7F-0999-451E-B643-8A01FFBF2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2637-C5EC-4D12-89C3-F13974477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DFD5-8612-4F80-8141-F3D2878C9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ABE9-8E25-4187-8763-9876F1E19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70040" y="381204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D1FDB-0DA9-4AC8-AE4E-E2CBBA7DE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FC1E-0B57-42BE-B16E-B22405D44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EFB3-DF11-44BB-BCF1-E8CF1893A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2C75-FD9B-4BD2-B8EA-4758D8086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9D2D2-1972-43B0-BF18-427E927D4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381204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32BB-962D-492D-8325-BC39C9774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81204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B101-DBDC-4B58-A365-78AF2D088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364520" y="6105600"/>
            <a:ext cx="1517400" cy="517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848720" y="6534000"/>
            <a:ext cx="8380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7837-23E5-4410-8724-93375A917E77}" type="slidenum"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143000" y="6400800"/>
            <a:ext cx="4952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99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Century Gothic"/>
              </a:rPr>
              <a:t>IBIS-ATM Report – DesignCon IBIS Summit – Feb 1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4760" y="5935680"/>
            <a:ext cx="1600200" cy="517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07120" y="646416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Signal Integrity Software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36378" t="0" r="0" b="0"/>
          <a:stretch/>
        </p:blipFill>
        <p:spPr>
          <a:xfrm>
            <a:off x="0" y="0"/>
            <a:ext cx="5335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da.org/pub/ibis/macromodel_wip/" TargetMode="External"/><Relationship Id="rId2" Type="http://schemas.openxmlformats.org/officeDocument/2006/relationships/hyperlink" Target="http://www.eda.org/pub/ibis/macromodel_wip/" TargetMode="External"/><Relationship Id="rId3" Type="http://schemas.openxmlformats.org/officeDocument/2006/relationships/hyperlink" Target="mailto:ibis-macro-request@freelists.org" TargetMode="External"/><Relationship Id="rId4" Type="http://schemas.openxmlformats.org/officeDocument/2006/relationships/hyperlink" Target="mailto:ibis-macro-request@freelists.org" TargetMode="Externa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vhdl.org/pub/ibis/macromodel_wip/archive/20061024/arpadmuranyi/Channel analysis flow with IBIS/IBIS_API_flow.pdf" TargetMode="External"/><Relationship Id="rId4" Type="http://schemas.openxmlformats.org/officeDocument/2006/relationships/hyperlink" Target="http://www.vhdl.org/pub/ibis/macromodel_wip/archive/20061212/toddwesterhoff/Serial Link Terminology/serial_link_terminology.pdf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BIS Advanced Technology 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Modeling Group (IBIS-ATM)</a:t>
            </a:r>
            <a:r>
              <a:rPr b="1" lang="en-US" sz="3200" spc="-1" strike="noStrike" baseline="30000">
                <a:solidFill>
                  <a:srgbClr val="336699"/>
                </a:solidFill>
                <a:latin typeface="Arial"/>
              </a:rPr>
              <a:t>*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tatus Repor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002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Todd Westerhoff, SiSof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(Chief Troublemaker)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DesignCon IBIS Summit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Feb 1, 2007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8400" y="624852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336699"/>
                </a:solidFill>
                <a:latin typeface="Arial"/>
              </a:rPr>
              <a:t>*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Formerly IBIS-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urrent Statu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ill need better definition of target audienc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del developers?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nd-users?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Network characterization terminology still unclea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mpulse response vs. pulse response vs. transfer function vs. pole/zero representatio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adence’s proposal is still the only one on the tabl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ngoing discussions of detailed implicatio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Soft recommendations for enhancemen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Mechanism to publish model parameters for EDA tool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eed analysis methodology-independent mode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30DB-66C0-4C72-8459-54755820C7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For More Informa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3124080"/>
            <a:ext cx="7772400" cy="28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ATM / IBIS-Macro Websit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a.org/pub/ibis/macromodel_wip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Macro mail reflecto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ail to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bis-macro-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equest@freelists.or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BIS-Macro mail archiv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ww.freelists.org/archives/ibis-macro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752480" y="1219320"/>
            <a:ext cx="5791320" cy="15811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E510D-6BE2-45A1-B3B2-7F8B697EE9BB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Updated Group Charter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ak Distortion Analysi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HSpice investigation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adence’s Proposal / BI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ircuit vs. Signal Simulation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.DLL / Executables / Encypted Source,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MS / SystemC / Other Language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erminology Presentation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04C1-068F-47C6-B522-1E2FCF471DE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Updated Group Charter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hanged name to IBIS Advanced Technology Modeling Group (IBIS-ATM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urrent goal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fine a transmitter/receiver modeling standard for SERDES channel analysis that encompasses equalization and clock recovery.  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e solution must: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multiple EDA vendor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multiple IC vendors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Protect semiconductor vendor IP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combined transmitter/receiver desig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upport design optimization 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7F07-E1AF-418C-A811-B1FC3AB751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Peak Distortion Analysi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nalytical method for predicting maximum eye closure based on channel pulse response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mplemented in VHDL-AMS and demonstrated by Arpad Muranyi of Int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00320" cy="2936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95280" y="50292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ference pre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download.intel.com/education/highered/signal/ELCT865/Class2_15_16_Peak_Distortion_Analysis.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4E00-537A-43A8-94CE-5272603171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HSpice Investigation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quest from Cadence at Asian IBIS Summit to extend [External Model] Spice syntax to allow parameter pass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Berkeley Spice [currently supported] does not provide thi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sked Synopsys if they would make HSpice syntax publicly available [de facto standard]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ynopsys declined, not wanting to restrict future extensions to HSpice’s syntax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ssue currently considered close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adence invited to propose specific syntax for parameter passing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6B793-AC0A-4D70-B325-4841E13A36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adence Proposal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43040" y="1752480"/>
            <a:ext cx="4343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Ongoing discussions of Cadence’s proposal and algorithms therei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Related discussions on details of channel characterization and model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adence presented proposal as draft IBIS BIRD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3048120" cy="23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82520" y="3809880"/>
            <a:ext cx="3016440" cy="2295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A67A-D64B-4096-85CE-5630EA9E5A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Circuit vs. Signal Simulation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2520" y="144792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Circuit Modeling/Simulation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Interconnect models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Network character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ulse Respons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gnal Processing Analysi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ransmitter equal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Receiver equalization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Time-domain waveform generation (convolution)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75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Clock recovery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219320"/>
            <a:ext cx="3505320" cy="2133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it Simula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3657600"/>
            <a:ext cx="35053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Processing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2191-E546-4579-8C84-4E7850F089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.DLL / Executables / Encypted Source,</a:t>
            </a:r>
            <a:br>
              <a:rPr sz="3200"/>
            </a:b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MS / SystemC / Other Languag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tensively discussed model development and distribution: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Tradeoffs between different development languag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ystem language trend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Advantages / disadvantages of different distribution methods (.dll vs. executable vs. encrypted source)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of different IP-protection scheme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E6FF-6048-48B4-A64E-67D387450F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Terminology Presentations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8640" y="1143000"/>
            <a:ext cx="3154320" cy="240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90720" y="3657600"/>
            <a:ext cx="3171600" cy="238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048120" y="4800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67080" y="1447920"/>
            <a:ext cx="472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hdl.org/pub/ibis/macromodel_wip/archive/20061024/arpadmuranyi/Channel%20analysis%20flow%20with%20IBIS/IBIS_API_flow.pd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Soft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524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vhdl.org/pub/ibis/macromodel_wip/archive/20061212/toddwesterhoff/Serial%20Link%20Terminology/serial_link_terminology.pdf</a:t>
            </a:r>
            <a:endParaRPr b="0" lang="en-US" sz="1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0314-5133-4ECA-A0C5-AF948D7823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04:20:00Z</dcterms:created>
  <dc:creator>Adam Kustin</dc:creator>
  <dc:description/>
  <dc:language>en-US</dc:language>
  <cp:lastModifiedBy>Todd Westerhoff</cp:lastModifiedBy>
  <dcterms:modified xsi:type="dcterms:W3CDTF">2007-01-23T16:44:17Z</dcterms:modified>
  <cp:revision>110</cp:revision>
  <dc:subject/>
  <dc:title>Slide 1</dc:title>
</cp:coreProperties>
</file>