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901F-9722-4B3C-ACB7-156061933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3BD9-1F79-46E4-8A75-495B790E6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94A0-0ED2-46F2-A09B-EAF36269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48CC-0B02-4B34-85A4-FADBA26FC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AAFE-9B89-44A7-8703-659A33809E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ABC3-C89E-47C1-86FE-29F1029F7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2930-1232-405A-87D5-2EC3E68B09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9D96-B6D3-4873-928E-D39DEB7D49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2B20-E8E6-4AC0-B319-15E9527650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5BD8-D575-4B42-9D76-1A29742D6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0FCD-0EE8-42AD-9AE8-CD72ABC46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7B44-614B-4772-B3FB-6B45D2D31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E7FD-897A-4D1F-8C4C-36AB51E94C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F314-E73B-4560-A882-DB591E619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DCA5-B52E-4B70-845F-23213F7F02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AC39-C1E6-4D86-A0CE-506109984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560" y="3988440"/>
            <a:ext cx="264852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76A9-DAC0-4E06-94EA-E1FF76803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8B7E-B475-4F8C-80FC-B4E527B93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CE36-0A8F-4B85-AB12-68A31F03D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64BB-2A55-49CD-B538-5ED4CA257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455400"/>
            <a:ext cx="8226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6FD2-DC2C-40E9-B028-4EEA94C76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A474-63A6-4ACF-9EF8-CC4032DF8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8844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CBA9-391B-4D8F-85AE-04E01235A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88440"/>
            <a:ext cx="8226360" cy="21805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08E2-7216-4F78-8B35-B5DB8E954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9C35-0968-40F7-85F8-BA3A7F1FF4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Copyright © 2004, Cadence Design Systems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912960"/>
            <a:ext cx="9144000" cy="4116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354480"/>
            <a:ext cx="8226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8200" y="6315120"/>
            <a:ext cx="3467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ADENCE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7200" y="651960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d4d4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Copyright © 2004, Cadence Design Systems In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gher-level Models to Support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2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-tap pre-emphas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ate modula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lf-calibrating outpu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ss-thru receiv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ecision Feedback Equalization (DFE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7650-AB71-4D02-96CE-99E2E84149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22636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Lower-level Primitives / Features</a:t>
            </a:r>
            <a:br>
              <a:rPr sz="3000"/>
            </a:b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(rough priority order)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22636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Parameter passing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quation-based sources (voltage, current, numer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B element with c_comp on/off and table scaling (static/dynamic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’t do c_comp or dynami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Expressions in parameter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able-based PWL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Time-controlled source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 do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If, then, else in equations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???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Simulation “time” as variable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Use of previously computed value (prev(x)) in equation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938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Calculation of 1</a:t>
            </a:r>
            <a:r>
              <a:rPr b="0" lang="en-US" sz="15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0" lang="en-US" sz="1500" spc="-1" strike="noStrike">
                <a:solidFill>
                  <a:srgbClr val="4d4d4d"/>
                </a:solidFill>
                <a:latin typeface="Arial"/>
              </a:rPr>
              <a:t> derivative of voltage or current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Hspice can n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8A34-B8BA-4BD5-8445-7C3E7B0B960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0:26:25Z</dcterms:created>
  <dc:creator>Donald Telian</dc:creator>
  <dc:description/>
  <dc:language>en-US</dc:language>
  <cp:lastModifiedBy>Cadence Design Systems, Inc</cp:lastModifiedBy>
  <cp:lastPrinted>2000-01-15T02:50:40Z</cp:lastPrinted>
  <dcterms:modified xsi:type="dcterms:W3CDTF">2005-05-10T21:03:48Z</dcterms:modified>
  <cp:revision>185</cp:revision>
  <dc:subject/>
  <dc:title>MGH Serial Interfa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