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E994-E78F-4554-AA63-3C43504B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539F-812B-4677-AD66-80F5768A1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D96F-ADBA-40ED-A086-EAC8D787E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026F-863E-4BF7-8541-4B8F98A37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7DA9-2066-4B8A-88C1-BCB4093D9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66C7-8271-476D-A87B-6591AED34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EFE8-1019-43EA-A41A-8A330654A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7B41-66F8-4EC8-A4E0-4F19D2C3F8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2074-FE49-416B-A0B3-7860CA57D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04A6-230D-42BC-8983-AB8ED78F15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5C67-392A-46D2-9AB9-BB942B18E3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D8E7-946B-40EC-A3CB-72A61D3A5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A9FB-3641-4F2C-AF80-6956B7B09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631F-8807-4244-B5D8-65CCFE6E90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4522-1EEA-43C0-81F9-D41556C992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279A-21F9-4F53-96B6-135917D12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1782-C79A-4A87-9636-27412D80C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830B-C3B2-4670-AE99-DA29ED4E9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F24-9284-4ED5-A155-8AE712CA1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328E-FDB5-4FBF-A5CC-F671FC738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7F29-C5FB-48E8-BB2D-5843EEE24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2298-D831-485B-90DD-C14B714C8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04C0-D211-47F7-BE85-E24FB0D96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7742-D919-41AA-B743-E5094B8C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9245-54CB-4705-B825-D2B963CB0D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Copyright © 2004, Cadence Design Systems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912960"/>
            <a:ext cx="9144000" cy="4116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354480"/>
            <a:ext cx="8226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DENCE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Copyright © 2004, Cadence Design Systems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gher-level Models to Support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2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ate modul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lf-calibrating out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ss-thru receiv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cision Feedback Equalization (DFE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8E07-A4C3-40B9-9154-0936BB1180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Lower-level Primitives / Features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Parameter passing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quation-based sources (voltage, current, numer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B element with c_comp on/off and table scaling (static/dynam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’t do c_comp or dynam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xpressions in parameter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able-based PWL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ime-controlled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 d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If, then, else in equation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??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Simulation “time” as variable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Use of previously computed value (prev(x)) in equation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Calculation of 1</a:t>
            </a:r>
            <a:r>
              <a:rPr b="0" lang="en-US" sz="15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 derivative of voltage or current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5180-5358-426B-AF4F-FB808314C3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0:26:25Z</dcterms:created>
  <dc:creator>Donald Telian</dc:creator>
  <dc:description/>
  <dc:language>en-US</dc:language>
  <cp:lastModifiedBy>Cadence Design Systems, Inc</cp:lastModifiedBy>
  <cp:lastPrinted>2000-01-15T02:50:40Z</cp:lastPrinted>
  <dcterms:modified xsi:type="dcterms:W3CDTF">2005-05-10T21:03:48Z</dcterms:modified>
  <cp:revision>185</cp:revision>
  <dc:subject/>
  <dc:title>MGH Serial Interf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