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External load bird  |  Ericsson Internal  |  2010-12-07  |  Page </a:t>
            </a:r>
            <a:fld id="{EF14A258-8167-4F2C-928D-E7EED3A6BD6F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720" y="2096280"/>
            <a:ext cx="8352000" cy="14626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5" name="Logo_TM" descr=""/>
          <p:cNvPicPr/>
          <p:nvPr/>
        </p:nvPicPr>
        <p:blipFill>
          <a:blip r:embed="rId2"/>
          <a:stretch/>
        </p:blipFill>
        <p:spPr>
          <a:xfrm>
            <a:off x="4162320" y="-17640"/>
            <a:ext cx="803520" cy="99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3480" y="2478240"/>
            <a:ext cx="8351640" cy="7315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External Load/Data Bird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What are the goal with the External load/data structure.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ase 3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nput testing using output or I/O buffer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nput buffer internal to IBIS file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Output or I/O buffer internal to IBIS file ?, external to IBIS file 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ase 4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nput testing using IBIS ISS “source”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nput buffer internal to IBIS file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BIS ISS “source” external to IBIS file 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Logo_ChapterSlide_Normal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Test Cas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746640" y="180900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5968080" y="185328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57360" y="1494000"/>
            <a:ext cx="2610000" cy="126036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2360" y="1628640"/>
            <a:ext cx="23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BIS ISS Subcircui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ort 1 - Port 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38360" y="2144880"/>
            <a:ext cx="811080" cy="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64120" y="2160720"/>
            <a:ext cx="1128600" cy="792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8880" bIns="-3888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7000" y="1224000"/>
            <a:ext cx="11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utput I/O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02360" y="126828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57360" y="2843280"/>
            <a:ext cx="265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ase 1, TEST OF OUTPUT or I/O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835560" y="433008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46280" y="4014720"/>
            <a:ext cx="2610000" cy="126072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81280" y="4149720"/>
            <a:ext cx="23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BIS ISS Subcircui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ort 1 - Port 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27280" y="4665600"/>
            <a:ext cx="811080" cy="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15920" y="3745080"/>
            <a:ext cx="11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utput I/O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46280" y="5364000"/>
            <a:ext cx="265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ase 2, TEST OF OUTPUT or I/O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Test Cas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46640" y="180900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968080" y="185328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57360" y="1494000"/>
            <a:ext cx="2610000" cy="126036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92360" y="1628640"/>
            <a:ext cx="23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BIS ISS Subcircui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ort 1 - Port 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38360" y="2144880"/>
            <a:ext cx="811080" cy="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4120" y="2160720"/>
            <a:ext cx="1128600" cy="792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8880" bIns="-3888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27000" y="1224000"/>
            <a:ext cx="11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utput I/O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02360" y="126828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57360" y="284328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ase 3, Test of Inpu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6012720" y="473472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2000" y="4375080"/>
            <a:ext cx="2609640" cy="126072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37000" y="4510080"/>
            <a:ext cx="233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BIS ISS Subcircui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ort 1 - Port 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8400" y="5041800"/>
            <a:ext cx="1128960" cy="792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8880" bIns="-3888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46640" y="41497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2000" y="572436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ase 4, Test of Inpu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Testcas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918000" y="180108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5968080" y="185328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57360" y="1494000"/>
            <a:ext cx="2610000" cy="126036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92360" y="1628640"/>
            <a:ext cx="23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BIS ISS Subcircui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ort 1 - Port 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46280" y="1989000"/>
            <a:ext cx="811080" cy="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64120" y="2046240"/>
            <a:ext cx="1128600" cy="792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8880" bIns="-3888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06640" y="1224000"/>
            <a:ext cx="11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utput I/O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02360" y="126828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57360" y="2843280"/>
            <a:ext cx="265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ase 5, TEST OF  DIFF OUTPUT or I/O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46280" y="4014720"/>
            <a:ext cx="2610000" cy="126072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81280" y="4149720"/>
            <a:ext cx="23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BIS ISS Subcircui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ort 1 - Port 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46280" y="5364000"/>
            <a:ext cx="265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ase 6, TEST OF DIFF OUTPUT or I/O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54200" y="2298600"/>
            <a:ext cx="811080" cy="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87880" y="2332080"/>
            <a:ext cx="1128600" cy="792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8880" bIns="-3888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1006920" y="427428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35200" y="4462560"/>
            <a:ext cx="811080" cy="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43120" y="4772160"/>
            <a:ext cx="811080" cy="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Testcas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57360" y="1494000"/>
            <a:ext cx="2610000" cy="126036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92360" y="1628640"/>
            <a:ext cx="23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BIS ISS Subcircui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ort 1 - Port 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02360" y="126828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57360" y="2843280"/>
            <a:ext cx="265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ase 7, Test of diff Inpu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2000" y="4375080"/>
            <a:ext cx="2609640" cy="126072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37000" y="4510080"/>
            <a:ext cx="233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BIS ISS Subcircui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ort 1 - Port 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46640" y="41497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2000" y="5724360"/>
            <a:ext cx="265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ase 8, Test of diff Inpu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918000" y="180108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46280" y="1989000"/>
            <a:ext cx="811080" cy="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54200" y="2298600"/>
            <a:ext cx="811080" cy="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06640" y="1224000"/>
            <a:ext cx="11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utput I/O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5968080" y="185328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64120" y="2046240"/>
            <a:ext cx="1128600" cy="792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8880" bIns="-3888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7880" y="2332080"/>
            <a:ext cx="1128600" cy="792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8880" bIns="-3888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6017400" y="472680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13440" y="4919760"/>
            <a:ext cx="1128600" cy="792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8880" bIns="-3888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13440" y="5205240"/>
            <a:ext cx="1128600" cy="828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8520" bIns="-3852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All Cas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Waveform data can be defined for nodes made external in the IBIS ISS subcircuit declaration.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ested buffer assumed part of same IBIS file, referred to by [Model] name.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How are we testing series models?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Stimuli definition needed, Format ? Internal in IBIS or external file ?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Format: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ime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edge ? </a:t>
            </a:r>
            <a:r>
              <a:rPr b="0" lang="en-US" sz="1800" spc="-1" strike="noStrike">
                <a:solidFill>
                  <a:srgbClr val="e32119"/>
                </a:solidFill>
                <a:latin typeface="Arial"/>
              </a:rPr>
              <a:t>(states 1, 0, HiZ ?)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ime  state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1       Z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2      1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3      0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4      1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All Cas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---------------------------------------------------------------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est data waveforms are external to ibis file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est data waveforms format need to be defined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IME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odename1 nodename2 nodename3 …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imepoint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V(nodename1) V(nodename2) V(nodename3) …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o definition of the number of points, implicity declared by the number of lines i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e file, is that okay ?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umber of nodenames allowed in one IBIS ISS load ?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ase 1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Output, I/O testing using input buffer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Output or i/O buffer internal to IBIS file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nput buffer internal to IBIS file ?, external to IBIS file 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ase 2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Output, I/O testing using IBIS ISS load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External IBIS ISS load used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/>
  <dc:description>Rev PA1</dc:description>
  <cp:keywords>IBIS BIRD</cp:keywords>
  <dc:language>en-US</dc:language>
  <cp:lastModifiedBy>Anders Ekholm</cp:lastModifiedBy>
  <dcterms:modified xsi:type="dcterms:W3CDTF">2010-12-14T16:34:53Z</dcterms:modified>
  <cp:revision>152</cp:revision>
  <dc:subject/>
  <dc:title>External load bi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0-12-07</vt:lpwstr>
  </property>
  <property fmtid="{D5CDD505-2E9C-101B-9397-08002B2CF9AE}" pid="5" name="DocName">
    <vt:lpwstr>EXTENAL LOAD BIRD</vt:lpwstr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>IBIS BIRD</vt:lpwstr>
  </property>
  <property fmtid="{D5CDD505-2E9C-101B-9397-08002B2CF9AE}" pid="12" name="LeftFooterField">
    <vt:lpwstr/>
  </property>
  <property fmtid="{D5CDD505-2E9C-101B-9397-08002B2CF9AE}" pid="13" name="MiddleFooterField">
    <vt:lpwstr>Ericsson Internal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/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>External load bird</vt:lpwstr>
  </property>
  <property fmtid="{D5CDD505-2E9C-101B-9397-08002B2CF9AE}" pid="21" name="RightFooterField2">
    <vt:lpwstr>2010-12-07</vt:lpwstr>
  </property>
  <property fmtid="{D5CDD505-2E9C-101B-9397-08002B2CF9AE}" pid="22" name="SecurityClass">
    <vt:lpwstr>Ericsson Internal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>External load bird</vt:lpwstr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0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1</vt:bool>
  </property>
  <property fmtid="{D5CDD505-2E9C-101B-9397-08002B2CF9AE}" pid="38" name="optFooterCVLCopyright">
    <vt:bool>0</vt:bool>
  </property>
  <property fmtid="{D5CDD505-2E9C-101B-9397-08002B2CF9AE}" pid="39" name="optFooterCVLDate">
    <vt:bool>1</vt:bool>
  </property>
  <property fmtid="{D5CDD505-2E9C-101B-9397-08002B2CF9AE}" pid="40" name="optFooterCVLDocNo">
    <vt:bool>1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Ericsson Internal</vt:lpwstr>
  </property>
  <property fmtid="{D5CDD505-2E9C-101B-9397-08002B2CF9AE}" pid="46" name="x">
    <vt:lpwstr>1</vt:lpwstr>
  </property>
</Properties>
</file>