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106C9FE-EF4B-4B47-8C33-9B9E33C6C31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D9D9E39-0E77-48E9-AC01-7C1F3518EEA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0772D36-0DB8-4F64-A768-B99171CA86A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0867DA7-1FED-4F7F-83C2-29BD0C0018B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Bob Ross</cp:lastModifiedBy>
  <dcterms:modified xsi:type="dcterms:W3CDTF">2005-04-05T22:34:42Z</dcterms:modified>
  <cp:revision>21</cp:revision>
  <dc:subject/>
  <dc:title>Using the IBIS Quality Checklist</dc:title>
</cp:coreProperties>
</file>