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9322C2C-713B-490F-9BB8-EE5B6A51841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EC2C0BB-6887-457C-8167-F36CB693DAE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44E8B3D-0ADA-487B-980A-EE6A56BE851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F73FBBE-C434-4C45-8DF2-23D3E454D18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Mike LaBonte</cp:lastModifiedBy>
  <dcterms:modified xsi:type="dcterms:W3CDTF">2004-09-23T19:48:40Z</dcterms:modified>
  <cp:revision>21</cp:revision>
  <dc:subject/>
  <dc:title>Using the IBIS Quality Checklist</dc:title>
</cp:coreProperties>
</file>