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60BF2E5-D07B-4960-A8C2-952522EEEC0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635CE6D-50E9-4D9F-935C-CEF62336119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CB37011-656A-4EB5-A040-B3EF4AD6C36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8DF5EDA-699C-4F96-94FF-171295129A5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Mike LaBonte</cp:lastModifiedBy>
  <dcterms:modified xsi:type="dcterms:W3CDTF">2004-09-23T19:48:40Z</dcterms:modified>
  <cp:revision>21</cp:revision>
  <dc:subject/>
  <dc:title>Using the IBIS Quality Checklist</dc:title>
</cp:coreProperties>
</file>