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C73A6-ECE4-4D33-94D5-D3BDCCC4A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6D4BB-5B5A-4CF5-8198-B0F5377E8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5B534-38D7-4A22-ABC7-17C23F082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6713F-F51A-424A-900B-D4A974068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80481-11F6-4269-A19A-9110B4165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DE62E-E38E-412F-9000-BC1165CF2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B9103-7474-43F6-97C8-8D642D36C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6595C-911C-408B-B8DA-86F9AC4A4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2443E-A3DE-45D6-B90B-F69265656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E09AC-7923-4C83-B3B3-78D1FC3BB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72902-35A8-46D9-BEFD-95147DE2F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99B1C-F3F7-4C66-8549-A2C51A441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22EAA-AA36-489C-80CF-261106195B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982640" y="2422440"/>
            <a:ext cx="36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979400" y="4114800"/>
            <a:ext cx="36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7971120" y="1692360"/>
            <a:ext cx="494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982640" y="2239920"/>
            <a:ext cx="36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982640" y="2057400"/>
            <a:ext cx="36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982640" y="1874880"/>
            <a:ext cx="36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979400" y="4297320"/>
            <a:ext cx="36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971120" y="4846680"/>
            <a:ext cx="494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979400" y="4664160"/>
            <a:ext cx="36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979400" y="4481640"/>
            <a:ext cx="36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239480" y="320760"/>
            <a:ext cx="6746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ical Flip Chip Plastic Ball Grid Array Pack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FC-PBG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79800" y="4983120"/>
            <a:ext cx="119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GA P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932280" y="1417680"/>
            <a:ext cx="457200" cy="45720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828800" y="2697120"/>
            <a:ext cx="5486400" cy="14637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828800" y="1874880"/>
            <a:ext cx="5486400" cy="822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828800" y="4160880"/>
            <a:ext cx="5486400" cy="822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828800" y="2514600"/>
            <a:ext cx="1828800" cy="182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828800" y="4160880"/>
            <a:ext cx="1828800" cy="182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486400" y="2514600"/>
            <a:ext cx="1828800" cy="182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6400" y="4160880"/>
            <a:ext cx="1828800" cy="182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978360" y="2514600"/>
            <a:ext cx="1187280" cy="182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78360" y="4160880"/>
            <a:ext cx="1187280" cy="182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06960" y="2697120"/>
            <a:ext cx="730080" cy="14637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1828800" y="2193480"/>
            <a:ext cx="5486400" cy="460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1828800" y="4617720"/>
            <a:ext cx="5486400" cy="460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1828800" y="1874880"/>
            <a:ext cx="2057400" cy="460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978360" y="1874880"/>
            <a:ext cx="365040" cy="3189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4435560" y="1874520"/>
            <a:ext cx="2879640" cy="460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2743200" y="2057400"/>
            <a:ext cx="92160" cy="460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108240" y="4937040"/>
            <a:ext cx="2927520" cy="460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828800" y="4937040"/>
            <a:ext cx="914400" cy="460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400800" y="4937040"/>
            <a:ext cx="914400" cy="460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2743200" y="2376360"/>
            <a:ext cx="92160" cy="460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971800" y="2376360"/>
            <a:ext cx="92160" cy="460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00600" y="2239920"/>
            <a:ext cx="365040" cy="2746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78360" y="4343400"/>
            <a:ext cx="365040" cy="272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800600" y="4664160"/>
            <a:ext cx="365040" cy="272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914400" y="2697120"/>
            <a:ext cx="7315200" cy="639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914400" y="2604960"/>
            <a:ext cx="7315200" cy="92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481640" y="2971800"/>
            <a:ext cx="182520" cy="90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914400" y="3336840"/>
            <a:ext cx="7315200" cy="92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008080" y="320760"/>
            <a:ext cx="517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gle-Ended &amp; Differential Strip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914400" y="4525920"/>
            <a:ext cx="7315200" cy="639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914400" y="4433760"/>
            <a:ext cx="7315200" cy="92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06960" y="4800600"/>
            <a:ext cx="182520" cy="90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914400" y="5165640"/>
            <a:ext cx="7315200" cy="92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754520" y="4800600"/>
            <a:ext cx="182520" cy="90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7T21:25:29Z</dcterms:created>
  <dc:creator>Greg Edlund</dc:creator>
  <dc:description/>
  <dc:language>en-US</dc:language>
  <cp:lastModifiedBy>Greg Edlund</cp:lastModifiedBy>
  <dcterms:modified xsi:type="dcterms:W3CDTF">2012-09-04T16:05:34Z</dcterms:modified>
  <cp:revision>195</cp:revision>
  <dc:subject/>
  <dc:title>Slide 1</dc:title>
</cp:coreProperties>
</file>