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499-08D1-4CBD-A961-27B6C058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73A-379D-4136-8B91-DD2F4A6B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3AB-93F1-4723-B0D2-680BBB57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2A1-4B4F-4190-9E17-B3B9ADDC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A1B-814D-4129-A884-84BF1C28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55D-A758-4D1C-99F8-0909850A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7E4-81A2-4212-A192-71322185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7E7-B099-49F3-ADE0-A0A4A36D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326-47B3-4D9E-A56C-F424510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14B-4CD5-4FA1-8EC9-7D41F4C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4EB-9779-4284-A107-26799EDB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6D7-26EC-4EB1-88F4-B80BB995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1109-3974-4E98-A739-559BFFE2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2640" y="24224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79400" y="4114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71120" y="1692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2640" y="2239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82640" y="20574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82640" y="187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79400" y="42973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71120" y="48466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79400" y="4664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79400" y="44816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39480" y="32076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Flip Chip Plastic Ball Grid Arra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C-PB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9800" y="4983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A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32280" y="1417680"/>
            <a:ext cx="4572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2697120"/>
            <a:ext cx="5486400" cy="146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1874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60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78360" y="251460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78360" y="416088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06960" y="2697120"/>
            <a:ext cx="730080" cy="1463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19348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828800" y="461772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28800" y="1874880"/>
            <a:ext cx="2057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78360" y="1874880"/>
            <a:ext cx="365040" cy="318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35560" y="1874520"/>
            <a:ext cx="287964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43200" y="205740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08240" y="4937040"/>
            <a:ext cx="292752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432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239920"/>
            <a:ext cx="365040" cy="274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434340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466416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26971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6049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81640" y="29718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3368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08080" y="3207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&amp; Differential Str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5259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4337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0696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656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5452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1:25:29Z</dcterms:created>
  <dc:creator>Greg Edlund</dc:creator>
  <dc:description/>
  <dc:language>en-US</dc:language>
  <cp:lastModifiedBy>Greg Edlund</cp:lastModifiedBy>
  <dcterms:modified xsi:type="dcterms:W3CDTF">2012-09-04T16:05:34Z</dcterms:modified>
  <cp:revision>195</cp:revision>
  <dc:subject/>
  <dc:title>Slide 1</dc:title>
</cp:coreProperties>
</file>