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5840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20132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729600"/>
            <a:ext cx="26521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15840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72960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01320"/>
            <a:ext cx="401976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729600"/>
            <a:ext cx="8237520" cy="23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65400" indent="-2365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660680" indent="-235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C79-011A-41D9-BD0E-582E13793F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EFF-D47B-4186-90B5-DA256B20C5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690640" y="655272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*Other names and brands may be claimed as the property of othe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2920" y="431640"/>
            <a:ext cx="1965600" cy="1270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896-0B34-46C3-B26B-D0E8FDF363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7372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7CA-6C9C-4B75-BA91-2300A2D5C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247680" indent="4428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73120" indent="455760" algn="ctr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727200" indent="698400" algn="ctr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727200" indent="6984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727200" indent="6984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60a8"/>
                </a:solidFill>
                <a:latin typeface="Verdana"/>
              </a:rPr>
              <a:t>The Presentation That Arpad Forgot 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71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30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520" y="11412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Results of Crude C_comp Accounting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18960" y="628560"/>
            <a:ext cx="8197920" cy="5515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397400" y="2687760"/>
            <a:ext cx="1847880" cy="1120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430960" y="3629160"/>
            <a:ext cx="888840" cy="20304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824120" y="746280"/>
            <a:ext cx="600696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ansistor vs. Combination IBIS into R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030560" y="3875040"/>
            <a:ext cx="2610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_comp =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8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3680" y="1191960"/>
            <a:ext cx="40417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Proposed Fix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7240" y="742680"/>
            <a:ext cx="72644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Verdana"/>
              </a:rPr>
              <a:t>Method 2: Adjust all V-t curves for th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lang="en-US" sz="2000" spc="-1" strike="noStrike">
                <a:solidFill>
                  <a:srgbClr val="00cc66"/>
                </a:solidFill>
                <a:latin typeface="Verdana"/>
              </a:rPr>
              <a:t> C_comp value before using the models for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Each V-t curve reflects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C_comp lo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Adjust each curve (Main, Boost) for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 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Set IBIS C_comp for Main, Boost to 0 p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Add external cap equal to original 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total</a:t>
            </a:r>
            <a:r>
              <a:rPr b="0" i="1" lang="en-US" sz="1800" spc="-1" strike="noStrike">
                <a:solidFill>
                  <a:srgbClr val="0000ff"/>
                </a:solidFill>
                <a:latin typeface="Verdana"/>
              </a:rPr>
              <a:t> 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7360" y="3267000"/>
            <a:ext cx="3327480" cy="1766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28640" y="4773600"/>
            <a:ext cx="8015400" cy="674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88200" y="5510160"/>
            <a:ext cx="36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images and equations from A. Murany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378160" y="3343320"/>
            <a:ext cx="558720" cy="34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3078360" y="3166920"/>
            <a:ext cx="116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wfm_pu (V-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3857040" y="3598920"/>
            <a:ext cx="66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fx_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x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254400" y="3851280"/>
            <a:ext cx="495360" cy="139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5557680" y="3182760"/>
            <a:ext cx="242388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through fix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s function of curr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pullup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die 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434960" y="40672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434960" y="41338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521000" y="3895560"/>
            <a:ext cx="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521000" y="4143240"/>
            <a:ext cx="468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1427040" y="4329000"/>
            <a:ext cx="20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460520" y="4365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494000" y="4402080"/>
            <a:ext cx="6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1514520" y="388944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nother New Approac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837720"/>
            <a:ext cx="789948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irst C_comp adjustment attempt made two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Differential buffers can be “split” in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Each can be modeled adequately with a single C_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dditional data calls at least one assumption into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Single C_comp does not permit frequency 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 differential component appears at some frequ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posal: Stay in AC Domain for C_comp 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ttempt to match AC behavior of simula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Once model correlates in frequency of interest, add data into IBI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00996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66"/>
                </a:solidFill>
                <a:latin typeface="Verdana"/>
              </a:rPr>
              <a:t>This may stretch IBIS 3.2/4.0 beyond available key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ur Target Behavior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61920" y="82872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136520" y="866880"/>
            <a:ext cx="6737040" cy="5040000"/>
            <a:chOff x="1136520" y="866880"/>
            <a:chExt cx="6737040" cy="5040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1136520" y="866880"/>
              <a:ext cx="67370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flipV="1">
              <a:off x="5022360" y="5181840"/>
              <a:ext cx="2208240" cy="6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820520" y="5004000"/>
              <a:ext cx="1690920" cy="71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66680" y="537372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16280" y="53974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1560" y="5373720"/>
              <a:ext cx="18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6920" y="530244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97680" y="1779480"/>
              <a:ext cx="0" cy="30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13200" y="1343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H="1">
            <a:off x="4669920" y="113364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067080" y="3521160"/>
            <a:ext cx="135900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6149880" y="947880"/>
            <a:ext cx="1162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14-15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7248240" y="3119400"/>
            <a:ext cx="93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~ 5-7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766800" y="4935600"/>
            <a:ext cx="75240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187280" y="1195560"/>
            <a:ext cx="7378920" cy="4732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Recall L. Giacotto’s Slides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53720" y="743040"/>
            <a:ext cx="7899480" cy="52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2002: Luca Giacotto presented twice on buffer impedance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tarting with observations by A. Murany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0" y="1789200"/>
            <a:ext cx="3225960" cy="1900080"/>
            <a:chOff x="0" y="1789200"/>
            <a:chExt cx="3225960" cy="1900080"/>
          </a:xfrm>
        </p:grpSpPr>
        <p:sp>
          <p:nvSpPr>
            <p:cNvPr id="320" name=""/>
            <p:cNvSpPr/>
            <p:nvPr/>
          </p:nvSpPr>
          <p:spPr>
            <a:xfrm>
              <a:off x="1244520" y="2724120"/>
              <a:ext cx="1981440" cy="965160"/>
            </a:xfrm>
            <a:prstGeom prst="ellipse">
              <a:avLst/>
            </a:pr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0240" y="2444760"/>
              <a:ext cx="584280" cy="495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1789200"/>
              <a:ext cx="1574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caps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wo resistor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3480" y="0"/>
            <a:ext cx="75452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Original Giacotto-Muranyi C_comp Mode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357960" y="1673280"/>
            <a:ext cx="280800" cy="28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3313080" y="18144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1568520" y="18129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554120" y="181728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622760" y="18126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6202440" y="12589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41000" y="3387240"/>
            <a:ext cx="345960" cy="592560"/>
            <a:chOff x="1341000" y="3387240"/>
            <a:chExt cx="345960" cy="592560"/>
          </a:xfrm>
        </p:grpSpPr>
        <p:sp>
          <p:nvSpPr>
            <p:cNvPr id="331" name=""/>
            <p:cNvSpPr/>
            <p:nvPr/>
          </p:nvSpPr>
          <p:spPr>
            <a:xfrm flipV="1">
              <a:off x="1514160" y="338724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341000" y="3851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91760" y="3914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437840" y="3979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786280" y="2846520"/>
            <a:ext cx="468360" cy="93600"/>
            <a:chOff x="5786280" y="2846520"/>
            <a:chExt cx="468360" cy="93600"/>
          </a:xfrm>
        </p:grpSpPr>
        <p:sp>
          <p:nvSpPr>
            <p:cNvPr id="336" name=""/>
            <p:cNvSpPr/>
            <p:nvPr/>
          </p:nvSpPr>
          <p:spPr>
            <a:xfrm>
              <a:off x="5786280" y="2940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86280" y="2846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28680" y="101916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183204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838480" y="3376080"/>
            <a:ext cx="345960" cy="592560"/>
            <a:chOff x="5838480" y="3376080"/>
            <a:chExt cx="345960" cy="592560"/>
          </a:xfrm>
        </p:grpSpPr>
        <p:sp>
          <p:nvSpPr>
            <p:cNvPr id="341" name=""/>
            <p:cNvSpPr/>
            <p:nvPr/>
          </p:nvSpPr>
          <p:spPr>
            <a:xfrm flipV="1">
              <a:off x="6011640" y="33760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838480" y="38401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889240" y="39034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935320" y="39686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014880" y="29638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6379560" y="2630520"/>
            <a:ext cx="14821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p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54560" y="3963960"/>
            <a:ext cx="468360" cy="93600"/>
            <a:chOff x="4354560" y="3963960"/>
            <a:chExt cx="468360" cy="93600"/>
          </a:xfrm>
        </p:grpSpPr>
        <p:sp>
          <p:nvSpPr>
            <p:cNvPr id="348" name=""/>
            <p:cNvSpPr/>
            <p:nvPr/>
          </p:nvSpPr>
          <p:spPr>
            <a:xfrm>
              <a:off x="4354560" y="40575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4560" y="3963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393800" y="4506480"/>
            <a:ext cx="345960" cy="592560"/>
            <a:chOff x="4393800" y="4506480"/>
            <a:chExt cx="345960" cy="592560"/>
          </a:xfrm>
        </p:grpSpPr>
        <p:sp>
          <p:nvSpPr>
            <p:cNvPr id="351" name=""/>
            <p:cNvSpPr/>
            <p:nvPr/>
          </p:nvSpPr>
          <p:spPr>
            <a:xfrm flipV="1">
              <a:off x="4566960" y="45064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393800" y="4970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44560" y="50338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0640" y="50990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70560" y="40813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880360" y="3865680"/>
            <a:ext cx="14317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259160" y="2268360"/>
            <a:ext cx="352080" cy="1090440"/>
            <a:chOff x="4259160" y="2268360"/>
            <a:chExt cx="352080" cy="1090440"/>
          </a:xfrm>
        </p:grpSpPr>
        <p:sp>
          <p:nvSpPr>
            <p:cNvPr id="358" name=""/>
            <p:cNvSpPr/>
            <p:nvPr/>
          </p:nvSpPr>
          <p:spPr>
            <a:xfrm flipH="1">
              <a:off x="4289040" y="22683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4287600" y="24458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286160" y="26272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284360" y="28051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260600" y="30002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4259160" y="31777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192320" y="2292480"/>
            <a:ext cx="352080" cy="1090080"/>
            <a:chOff x="1192320" y="2292480"/>
            <a:chExt cx="352080" cy="1090080"/>
          </a:xfrm>
        </p:grpSpPr>
        <p:sp>
          <p:nvSpPr>
            <p:cNvPr id="365" name=""/>
            <p:cNvSpPr/>
            <p:nvPr/>
          </p:nvSpPr>
          <p:spPr>
            <a:xfrm flipH="1">
              <a:off x="1222200" y="22924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1220760" y="24699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219320" y="26510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1217520" y="282852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193760" y="30240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192320" y="320184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570560" y="33606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1546560" y="25509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3308760" y="2625840"/>
            <a:ext cx="62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1674720" y="3184560"/>
            <a:ext cx="438120" cy="17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1619640" y="4959360"/>
            <a:ext cx="14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898560" y="843120"/>
            <a:ext cx="28126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e side of our different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uffer (built-in pulldow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source is AC high-Z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5505480" y="4132440"/>
            <a:ext cx="26967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look mo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ke ~ 14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5637240" y="5059440"/>
            <a:ext cx="242856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R1 depends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equency of drop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pacitance to ~ 7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0760" y="177480"/>
            <a:ext cx="823788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Model vs. AC Analysis of Buffer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1560" y="574560"/>
            <a:ext cx="8086680" cy="5619600"/>
            <a:chOff x="601560" y="574560"/>
            <a:chExt cx="8086680" cy="561960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601560" y="574560"/>
              <a:ext cx="8086680" cy="56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443560" y="4451760"/>
              <a:ext cx="1160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5958000" y="4530600"/>
            <a:ext cx="1358640" cy="5079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844560" y="78912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3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G-M Mod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5972040" y="1441440"/>
            <a:ext cx="281160" cy="2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2927520" y="1582560"/>
            <a:ext cx="30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182600" y="1581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168560" y="158544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602080" y="1568520"/>
            <a:ext cx="0" cy="41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5783400" y="9637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955440" y="3156120"/>
            <a:ext cx="345960" cy="591840"/>
            <a:chOff x="955440" y="3156120"/>
            <a:chExt cx="345960" cy="591840"/>
          </a:xfrm>
        </p:grpSpPr>
        <p:sp>
          <p:nvSpPr>
            <p:cNvPr id="394" name=""/>
            <p:cNvSpPr/>
            <p:nvPr/>
          </p:nvSpPr>
          <p:spPr>
            <a:xfrm flipV="1">
              <a:off x="1128600" y="315612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955440" y="3619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006200" y="3682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052280" y="3747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400720" y="2614680"/>
            <a:ext cx="468360" cy="93600"/>
            <a:chOff x="5400720" y="2614680"/>
            <a:chExt cx="468360" cy="93600"/>
          </a:xfrm>
        </p:grpSpPr>
        <p:sp>
          <p:nvSpPr>
            <p:cNvPr id="399" name=""/>
            <p:cNvSpPr/>
            <p:nvPr/>
          </p:nvSpPr>
          <p:spPr>
            <a:xfrm>
              <a:off x="5400720" y="2708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00720" y="2614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6040" y="95256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5630760" y="160020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52560" y="3144960"/>
            <a:ext cx="345960" cy="591840"/>
            <a:chOff x="5452560" y="3144960"/>
            <a:chExt cx="345960" cy="591840"/>
          </a:xfrm>
        </p:grpSpPr>
        <p:sp>
          <p:nvSpPr>
            <p:cNvPr id="404" name=""/>
            <p:cNvSpPr/>
            <p:nvPr/>
          </p:nvSpPr>
          <p:spPr>
            <a:xfrm flipV="1">
              <a:off x="5625720" y="314496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452560" y="3608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503320" y="3671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549400" y="3736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629320" y="27320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5993640" y="239868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333520" y="3668760"/>
            <a:ext cx="468360" cy="93600"/>
            <a:chOff x="2333520" y="3668760"/>
            <a:chExt cx="468360" cy="93600"/>
          </a:xfrm>
        </p:grpSpPr>
        <p:sp>
          <p:nvSpPr>
            <p:cNvPr id="411" name=""/>
            <p:cNvSpPr/>
            <p:nvPr/>
          </p:nvSpPr>
          <p:spPr>
            <a:xfrm>
              <a:off x="2333520" y="37623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33520" y="36687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373120" y="4198680"/>
            <a:ext cx="345960" cy="592560"/>
            <a:chOff x="2373120" y="4198680"/>
            <a:chExt cx="345960" cy="592560"/>
          </a:xfrm>
        </p:grpSpPr>
        <p:sp>
          <p:nvSpPr>
            <p:cNvPr id="414" name=""/>
            <p:cNvSpPr/>
            <p:nvPr/>
          </p:nvSpPr>
          <p:spPr>
            <a:xfrm flipV="1">
              <a:off x="2546280" y="41986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373120" y="4662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423880" y="4726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469960" y="4791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549520" y="37861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2713680" y="360828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38480" y="1973160"/>
            <a:ext cx="352080" cy="1090440"/>
            <a:chOff x="2238480" y="1973160"/>
            <a:chExt cx="352080" cy="1090440"/>
          </a:xfrm>
        </p:grpSpPr>
        <p:sp>
          <p:nvSpPr>
            <p:cNvPr id="421" name=""/>
            <p:cNvSpPr/>
            <p:nvPr/>
          </p:nvSpPr>
          <p:spPr>
            <a:xfrm flipH="1">
              <a:off x="2268360" y="19731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2266920" y="21506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265480" y="23320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263680" y="25099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239920" y="27050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2238480" y="28825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06400" y="2060640"/>
            <a:ext cx="352080" cy="1090080"/>
            <a:chOff x="806400" y="2060640"/>
            <a:chExt cx="352080" cy="1090080"/>
          </a:xfrm>
        </p:grpSpPr>
        <p:sp>
          <p:nvSpPr>
            <p:cNvPr id="428" name=""/>
            <p:cNvSpPr/>
            <p:nvPr/>
          </p:nvSpPr>
          <p:spPr>
            <a:xfrm flipH="1">
              <a:off x="836280" y="20606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834840" y="22381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3400" y="24192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831600" y="259668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07840" y="279216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806400" y="297000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549520" y="30654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161000" y="231948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2626200" y="223992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467240" y="157932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9040" y="3730680"/>
            <a:ext cx="468360" cy="93600"/>
            <a:chOff x="4199040" y="3730680"/>
            <a:chExt cx="468360" cy="93600"/>
          </a:xfrm>
        </p:grpSpPr>
        <p:sp>
          <p:nvSpPr>
            <p:cNvPr id="439" name=""/>
            <p:cNvSpPr/>
            <p:nvPr/>
          </p:nvSpPr>
          <p:spPr>
            <a:xfrm>
              <a:off x="4199040" y="38242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9040" y="3730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238280" y="4260600"/>
            <a:ext cx="345960" cy="592560"/>
            <a:chOff x="4238280" y="4260600"/>
            <a:chExt cx="345960" cy="592560"/>
          </a:xfrm>
        </p:grpSpPr>
        <p:sp>
          <p:nvSpPr>
            <p:cNvPr id="442" name=""/>
            <p:cNvSpPr/>
            <p:nvPr/>
          </p:nvSpPr>
          <p:spPr>
            <a:xfrm flipV="1">
              <a:off x="4411440" y="42606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238280" y="47246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289040" y="47880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335120" y="4853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4680" y="384804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103640" y="2035080"/>
            <a:ext cx="352080" cy="1090440"/>
            <a:chOff x="4103640" y="2035080"/>
            <a:chExt cx="352080" cy="1090440"/>
          </a:xfrm>
        </p:grpSpPr>
        <p:sp>
          <p:nvSpPr>
            <p:cNvPr id="448" name=""/>
            <p:cNvSpPr/>
            <p:nvPr/>
          </p:nvSpPr>
          <p:spPr>
            <a:xfrm flipH="1">
              <a:off x="4133520" y="203508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4132080" y="2212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130640" y="23940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4128840" y="257184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105080" y="27669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4103640" y="29444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414680" y="312732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505760" y="2082960"/>
            <a:ext cx="55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4579200" y="390204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1289160" y="2952720"/>
            <a:ext cx="438120" cy="17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936360" y="475308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5592600" y="3919680"/>
            <a:ext cx="26974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ar DC, only 45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low AC, caps still add to ~ 14 p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5592600" y="4859280"/>
            <a:ext cx="26974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dding new el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cause new “break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7440" y="158400"/>
            <a:ext cx="82375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Model AC Analysi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3120" y="93492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85800" y="708120"/>
            <a:ext cx="8124840" cy="5349600"/>
            <a:chOff x="685800" y="708120"/>
            <a:chExt cx="8124840" cy="5349600"/>
          </a:xfrm>
        </p:grpSpPr>
        <p:grpSp>
          <p:nvGrpSpPr>
            <p:cNvPr id="464" name=""/>
            <p:cNvGrpSpPr/>
            <p:nvPr/>
          </p:nvGrpSpPr>
          <p:grpSpPr>
            <a:xfrm>
              <a:off x="685800" y="708120"/>
              <a:ext cx="8124840" cy="5349600"/>
              <a:chOff x="685800" y="708120"/>
              <a:chExt cx="8124840" cy="5349600"/>
            </a:xfrm>
          </p:grpSpPr>
          <p:pic>
            <p:nvPicPr>
              <p:cNvPr id="4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708120"/>
                <a:ext cx="8124840" cy="53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5629320" y="4400640"/>
                <a:ext cx="266760" cy="10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661000" y="4390200"/>
              <a:ext cx="101772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istor mode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>
            <a:off x="6654960" y="4635360"/>
            <a:ext cx="1358640" cy="5083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1147680" y="969840"/>
            <a:ext cx="19242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gnoring voltage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760" y="762120"/>
            <a:ext cx="841356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del is a fair match up to ~ 2 G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roblems a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A single C_comp value is no longer adequ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No IBIS keywords support this 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Still need to “back out” these elements from V-t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760" y="139320"/>
            <a:ext cx="8237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el Assess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6540480" y="2568600"/>
            <a:ext cx="281160" cy="28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>
            <a:off x="3495600" y="270972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1751040" y="2708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736640" y="271260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70160" y="2695320"/>
            <a:ext cx="0" cy="41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6948720" y="27766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523520" y="4282560"/>
            <a:ext cx="345960" cy="592560"/>
            <a:chOff x="1523520" y="4282560"/>
            <a:chExt cx="345960" cy="592560"/>
          </a:xfrm>
        </p:grpSpPr>
        <p:sp>
          <p:nvSpPr>
            <p:cNvPr id="479" name=""/>
            <p:cNvSpPr/>
            <p:nvPr/>
          </p:nvSpPr>
          <p:spPr>
            <a:xfrm flipV="1">
              <a:off x="1696680" y="42825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523520" y="4746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574280" y="48099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620360" y="4875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969160" y="3741840"/>
            <a:ext cx="468000" cy="93600"/>
            <a:chOff x="5969160" y="3741840"/>
            <a:chExt cx="468000" cy="93600"/>
          </a:xfrm>
        </p:grpSpPr>
        <p:sp>
          <p:nvSpPr>
            <p:cNvPr id="484" name=""/>
            <p:cNvSpPr/>
            <p:nvPr/>
          </p:nvSpPr>
          <p:spPr>
            <a:xfrm>
              <a:off x="5969160" y="38354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9160" y="37418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38040" y="14698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199200" y="272736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027480" y="4268520"/>
            <a:ext cx="345960" cy="592560"/>
            <a:chOff x="6027480" y="4268520"/>
            <a:chExt cx="345960" cy="592560"/>
          </a:xfrm>
        </p:grpSpPr>
        <p:sp>
          <p:nvSpPr>
            <p:cNvPr id="489" name=""/>
            <p:cNvSpPr/>
            <p:nvPr/>
          </p:nvSpPr>
          <p:spPr>
            <a:xfrm flipV="1">
              <a:off x="6200640" y="42685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027480" y="47325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078240" y="4795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124320" y="486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197760" y="38592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6562080" y="3525840"/>
            <a:ext cx="1296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01960" y="4795920"/>
            <a:ext cx="468360" cy="93600"/>
            <a:chOff x="2901960" y="4795920"/>
            <a:chExt cx="468360" cy="93600"/>
          </a:xfrm>
        </p:grpSpPr>
        <p:sp>
          <p:nvSpPr>
            <p:cNvPr id="496" name=""/>
            <p:cNvSpPr/>
            <p:nvPr/>
          </p:nvSpPr>
          <p:spPr>
            <a:xfrm>
              <a:off x="2901960" y="4889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901960" y="4795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941200" y="5326200"/>
            <a:ext cx="345960" cy="591840"/>
            <a:chOff x="2941200" y="5326200"/>
            <a:chExt cx="345960" cy="591840"/>
          </a:xfrm>
        </p:grpSpPr>
        <p:sp>
          <p:nvSpPr>
            <p:cNvPr id="499" name=""/>
            <p:cNvSpPr/>
            <p:nvPr/>
          </p:nvSpPr>
          <p:spPr>
            <a:xfrm flipV="1">
              <a:off x="3114360" y="532620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941200" y="5789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991960" y="58528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038040" y="59180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117960" y="49132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3282120" y="4735440"/>
            <a:ext cx="1245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806560" y="3100320"/>
            <a:ext cx="352080" cy="1090440"/>
            <a:chOff x="2806560" y="3100320"/>
            <a:chExt cx="352080" cy="1090440"/>
          </a:xfrm>
        </p:grpSpPr>
        <p:sp>
          <p:nvSpPr>
            <p:cNvPr id="506" name=""/>
            <p:cNvSpPr/>
            <p:nvPr/>
          </p:nvSpPr>
          <p:spPr>
            <a:xfrm flipH="1">
              <a:off x="2836440" y="31003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2835000" y="327780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833560" y="345924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831760" y="36370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808000" y="383220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2806560" y="40096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374840" y="3187800"/>
            <a:ext cx="352080" cy="1090080"/>
            <a:chOff x="1374840" y="3187800"/>
            <a:chExt cx="352080" cy="1090080"/>
          </a:xfrm>
        </p:grpSpPr>
        <p:sp>
          <p:nvSpPr>
            <p:cNvPr id="513" name=""/>
            <p:cNvSpPr/>
            <p:nvPr/>
          </p:nvSpPr>
          <p:spPr>
            <a:xfrm flipH="1">
              <a:off x="1404720" y="31878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1403280" y="336528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401840" y="354636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1400040" y="3723840"/>
              <a:ext cx="32220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376280" y="39193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1374840" y="4097160"/>
              <a:ext cx="32256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117960" y="41925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1729080" y="344664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>
            <a:off x="3144240" y="3176640"/>
            <a:ext cx="144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k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035680" y="2706840"/>
            <a:ext cx="0" cy="46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767120" y="4857840"/>
            <a:ext cx="468360" cy="93600"/>
            <a:chOff x="4767120" y="4857840"/>
            <a:chExt cx="468360" cy="93600"/>
          </a:xfrm>
        </p:grpSpPr>
        <p:sp>
          <p:nvSpPr>
            <p:cNvPr id="524" name=""/>
            <p:cNvSpPr/>
            <p:nvPr/>
          </p:nvSpPr>
          <p:spPr>
            <a:xfrm>
              <a:off x="4767120" y="49514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67120" y="4857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06720" y="5388120"/>
            <a:ext cx="345960" cy="591840"/>
            <a:chOff x="4806720" y="5388120"/>
            <a:chExt cx="345960" cy="591840"/>
          </a:xfrm>
        </p:grpSpPr>
        <p:sp>
          <p:nvSpPr>
            <p:cNvPr id="527" name=""/>
            <p:cNvSpPr/>
            <p:nvPr/>
          </p:nvSpPr>
          <p:spPr>
            <a:xfrm flipV="1">
              <a:off x="4979880" y="538812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806720" y="58514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57480" y="59148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03560" y="59799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983120" y="49752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672080" y="3162240"/>
            <a:ext cx="352080" cy="1090440"/>
            <a:chOff x="4672080" y="3162240"/>
            <a:chExt cx="352080" cy="1090440"/>
          </a:xfrm>
        </p:grpSpPr>
        <p:sp>
          <p:nvSpPr>
            <p:cNvPr id="533" name=""/>
            <p:cNvSpPr/>
            <p:nvPr/>
          </p:nvSpPr>
          <p:spPr>
            <a:xfrm flipH="1">
              <a:off x="4701960" y="31622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4700520" y="33397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699080" y="352116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697280" y="369900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673520" y="389412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4672080" y="407160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983120" y="425448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5073840" y="2981160"/>
            <a:ext cx="105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 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5147280" y="5029200"/>
            <a:ext cx="1017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1857240" y="4079880"/>
            <a:ext cx="285840" cy="1090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1174680" y="5130720"/>
            <a:ext cx="154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V Cur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2457360" y="2486160"/>
            <a:ext cx="3390840" cy="3152520"/>
          </a:xfrm>
          <a:prstGeom prst="rect">
            <a:avLst/>
          </a:prstGeom>
          <a:noFill/>
          <a:ln w="57240">
            <a:solidFill>
              <a:srgbClr val="0860a8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Proposal for New Keywords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o Improve Buffer Impedance Modeling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71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30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12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riginal C_comp Adjust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7160" y="84888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3970440" y="3746520"/>
            <a:ext cx="27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2390760" y="3746520"/>
            <a:ext cx="15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842160" y="38163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6554880" y="32050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649560" y="5191200"/>
            <a:ext cx="312840" cy="517320"/>
            <a:chOff x="6649560" y="5191200"/>
            <a:chExt cx="312840" cy="517320"/>
          </a:xfrm>
        </p:grpSpPr>
        <p:sp>
          <p:nvSpPr>
            <p:cNvPr id="552" name=""/>
            <p:cNvSpPr/>
            <p:nvPr/>
          </p:nvSpPr>
          <p:spPr>
            <a:xfrm flipV="1">
              <a:off x="6806160" y="5191200"/>
              <a:ext cx="0" cy="40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649560" y="5596200"/>
              <a:ext cx="31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695280" y="5651280"/>
              <a:ext cx="22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737400" y="5708520"/>
              <a:ext cx="13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632040" y="4626000"/>
            <a:ext cx="424080" cy="82440"/>
            <a:chOff x="3632040" y="4626000"/>
            <a:chExt cx="424080" cy="82440"/>
          </a:xfrm>
        </p:grpSpPr>
        <p:sp>
          <p:nvSpPr>
            <p:cNvPr id="557" name=""/>
            <p:cNvSpPr/>
            <p:nvPr/>
          </p:nvSpPr>
          <p:spPr>
            <a:xfrm>
              <a:off x="3632040" y="4708440"/>
              <a:ext cx="4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32040" y="4626000"/>
              <a:ext cx="4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840120" y="3738600"/>
            <a:ext cx="0" cy="87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679920" y="5090760"/>
            <a:ext cx="312480" cy="518040"/>
            <a:chOff x="3679920" y="5090760"/>
            <a:chExt cx="312480" cy="518040"/>
          </a:xfrm>
        </p:grpSpPr>
        <p:sp>
          <p:nvSpPr>
            <p:cNvPr id="561" name=""/>
            <p:cNvSpPr/>
            <p:nvPr/>
          </p:nvSpPr>
          <p:spPr>
            <a:xfrm flipV="1">
              <a:off x="3835800" y="5090760"/>
              <a:ext cx="0" cy="40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679920" y="5496480"/>
              <a:ext cx="31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725640" y="5551560"/>
              <a:ext cx="22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767040" y="5608800"/>
              <a:ext cx="13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838680" y="4729320"/>
            <a:ext cx="0" cy="50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>
            <a:off x="4123080" y="472284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515280" y="4232160"/>
            <a:ext cx="318960" cy="954360"/>
            <a:chOff x="6515280" y="4232160"/>
            <a:chExt cx="318960" cy="954360"/>
          </a:xfrm>
        </p:grpSpPr>
        <p:sp>
          <p:nvSpPr>
            <p:cNvPr id="568" name=""/>
            <p:cNvSpPr/>
            <p:nvPr/>
          </p:nvSpPr>
          <p:spPr>
            <a:xfrm flipH="1">
              <a:off x="6542640" y="423216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6541200" y="438768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39400" y="454608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6538320" y="4701240"/>
              <a:ext cx="291600" cy="15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516720" y="487224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6515280" y="5028120"/>
              <a:ext cx="29160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082280" y="452592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726240" y="3624120"/>
            <a:ext cx="254160" cy="24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4122720"/>
            <a:ext cx="0" cy="132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3467160" y="4064040"/>
            <a:ext cx="0" cy="132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1184400" y="3232080"/>
            <a:ext cx="1199880" cy="144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2432160" y="3502080"/>
            <a:ext cx="815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1264320" y="355752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520000" y="300204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"/>
          <p:cNvSpPr/>
          <p:nvPr/>
        </p:nvSpPr>
        <p:spPr>
          <a:xfrm>
            <a:off x="2916360" y="439092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5180040" y="453384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14000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272880" y="642960"/>
            <a:ext cx="83916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c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c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C_comp * dV/dt where dV/dt is instantaneous V-t slop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V-t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aken at every time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-less” V-t curve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)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iver is pullup curve set with internal pulldow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fix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0, since there is no active, driving pull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1760" y="139680"/>
            <a:ext cx="82375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Modified Approac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5600" y="782280"/>
            <a:ext cx="40370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3916440" y="358452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2171880" y="35830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089840" y="3663720"/>
            <a:ext cx="0" cy="4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6771600" y="2965320"/>
            <a:ext cx="178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 (V-t curv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76720" y="5233680"/>
            <a:ext cx="345960" cy="592560"/>
            <a:chOff x="6876720" y="5233680"/>
            <a:chExt cx="345960" cy="592560"/>
          </a:xfrm>
        </p:grpSpPr>
        <p:sp>
          <p:nvSpPr>
            <p:cNvPr id="593" name=""/>
            <p:cNvSpPr/>
            <p:nvPr/>
          </p:nvSpPr>
          <p:spPr>
            <a:xfrm flipV="1">
              <a:off x="7049880" y="523368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876720" y="5697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927480" y="5761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973560" y="5826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43480" y="4589640"/>
            <a:ext cx="468000" cy="93600"/>
            <a:chOff x="3543480" y="4589640"/>
            <a:chExt cx="468000" cy="93600"/>
          </a:xfrm>
        </p:grpSpPr>
        <p:sp>
          <p:nvSpPr>
            <p:cNvPr id="598" name=""/>
            <p:cNvSpPr/>
            <p:nvPr/>
          </p:nvSpPr>
          <p:spPr>
            <a:xfrm>
              <a:off x="3543480" y="46832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43480" y="458964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773520" y="357516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595320" y="5119200"/>
            <a:ext cx="345960" cy="592560"/>
            <a:chOff x="3595320" y="5119200"/>
            <a:chExt cx="345960" cy="592560"/>
          </a:xfrm>
        </p:grpSpPr>
        <p:sp>
          <p:nvSpPr>
            <p:cNvPr id="602" name=""/>
            <p:cNvSpPr/>
            <p:nvPr/>
          </p:nvSpPr>
          <p:spPr>
            <a:xfrm flipV="1">
              <a:off x="3768480" y="51192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595320" y="55832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646080" y="5646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692160" y="5711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772080" y="470700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3864240" y="418320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727680" y="4138560"/>
            <a:ext cx="352080" cy="1090440"/>
            <a:chOff x="6727680" y="4138560"/>
            <a:chExt cx="352080" cy="1090440"/>
          </a:xfrm>
        </p:grpSpPr>
        <p:sp>
          <p:nvSpPr>
            <p:cNvPr id="609" name=""/>
            <p:cNvSpPr/>
            <p:nvPr/>
          </p:nvSpPr>
          <p:spPr>
            <a:xfrm flipH="1">
              <a:off x="6757560" y="413856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756120" y="43160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754680" y="449748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752880" y="4675320"/>
              <a:ext cx="32220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729120" y="4870440"/>
              <a:ext cx="32220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6727680" y="5047920"/>
              <a:ext cx="32256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350480" y="4475160"/>
            <a:ext cx="930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6961320" y="3443400"/>
            <a:ext cx="28080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7251840" y="397368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3360600" y="394668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2995560"/>
            <a:ext cx="1325520" cy="164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216160" y="3305160"/>
            <a:ext cx="90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978480" y="3367080"/>
            <a:ext cx="97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"/>
          <p:cNvSpPr/>
          <p:nvPr/>
        </p:nvSpPr>
        <p:spPr>
          <a:xfrm>
            <a:off x="2351520" y="2852640"/>
            <a:ext cx="70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"/>
          <p:cNvSpPr/>
          <p:nvPr/>
        </p:nvSpPr>
        <p:spPr>
          <a:xfrm>
            <a:off x="2749680" y="4317840"/>
            <a:ext cx="526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"/>
          <p:cNvSpPr/>
          <p:nvPr/>
        </p:nvSpPr>
        <p:spPr>
          <a:xfrm>
            <a:off x="7412040" y="3762360"/>
            <a:ext cx="753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"/>
          <p:cNvSpPr/>
          <p:nvPr/>
        </p:nvSpPr>
        <p:spPr>
          <a:xfrm>
            <a:off x="638280" y="13334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"/>
          <p:cNvSpPr/>
          <p:nvPr/>
        </p:nvSpPr>
        <p:spPr>
          <a:xfrm>
            <a:off x="311040" y="795240"/>
            <a:ext cx="842004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tricky differential equation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er solution – use EDA tool to generate data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netlist as sh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 PWL source with original V-t data set(s), at p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CCS into load = Rfixture provides “adjusted” V-t cu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905360" y="4944960"/>
            <a:ext cx="468360" cy="93600"/>
            <a:chOff x="4905360" y="4944960"/>
            <a:chExt cx="468360" cy="93600"/>
          </a:xfrm>
        </p:grpSpPr>
        <p:sp>
          <p:nvSpPr>
            <p:cNvPr id="628" name=""/>
            <p:cNvSpPr/>
            <p:nvPr/>
          </p:nvSpPr>
          <p:spPr>
            <a:xfrm>
              <a:off x="4905360" y="50385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05360" y="49449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984560" y="5049360"/>
            <a:ext cx="345960" cy="592560"/>
            <a:chOff x="4984560" y="5049360"/>
            <a:chExt cx="345960" cy="592560"/>
          </a:xfrm>
        </p:grpSpPr>
        <p:sp>
          <p:nvSpPr>
            <p:cNvPr id="631" name=""/>
            <p:cNvSpPr/>
            <p:nvPr/>
          </p:nvSpPr>
          <p:spPr>
            <a:xfrm flipV="1">
              <a:off x="5157720" y="50493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984560" y="5513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035320" y="55767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081400" y="5641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837040" y="3941640"/>
            <a:ext cx="236520" cy="664920"/>
            <a:chOff x="5837040" y="3941640"/>
            <a:chExt cx="236520" cy="664920"/>
          </a:xfrm>
        </p:grpSpPr>
        <p:sp>
          <p:nvSpPr>
            <p:cNvPr id="636" name=""/>
            <p:cNvSpPr/>
            <p:nvPr/>
          </p:nvSpPr>
          <p:spPr>
            <a:xfrm flipH="1">
              <a:off x="5857560" y="39416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856480" y="40500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855040" y="416052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5854320" y="42688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838480" y="43880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837040" y="44964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922640" y="3940200"/>
            <a:ext cx="236520" cy="664920"/>
            <a:chOff x="4922640" y="3940200"/>
            <a:chExt cx="236520" cy="664920"/>
          </a:xfrm>
        </p:grpSpPr>
        <p:sp>
          <p:nvSpPr>
            <p:cNvPr id="643" name=""/>
            <p:cNvSpPr/>
            <p:nvPr/>
          </p:nvSpPr>
          <p:spPr>
            <a:xfrm flipH="1">
              <a:off x="4943160" y="39402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4942080" y="40485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940640" y="41590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4939920" y="42674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24080" y="43866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4922640" y="44949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149800" y="3600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"/>
          <p:cNvSpPr/>
          <p:nvPr/>
        </p:nvSpPr>
        <p:spPr>
          <a:xfrm>
            <a:off x="6075360" y="3584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"/>
          <p:cNvSpPr/>
          <p:nvPr/>
        </p:nvSpPr>
        <p:spPr>
          <a:xfrm>
            <a:off x="5146560" y="460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792760" y="4968720"/>
            <a:ext cx="468360" cy="93600"/>
            <a:chOff x="5792760" y="4968720"/>
            <a:chExt cx="468360" cy="93600"/>
          </a:xfrm>
        </p:grpSpPr>
        <p:sp>
          <p:nvSpPr>
            <p:cNvPr id="653" name=""/>
            <p:cNvSpPr/>
            <p:nvPr/>
          </p:nvSpPr>
          <p:spPr>
            <a:xfrm>
              <a:off x="5792760" y="50623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92760" y="4968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871960" y="5060520"/>
            <a:ext cx="345960" cy="592560"/>
            <a:chOff x="5871960" y="5060520"/>
            <a:chExt cx="345960" cy="592560"/>
          </a:xfrm>
        </p:grpSpPr>
        <p:sp>
          <p:nvSpPr>
            <p:cNvPr id="656" name=""/>
            <p:cNvSpPr/>
            <p:nvPr/>
          </p:nvSpPr>
          <p:spPr>
            <a:xfrm flipV="1">
              <a:off x="6045120" y="50605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871960" y="55245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922720" y="55879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968800" y="5653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033960" y="4614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"/>
          <p:cNvSpPr/>
          <p:nvPr/>
        </p:nvSpPr>
        <p:spPr>
          <a:xfrm>
            <a:off x="4813200" y="381492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5727600" y="3841920"/>
            <a:ext cx="0" cy="1519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"/>
          <p:cNvSpPr/>
          <p:nvPr/>
        </p:nvSpPr>
        <p:spPr>
          <a:xfrm>
            <a:off x="5141880" y="50562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"/>
          <p:cNvSpPr/>
          <p:nvPr/>
        </p:nvSpPr>
        <p:spPr>
          <a:xfrm>
            <a:off x="6118200" y="50418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"/>
          <p:cNvSpPr/>
          <p:nvPr/>
        </p:nvSpPr>
        <p:spPr>
          <a:xfrm>
            <a:off x="5139000" y="39592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"/>
          <p:cNvSpPr/>
          <p:nvPr/>
        </p:nvSpPr>
        <p:spPr>
          <a:xfrm>
            <a:off x="6053400" y="386568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"/>
          <p:cNvSpPr/>
          <p:nvPr/>
        </p:nvSpPr>
        <p:spPr>
          <a:xfrm>
            <a:off x="4440240" y="364824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"/>
          <p:cNvSpPr/>
          <p:nvPr/>
        </p:nvSpPr>
        <p:spPr>
          <a:xfrm>
            <a:off x="5396040" y="3621240"/>
            <a:ext cx="3362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"/>
          <p:cNvSpPr/>
          <p:nvPr/>
        </p:nvSpPr>
        <p:spPr>
          <a:xfrm>
            <a:off x="5060880" y="4657680"/>
            <a:ext cx="179280" cy="141480"/>
          </a:xfrm>
          <a:prstGeom prst="ellipse">
            <a:avLst/>
          </a:prstGeom>
          <a:solidFill>
            <a:srgbClr val="ff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"/>
          <p:cNvSpPr/>
          <p:nvPr/>
        </p:nvSpPr>
        <p:spPr>
          <a:xfrm>
            <a:off x="5935680" y="4694400"/>
            <a:ext cx="179280" cy="141120"/>
          </a:xfrm>
          <a:prstGeom prst="ellipse">
            <a:avLst/>
          </a:prstGeom>
          <a:solidFill>
            <a:srgbClr val="ff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"/>
          <p:cNvSpPr/>
          <p:nvPr/>
        </p:nvSpPr>
        <p:spPr>
          <a:xfrm>
            <a:off x="5227920" y="454824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"/>
          <p:cNvSpPr/>
          <p:nvPr/>
        </p:nvSpPr>
        <p:spPr>
          <a:xfrm>
            <a:off x="6166080" y="4572000"/>
            <a:ext cx="412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ssessmen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78000" y="713880"/>
            <a:ext cx="789912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e can now adjust V-t curves for AC C_co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Enabling each portion of differential buffer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Take a separate V-t curve (Main Only, Boost on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Take AC domain frequency response for entire buf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ngle-ended response only analyzed so f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66"/>
                </a:solidFill>
                <a:latin typeface="Verdana"/>
              </a:rPr>
              <a:t>Match AC domain with model &amp; extract adjusted V-t cur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n we repeat the process for differential behav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859400" y="3090960"/>
            <a:ext cx="4320360" cy="2638440"/>
            <a:chOff x="1859400" y="3090960"/>
            <a:chExt cx="4320360" cy="2638440"/>
          </a:xfrm>
        </p:grpSpPr>
        <p:graphicFrame>
          <p:nvGraphicFramePr>
            <p:cNvPr id="676" name=""/>
            <p:cNvGraphicFramePr/>
            <p:nvPr/>
          </p:nvGraphicFramePr>
          <p:xfrm>
            <a:off x="1859400" y="3090960"/>
            <a:ext cx="4320360" cy="26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9400" y="3090960"/>
                      <a:ext cx="4320360" cy="26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"/>
            <p:cNvSpPr/>
            <p:nvPr/>
          </p:nvSpPr>
          <p:spPr>
            <a:xfrm flipV="1">
              <a:off x="4285080" y="5218200"/>
              <a:ext cx="137340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2314440" y="5055120"/>
              <a:ext cx="1007280" cy="4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0560" y="53582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82200" y="53686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18760" y="53582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48200" y="5319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00240" y="3455640"/>
              <a:ext cx="0" cy="162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61200" y="32248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43600" y="4821120"/>
            <a:ext cx="81612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Hi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2000" y="-360"/>
            <a:ext cx="8448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0080" y="73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323120" y="1317600"/>
            <a:ext cx="274680" cy="238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"/>
          <p:cNvSpPr/>
          <p:nvPr/>
        </p:nvSpPr>
        <p:spPr>
          <a:xfrm>
            <a:off x="4341960" y="1438200"/>
            <a:ext cx="299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514760" y="1441440"/>
            <a:ext cx="0" cy="3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3381120" y="1428840"/>
            <a:ext cx="612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"/>
          <p:cNvSpPr/>
          <p:nvPr/>
        </p:nvSpPr>
        <p:spPr>
          <a:xfrm>
            <a:off x="7148520" y="176688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305240" y="2285640"/>
            <a:ext cx="339840" cy="498960"/>
            <a:chOff x="4305240" y="2285640"/>
            <a:chExt cx="339840" cy="498960"/>
          </a:xfrm>
        </p:grpSpPr>
        <p:sp>
          <p:nvSpPr>
            <p:cNvPr id="695" name=""/>
            <p:cNvSpPr/>
            <p:nvPr/>
          </p:nvSpPr>
          <p:spPr>
            <a:xfrm flipV="1">
              <a:off x="4474800" y="228564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305240" y="26762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354920" y="2729520"/>
              <a:ext cx="24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399920" y="2784600"/>
              <a:ext cx="14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762600" y="2308320"/>
            <a:ext cx="459000" cy="77760"/>
            <a:chOff x="6762600" y="2308320"/>
            <a:chExt cx="459000" cy="77760"/>
          </a:xfrm>
        </p:grpSpPr>
        <p:sp>
          <p:nvSpPr>
            <p:cNvPr id="700" name=""/>
            <p:cNvSpPr/>
            <p:nvPr/>
          </p:nvSpPr>
          <p:spPr>
            <a:xfrm>
              <a:off x="6762600" y="2386080"/>
              <a:ext cx="4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62600" y="2308320"/>
              <a:ext cx="4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988320" y="1452600"/>
            <a:ext cx="0" cy="84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813360" y="2754000"/>
            <a:ext cx="339480" cy="498960"/>
            <a:chOff x="6813360" y="2754000"/>
            <a:chExt cx="339480" cy="498960"/>
          </a:xfrm>
        </p:grpSpPr>
        <p:sp>
          <p:nvSpPr>
            <p:cNvPr id="704" name=""/>
            <p:cNvSpPr/>
            <p:nvPr/>
          </p:nvSpPr>
          <p:spPr>
            <a:xfrm flipV="1">
              <a:off x="6983280" y="275400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813360" y="3144600"/>
              <a:ext cx="33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863400" y="3197880"/>
              <a:ext cx="24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08040" y="3252960"/>
              <a:ext cx="14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6986520" y="240660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"/>
          <p:cNvSpPr/>
          <p:nvPr/>
        </p:nvSpPr>
        <p:spPr>
          <a:xfrm>
            <a:off x="7349760" y="218268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2560" y="1227240"/>
            <a:ext cx="142560" cy="432000"/>
            <a:chOff x="4192560" y="1227240"/>
            <a:chExt cx="142560" cy="432000"/>
          </a:xfrm>
        </p:grpSpPr>
        <p:sp>
          <p:nvSpPr>
            <p:cNvPr id="711" name=""/>
            <p:cNvSpPr/>
            <p:nvPr/>
          </p:nvSpPr>
          <p:spPr>
            <a:xfrm>
              <a:off x="4335120" y="12272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4192560" y="12276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147840" y="2220480"/>
            <a:ext cx="338400" cy="498960"/>
            <a:chOff x="3147840" y="2220480"/>
            <a:chExt cx="338400" cy="498960"/>
          </a:xfrm>
        </p:grpSpPr>
        <p:sp>
          <p:nvSpPr>
            <p:cNvPr id="714" name=""/>
            <p:cNvSpPr/>
            <p:nvPr/>
          </p:nvSpPr>
          <p:spPr>
            <a:xfrm flipV="1">
              <a:off x="3316680" y="222048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147840" y="2611080"/>
              <a:ext cx="33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197160" y="2664360"/>
              <a:ext cx="24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42160" y="271944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734640" y="974880"/>
            <a:ext cx="13269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25440" y="1720800"/>
            <a:ext cx="344520" cy="509400"/>
            <a:chOff x="3025440" y="1720800"/>
            <a:chExt cx="344520" cy="509400"/>
          </a:xfrm>
        </p:grpSpPr>
        <p:sp>
          <p:nvSpPr>
            <p:cNvPr id="720" name=""/>
            <p:cNvSpPr/>
            <p:nvPr/>
          </p:nvSpPr>
          <p:spPr>
            <a:xfrm flipH="1">
              <a:off x="3055320" y="1720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3053880" y="180324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051720" y="18885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050640" y="197172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027240" y="2062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3025440" y="214560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159080" y="1825560"/>
            <a:ext cx="345600" cy="455760"/>
            <a:chOff x="4159080" y="1825560"/>
            <a:chExt cx="345600" cy="455760"/>
          </a:xfrm>
        </p:grpSpPr>
        <p:sp>
          <p:nvSpPr>
            <p:cNvPr id="727" name=""/>
            <p:cNvSpPr/>
            <p:nvPr/>
          </p:nvSpPr>
          <p:spPr>
            <a:xfrm flipH="1">
              <a:off x="4188240" y="182556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186800" y="189972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185360" y="1975320"/>
              <a:ext cx="31680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4183560" y="2049480"/>
              <a:ext cx="316440" cy="7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60160" y="2131200"/>
              <a:ext cx="3164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4159080" y="2205720"/>
              <a:ext cx="31680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507200" y="20448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"/>
          <p:cNvSpPr/>
          <p:nvPr/>
        </p:nvSpPr>
        <p:spPr>
          <a:xfrm>
            <a:off x="3396240" y="16527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848200" y="143496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86480" y="2830680"/>
            <a:ext cx="458640" cy="77760"/>
            <a:chOff x="5586480" y="2830680"/>
            <a:chExt cx="458640" cy="77760"/>
          </a:xfrm>
        </p:grpSpPr>
        <p:sp>
          <p:nvSpPr>
            <p:cNvPr id="737" name=""/>
            <p:cNvSpPr/>
            <p:nvPr/>
          </p:nvSpPr>
          <p:spPr>
            <a:xfrm>
              <a:off x="5586480" y="290844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86480" y="283068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616360" y="2894040"/>
            <a:ext cx="338040" cy="500040"/>
            <a:chOff x="5616360" y="2894040"/>
            <a:chExt cx="338040" cy="500040"/>
          </a:xfrm>
        </p:grpSpPr>
        <p:sp>
          <p:nvSpPr>
            <p:cNvPr id="740" name=""/>
            <p:cNvSpPr/>
            <p:nvPr/>
          </p:nvSpPr>
          <p:spPr>
            <a:xfrm flipV="1">
              <a:off x="5785560" y="2894040"/>
              <a:ext cx="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16360" y="328536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665680" y="333900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710680" y="339408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492520" y="1819440"/>
            <a:ext cx="345960" cy="499680"/>
            <a:chOff x="5492520" y="1819440"/>
            <a:chExt cx="345960" cy="499680"/>
          </a:xfrm>
        </p:grpSpPr>
        <p:sp>
          <p:nvSpPr>
            <p:cNvPr id="745" name=""/>
            <p:cNvSpPr/>
            <p:nvPr/>
          </p:nvSpPr>
          <p:spPr>
            <a:xfrm flipH="1">
              <a:off x="5522400" y="181944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520960" y="190080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5518800" y="1983960"/>
              <a:ext cx="31644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517720" y="206532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5494320" y="2154960"/>
              <a:ext cx="3160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5492520" y="2236320"/>
              <a:ext cx="31644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5797440" y="232092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"/>
          <p:cNvSpPr/>
          <p:nvPr/>
        </p:nvSpPr>
        <p:spPr>
          <a:xfrm>
            <a:off x="5905080" y="16621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"/>
          <p:cNvSpPr/>
          <p:nvPr/>
        </p:nvSpPr>
        <p:spPr>
          <a:xfrm>
            <a:off x="5843520" y="2449440"/>
            <a:ext cx="10983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"/>
          <p:cNvSpPr/>
          <p:nvPr/>
        </p:nvSpPr>
        <p:spPr>
          <a:xfrm>
            <a:off x="3378240" y="1433520"/>
            <a:ext cx="80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"/>
          <p:cNvSpPr/>
          <p:nvPr/>
        </p:nvSpPr>
        <p:spPr>
          <a:xfrm>
            <a:off x="6553080" y="3720960"/>
            <a:ext cx="274680" cy="23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"/>
          <p:cNvSpPr/>
          <p:nvPr/>
        </p:nvSpPr>
        <p:spPr>
          <a:xfrm>
            <a:off x="3571920" y="3846600"/>
            <a:ext cx="299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5080" y="3833280"/>
            <a:ext cx="0" cy="3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528720" y="4774680"/>
            <a:ext cx="338040" cy="500760"/>
            <a:chOff x="3528720" y="4774680"/>
            <a:chExt cx="338040" cy="500760"/>
          </a:xfrm>
        </p:grpSpPr>
        <p:sp>
          <p:nvSpPr>
            <p:cNvPr id="759" name=""/>
            <p:cNvSpPr/>
            <p:nvPr/>
          </p:nvSpPr>
          <p:spPr>
            <a:xfrm flipV="1">
              <a:off x="3697920" y="4774680"/>
              <a:ext cx="0" cy="3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528720" y="516672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578040" y="522036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623040" y="527544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5994360" y="4716360"/>
            <a:ext cx="457200" cy="77760"/>
            <a:chOff x="5994360" y="4716360"/>
            <a:chExt cx="457200" cy="77760"/>
          </a:xfrm>
        </p:grpSpPr>
        <p:sp>
          <p:nvSpPr>
            <p:cNvPr id="764" name=""/>
            <p:cNvSpPr/>
            <p:nvPr/>
          </p:nvSpPr>
          <p:spPr>
            <a:xfrm>
              <a:off x="5994360" y="47941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94360" y="47163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218280" y="3860640"/>
            <a:ext cx="0" cy="84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044760" y="5162040"/>
            <a:ext cx="338040" cy="498960"/>
            <a:chOff x="6044760" y="5162040"/>
            <a:chExt cx="338040" cy="498960"/>
          </a:xfrm>
        </p:grpSpPr>
        <p:sp>
          <p:nvSpPr>
            <p:cNvPr id="768" name=""/>
            <p:cNvSpPr/>
            <p:nvPr/>
          </p:nvSpPr>
          <p:spPr>
            <a:xfrm flipV="1">
              <a:off x="6213960" y="5162040"/>
              <a:ext cx="0" cy="39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044760" y="555264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094080" y="560592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139080" y="566100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216480" y="4815000"/>
            <a:ext cx="0" cy="48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"/>
          <p:cNvSpPr/>
          <p:nvPr/>
        </p:nvSpPr>
        <p:spPr>
          <a:xfrm>
            <a:off x="6581520" y="453240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422520" y="3633840"/>
            <a:ext cx="142560" cy="433440"/>
            <a:chOff x="3422520" y="3633840"/>
            <a:chExt cx="142560" cy="433440"/>
          </a:xfrm>
        </p:grpSpPr>
        <p:sp>
          <p:nvSpPr>
            <p:cNvPr id="775" name=""/>
            <p:cNvSpPr/>
            <p:nvPr/>
          </p:nvSpPr>
          <p:spPr>
            <a:xfrm>
              <a:off x="3565080" y="36338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422520" y="36338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90480" y="4233960"/>
            <a:ext cx="344520" cy="551880"/>
            <a:chOff x="3390480" y="4233960"/>
            <a:chExt cx="344520" cy="551880"/>
          </a:xfrm>
        </p:grpSpPr>
        <p:sp>
          <p:nvSpPr>
            <p:cNvPr id="778" name=""/>
            <p:cNvSpPr/>
            <p:nvPr/>
          </p:nvSpPr>
          <p:spPr>
            <a:xfrm flipH="1">
              <a:off x="3420360" y="42339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3418920" y="43239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416760" y="4415400"/>
              <a:ext cx="31500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3415680" y="450576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392280" y="4604400"/>
              <a:ext cx="31464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3390480" y="4694400"/>
              <a:ext cx="315000" cy="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687760" y="3833640"/>
            <a:ext cx="72540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/>
          <p:nvPr/>
        </p:nvSpPr>
        <p:spPr>
          <a:xfrm>
            <a:off x="3737520" y="44514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"/>
          <p:cNvSpPr/>
          <p:nvPr/>
        </p:nvSpPr>
        <p:spPr>
          <a:xfrm>
            <a:off x="2706480" y="409716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079960" y="384336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826160" y="5251320"/>
            <a:ext cx="458640" cy="79560"/>
            <a:chOff x="4826160" y="5251320"/>
            <a:chExt cx="458640" cy="79560"/>
          </a:xfrm>
        </p:grpSpPr>
        <p:sp>
          <p:nvSpPr>
            <p:cNvPr id="789" name=""/>
            <p:cNvSpPr/>
            <p:nvPr/>
          </p:nvSpPr>
          <p:spPr>
            <a:xfrm>
              <a:off x="4826160" y="533088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26160" y="5251320"/>
              <a:ext cx="45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865400" y="5316480"/>
            <a:ext cx="338040" cy="500040"/>
            <a:chOff x="4865400" y="5316480"/>
            <a:chExt cx="338040" cy="500040"/>
          </a:xfrm>
        </p:grpSpPr>
        <p:sp>
          <p:nvSpPr>
            <p:cNvPr id="792" name=""/>
            <p:cNvSpPr/>
            <p:nvPr/>
          </p:nvSpPr>
          <p:spPr>
            <a:xfrm flipV="1">
              <a:off x="5034600" y="5316480"/>
              <a:ext cx="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865400" y="570780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914720" y="5761440"/>
              <a:ext cx="24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959720" y="581652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723920" y="4227480"/>
            <a:ext cx="344520" cy="507960"/>
            <a:chOff x="4723920" y="4227480"/>
            <a:chExt cx="344520" cy="507960"/>
          </a:xfrm>
        </p:grpSpPr>
        <p:sp>
          <p:nvSpPr>
            <p:cNvPr id="797" name=""/>
            <p:cNvSpPr/>
            <p:nvPr/>
          </p:nvSpPr>
          <p:spPr>
            <a:xfrm flipH="1">
              <a:off x="4753800" y="42274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4752360" y="43102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750200" y="4394520"/>
              <a:ext cx="31500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4749120" y="4476960"/>
              <a:ext cx="31464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725720" y="456840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4723920" y="4651200"/>
              <a:ext cx="31500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037120" y="474336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"/>
          <p:cNvSpPr/>
          <p:nvPr/>
        </p:nvSpPr>
        <p:spPr>
          <a:xfrm>
            <a:off x="5128920" y="408132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"/>
          <p:cNvSpPr/>
          <p:nvPr/>
        </p:nvSpPr>
        <p:spPr>
          <a:xfrm>
            <a:off x="3336480" y="3263760"/>
            <a:ext cx="13420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2700360" y="3841920"/>
            <a:ext cx="0" cy="33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492280" y="4650840"/>
            <a:ext cx="338400" cy="500760"/>
            <a:chOff x="2492280" y="4650840"/>
            <a:chExt cx="338400" cy="500760"/>
          </a:xfrm>
        </p:grpSpPr>
        <p:sp>
          <p:nvSpPr>
            <p:cNvPr id="808" name=""/>
            <p:cNvSpPr/>
            <p:nvPr/>
          </p:nvSpPr>
          <p:spPr>
            <a:xfrm flipV="1">
              <a:off x="2661120" y="4650840"/>
              <a:ext cx="0" cy="3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492280" y="5042880"/>
              <a:ext cx="338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541600" y="5096520"/>
              <a:ext cx="24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586600" y="5151600"/>
              <a:ext cx="14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4320" y="4151160"/>
            <a:ext cx="344520" cy="509400"/>
            <a:chOff x="2344320" y="4151160"/>
            <a:chExt cx="344520" cy="509400"/>
          </a:xfrm>
        </p:grpSpPr>
        <p:sp>
          <p:nvSpPr>
            <p:cNvPr id="813" name=""/>
            <p:cNvSpPr/>
            <p:nvPr/>
          </p:nvSpPr>
          <p:spPr>
            <a:xfrm flipH="1">
              <a:off x="2374200" y="41511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372760" y="42336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370600" y="431892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2369520" y="44020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346120" y="44931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2344320" y="45759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6380280" y="42498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5103360" y="4863960"/>
            <a:ext cx="1113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543960" y="18273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"/>
          <p:cNvSpPr/>
          <p:nvPr/>
        </p:nvSpPr>
        <p:spPr>
          <a:xfrm>
            <a:off x="2319480" y="1703520"/>
            <a:ext cx="609480" cy="18921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2722320" y="1428840"/>
            <a:ext cx="12600" cy="86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403000" y="2295360"/>
            <a:ext cx="344520" cy="509400"/>
            <a:chOff x="2403000" y="2295360"/>
            <a:chExt cx="344520" cy="509400"/>
          </a:xfrm>
        </p:grpSpPr>
        <p:sp>
          <p:nvSpPr>
            <p:cNvPr id="825" name=""/>
            <p:cNvSpPr/>
            <p:nvPr/>
          </p:nvSpPr>
          <p:spPr>
            <a:xfrm flipH="1">
              <a:off x="2432880" y="22953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2431440" y="237780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429280" y="246312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2428200" y="2546280"/>
              <a:ext cx="3146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404800" y="2637360"/>
              <a:ext cx="31464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403000" y="2720160"/>
              <a:ext cx="315000" cy="8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1" name=""/>
          <p:cNvSpPr/>
          <p:nvPr/>
        </p:nvSpPr>
        <p:spPr>
          <a:xfrm flipV="1">
            <a:off x="2697120" y="2814480"/>
            <a:ext cx="0" cy="102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"/>
          <p:cNvSpPr/>
          <p:nvPr/>
        </p:nvSpPr>
        <p:spPr>
          <a:xfrm>
            <a:off x="2722680" y="143352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"/>
          <p:cNvSpPr/>
          <p:nvPr/>
        </p:nvSpPr>
        <p:spPr>
          <a:xfrm>
            <a:off x="1011600" y="1092240"/>
            <a:ext cx="103572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0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"/>
          <p:cNvSpPr/>
          <p:nvPr/>
        </p:nvSpPr>
        <p:spPr>
          <a:xfrm>
            <a:off x="941400" y="5276880"/>
            <a:ext cx="2225520" cy="37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 need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not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diff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9840" y="0"/>
            <a:ext cx="845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erential C_comp (Bias = 0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09520" y="89676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623880" y="698400"/>
            <a:ext cx="8051760" cy="53341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803240" y="4335480"/>
            <a:ext cx="2808360" cy="82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ff. C_comp resembles a pass-b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lter (BW ~ 1/R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9840" y="0"/>
            <a:ext cx="84502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8520" y="5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"/>
          <p:cNvSpPr/>
          <p:nvPr/>
        </p:nvSpPr>
        <p:spPr>
          <a:xfrm>
            <a:off x="7197840" y="1009800"/>
            <a:ext cx="28080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"/>
          <p:cNvSpPr/>
          <p:nvPr/>
        </p:nvSpPr>
        <p:spPr>
          <a:xfrm>
            <a:off x="4152960" y="114444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29000" y="114912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171600" y="1135080"/>
            <a:ext cx="612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"/>
          <p:cNvSpPr/>
          <p:nvPr/>
        </p:nvSpPr>
        <p:spPr>
          <a:xfrm>
            <a:off x="7020000" y="151596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115880" y="2101320"/>
            <a:ext cx="345960" cy="562680"/>
            <a:chOff x="4115880" y="2101320"/>
            <a:chExt cx="345960" cy="562680"/>
          </a:xfrm>
        </p:grpSpPr>
        <p:sp>
          <p:nvSpPr>
            <p:cNvPr id="847" name=""/>
            <p:cNvSpPr/>
            <p:nvPr/>
          </p:nvSpPr>
          <p:spPr>
            <a:xfrm flipV="1">
              <a:off x="4289040" y="210132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4115880" y="2541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66640" y="26020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212720" y="2664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6626160" y="2125800"/>
            <a:ext cx="468360" cy="88920"/>
            <a:chOff x="6626160" y="2125800"/>
            <a:chExt cx="468360" cy="88920"/>
          </a:xfrm>
        </p:grpSpPr>
        <p:sp>
          <p:nvSpPr>
            <p:cNvPr id="852" name=""/>
            <p:cNvSpPr/>
            <p:nvPr/>
          </p:nvSpPr>
          <p:spPr>
            <a:xfrm>
              <a:off x="6626160" y="2214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26160" y="2125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6856560" y="1160640"/>
            <a:ext cx="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6678360" y="2628720"/>
            <a:ext cx="345960" cy="563760"/>
            <a:chOff x="6678360" y="2628720"/>
            <a:chExt cx="345960" cy="563760"/>
          </a:xfrm>
        </p:grpSpPr>
        <p:sp>
          <p:nvSpPr>
            <p:cNvPr id="856" name=""/>
            <p:cNvSpPr/>
            <p:nvPr/>
          </p:nvSpPr>
          <p:spPr>
            <a:xfrm flipV="1">
              <a:off x="6851520" y="26287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678360" y="30700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729120" y="31302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75200" y="3192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854760" y="22366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"/>
          <p:cNvSpPr/>
          <p:nvPr/>
        </p:nvSpPr>
        <p:spPr>
          <a:xfrm>
            <a:off x="7225920" y="1984320"/>
            <a:ext cx="1377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000680" y="907200"/>
            <a:ext cx="145440" cy="487440"/>
            <a:chOff x="4000680" y="907200"/>
            <a:chExt cx="145440" cy="487440"/>
          </a:xfrm>
        </p:grpSpPr>
        <p:sp>
          <p:nvSpPr>
            <p:cNvPr id="863" name=""/>
            <p:cNvSpPr/>
            <p:nvPr/>
          </p:nvSpPr>
          <p:spPr>
            <a:xfrm>
              <a:off x="4146120" y="90720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4000680" y="90756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933280" y="2027160"/>
            <a:ext cx="345960" cy="563760"/>
            <a:chOff x="2933280" y="2027160"/>
            <a:chExt cx="345960" cy="563760"/>
          </a:xfrm>
        </p:grpSpPr>
        <p:sp>
          <p:nvSpPr>
            <p:cNvPr id="866" name=""/>
            <p:cNvSpPr/>
            <p:nvPr/>
          </p:nvSpPr>
          <p:spPr>
            <a:xfrm flipV="1">
              <a:off x="3106440" y="202716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33280" y="24685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984040" y="25286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3030120" y="2590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533040" y="622440"/>
            <a:ext cx="1402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808360" y="1463760"/>
            <a:ext cx="352080" cy="574200"/>
            <a:chOff x="2808360" y="1463760"/>
            <a:chExt cx="352080" cy="574200"/>
          </a:xfrm>
        </p:grpSpPr>
        <p:sp>
          <p:nvSpPr>
            <p:cNvPr id="872" name=""/>
            <p:cNvSpPr/>
            <p:nvPr/>
          </p:nvSpPr>
          <p:spPr>
            <a:xfrm flipH="1">
              <a:off x="2838240" y="14637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2836800" y="15570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35360" y="16527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2833560" y="17463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809800" y="18493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2808360" y="19425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967200" y="1582560"/>
            <a:ext cx="352080" cy="512640"/>
            <a:chOff x="3967200" y="1582560"/>
            <a:chExt cx="352080" cy="512640"/>
          </a:xfrm>
        </p:grpSpPr>
        <p:sp>
          <p:nvSpPr>
            <p:cNvPr id="879" name=""/>
            <p:cNvSpPr/>
            <p:nvPr/>
          </p:nvSpPr>
          <p:spPr>
            <a:xfrm flipH="1">
              <a:off x="3997080" y="158256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3995640" y="166608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94200" y="17514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3992400" y="18349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968640" y="19267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967200" y="201024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321440" y="18288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"/>
          <p:cNvSpPr/>
          <p:nvPr/>
        </p:nvSpPr>
        <p:spPr>
          <a:xfrm>
            <a:off x="3187440" y="138744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692680" y="11415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424480" y="2714760"/>
            <a:ext cx="468360" cy="88920"/>
            <a:chOff x="5424480" y="2714760"/>
            <a:chExt cx="468360" cy="88920"/>
          </a:xfrm>
        </p:grpSpPr>
        <p:sp>
          <p:nvSpPr>
            <p:cNvPr id="889" name=""/>
            <p:cNvSpPr/>
            <p:nvPr/>
          </p:nvSpPr>
          <p:spPr>
            <a:xfrm>
              <a:off x="5424480" y="280368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24480" y="271476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454360" y="2787480"/>
            <a:ext cx="345960" cy="563760"/>
            <a:chOff x="5454360" y="2787480"/>
            <a:chExt cx="345960" cy="563760"/>
          </a:xfrm>
        </p:grpSpPr>
        <p:sp>
          <p:nvSpPr>
            <p:cNvPr id="892" name=""/>
            <p:cNvSpPr/>
            <p:nvPr/>
          </p:nvSpPr>
          <p:spPr>
            <a:xfrm flipV="1">
              <a:off x="5627520" y="278748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454360" y="32288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505120" y="32889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551200" y="33512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329080" y="1574640"/>
            <a:ext cx="352080" cy="563760"/>
            <a:chOff x="5329080" y="1574640"/>
            <a:chExt cx="352080" cy="563760"/>
          </a:xfrm>
        </p:grpSpPr>
        <p:sp>
          <p:nvSpPr>
            <p:cNvPr id="897" name=""/>
            <p:cNvSpPr/>
            <p:nvPr/>
          </p:nvSpPr>
          <p:spPr>
            <a:xfrm flipH="1">
              <a:off x="5358960" y="157464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357520" y="166644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56080" y="176004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5354280" y="185148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5330520" y="1953000"/>
              <a:ext cx="32220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5329080" y="2044800"/>
              <a:ext cx="32256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5640480" y="213984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"/>
          <p:cNvSpPr/>
          <p:nvPr/>
        </p:nvSpPr>
        <p:spPr>
          <a:xfrm>
            <a:off x="5749560" y="139716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"/>
          <p:cNvSpPr/>
          <p:nvPr/>
        </p:nvSpPr>
        <p:spPr>
          <a:xfrm>
            <a:off x="5664240" y="211464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"/>
          <p:cNvSpPr/>
          <p:nvPr/>
        </p:nvSpPr>
        <p:spPr>
          <a:xfrm>
            <a:off x="3168720" y="1139760"/>
            <a:ext cx="82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"/>
          <p:cNvSpPr/>
          <p:nvPr/>
        </p:nvSpPr>
        <p:spPr>
          <a:xfrm>
            <a:off x="6411960" y="3719520"/>
            <a:ext cx="28080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"/>
          <p:cNvSpPr/>
          <p:nvPr/>
        </p:nvSpPr>
        <p:spPr>
          <a:xfrm>
            <a:off x="3367080" y="386064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543480" y="38462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322440" y="4908240"/>
            <a:ext cx="345960" cy="563760"/>
            <a:chOff x="3322440" y="4908240"/>
            <a:chExt cx="345960" cy="563760"/>
          </a:xfrm>
        </p:grpSpPr>
        <p:sp>
          <p:nvSpPr>
            <p:cNvPr id="911" name=""/>
            <p:cNvSpPr/>
            <p:nvPr/>
          </p:nvSpPr>
          <p:spPr>
            <a:xfrm flipV="1">
              <a:off x="3495600" y="490824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322440" y="53496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373200" y="54097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419280" y="54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40280" y="4842000"/>
            <a:ext cx="468360" cy="88920"/>
            <a:chOff x="5840280" y="4842000"/>
            <a:chExt cx="468360" cy="88920"/>
          </a:xfrm>
        </p:grpSpPr>
        <p:sp>
          <p:nvSpPr>
            <p:cNvPr id="916" name=""/>
            <p:cNvSpPr/>
            <p:nvPr/>
          </p:nvSpPr>
          <p:spPr>
            <a:xfrm>
              <a:off x="5840280" y="4930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40280" y="48420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6070680" y="3876840"/>
            <a:ext cx="0" cy="9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892480" y="5344920"/>
            <a:ext cx="345960" cy="563760"/>
            <a:chOff x="5892480" y="5344920"/>
            <a:chExt cx="345960" cy="563760"/>
          </a:xfrm>
        </p:grpSpPr>
        <p:sp>
          <p:nvSpPr>
            <p:cNvPr id="920" name=""/>
            <p:cNvSpPr/>
            <p:nvPr/>
          </p:nvSpPr>
          <p:spPr>
            <a:xfrm flipV="1">
              <a:off x="6065640" y="53449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92480" y="5786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943240" y="5846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989320" y="59086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068880" y="49528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"/>
          <p:cNvSpPr/>
          <p:nvPr/>
        </p:nvSpPr>
        <p:spPr>
          <a:xfrm>
            <a:off x="6440400" y="4635360"/>
            <a:ext cx="13924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3214800" y="3621960"/>
            <a:ext cx="145440" cy="488880"/>
            <a:chOff x="3214800" y="3621960"/>
            <a:chExt cx="145440" cy="488880"/>
          </a:xfrm>
        </p:grpSpPr>
        <p:sp>
          <p:nvSpPr>
            <p:cNvPr id="927" name=""/>
            <p:cNvSpPr/>
            <p:nvPr/>
          </p:nvSpPr>
          <p:spPr>
            <a:xfrm>
              <a:off x="3360240" y="362196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214800" y="362232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181320" y="4297320"/>
            <a:ext cx="352080" cy="623160"/>
            <a:chOff x="3181320" y="4297320"/>
            <a:chExt cx="352080" cy="623160"/>
          </a:xfrm>
        </p:grpSpPr>
        <p:sp>
          <p:nvSpPr>
            <p:cNvPr id="930" name=""/>
            <p:cNvSpPr/>
            <p:nvPr/>
          </p:nvSpPr>
          <p:spPr>
            <a:xfrm flipH="1">
              <a:off x="3211200" y="429732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3209760" y="43984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3208320" y="450252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206520" y="46036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182760" y="471600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181320" y="481716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6" name=""/>
          <p:cNvSpPr/>
          <p:nvPr/>
        </p:nvSpPr>
        <p:spPr>
          <a:xfrm flipV="1">
            <a:off x="2482920" y="3844440"/>
            <a:ext cx="693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"/>
          <p:cNvSpPr/>
          <p:nvPr/>
        </p:nvSpPr>
        <p:spPr>
          <a:xfrm>
            <a:off x="3535920" y="45435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"/>
          <p:cNvSpPr/>
          <p:nvPr/>
        </p:nvSpPr>
        <p:spPr>
          <a:xfrm>
            <a:off x="2482560" y="414324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906800" y="38577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4648320" y="5446800"/>
            <a:ext cx="468360" cy="88920"/>
            <a:chOff x="4648320" y="5446800"/>
            <a:chExt cx="468360" cy="88920"/>
          </a:xfrm>
        </p:grpSpPr>
        <p:sp>
          <p:nvSpPr>
            <p:cNvPr id="941" name=""/>
            <p:cNvSpPr/>
            <p:nvPr/>
          </p:nvSpPr>
          <p:spPr>
            <a:xfrm>
              <a:off x="4648320" y="55357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320" y="54468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687560" y="5519520"/>
            <a:ext cx="345960" cy="563760"/>
            <a:chOff x="4687560" y="5519520"/>
            <a:chExt cx="345960" cy="563760"/>
          </a:xfrm>
        </p:grpSpPr>
        <p:sp>
          <p:nvSpPr>
            <p:cNvPr id="944" name=""/>
            <p:cNvSpPr/>
            <p:nvPr/>
          </p:nvSpPr>
          <p:spPr>
            <a:xfrm flipV="1">
              <a:off x="4860720" y="55195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687560" y="59608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738320" y="60210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784400" y="60832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543560" y="4290840"/>
            <a:ext cx="352080" cy="573120"/>
            <a:chOff x="4543560" y="4290840"/>
            <a:chExt cx="352080" cy="573120"/>
          </a:xfrm>
        </p:grpSpPr>
        <p:sp>
          <p:nvSpPr>
            <p:cNvPr id="949" name=""/>
            <p:cNvSpPr/>
            <p:nvPr/>
          </p:nvSpPr>
          <p:spPr>
            <a:xfrm flipH="1">
              <a:off x="4573440" y="42908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4572000" y="43840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570560" y="447912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4568760" y="457236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545000" y="46753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4543560" y="476892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4863960" y="487368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"/>
          <p:cNvSpPr/>
          <p:nvPr/>
        </p:nvSpPr>
        <p:spPr>
          <a:xfrm>
            <a:off x="4957560" y="4125960"/>
            <a:ext cx="735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"/>
          <p:cNvSpPr/>
          <p:nvPr/>
        </p:nvSpPr>
        <p:spPr>
          <a:xfrm>
            <a:off x="3125520" y="3203640"/>
            <a:ext cx="1418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8.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2476440" y="385596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2263320" y="4768560"/>
            <a:ext cx="345960" cy="563760"/>
            <a:chOff x="2263320" y="4768560"/>
            <a:chExt cx="345960" cy="563760"/>
          </a:xfrm>
        </p:grpSpPr>
        <p:sp>
          <p:nvSpPr>
            <p:cNvPr id="960" name=""/>
            <p:cNvSpPr/>
            <p:nvPr/>
          </p:nvSpPr>
          <p:spPr>
            <a:xfrm flipV="1">
              <a:off x="2436480" y="47685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2263320" y="52099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2314080" y="52700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360160" y="53323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112840" y="4205160"/>
            <a:ext cx="352080" cy="574560"/>
            <a:chOff x="2112840" y="4205160"/>
            <a:chExt cx="352080" cy="574560"/>
          </a:xfrm>
        </p:grpSpPr>
        <p:sp>
          <p:nvSpPr>
            <p:cNvPr id="965" name=""/>
            <p:cNvSpPr/>
            <p:nvPr/>
          </p:nvSpPr>
          <p:spPr>
            <a:xfrm flipH="1">
              <a:off x="2142720" y="4205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2141280" y="42984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2139840" y="43941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138040" y="44881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2114280" y="45907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2112840" y="46843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6235920" y="43164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"/>
          <p:cNvSpPr/>
          <p:nvPr/>
        </p:nvSpPr>
        <p:spPr>
          <a:xfrm>
            <a:off x="4897800" y="4865760"/>
            <a:ext cx="12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33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"/>
          <p:cNvSpPr/>
          <p:nvPr/>
        </p:nvSpPr>
        <p:spPr>
          <a:xfrm>
            <a:off x="477360" y="15843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"/>
          <p:cNvSpPr/>
          <p:nvPr/>
        </p:nvSpPr>
        <p:spPr>
          <a:xfrm>
            <a:off x="2087640" y="1444680"/>
            <a:ext cx="622080" cy="2133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"/>
          <p:cNvSpPr/>
          <p:nvPr/>
        </p:nvSpPr>
        <p:spPr>
          <a:xfrm flipH="1" flipV="1">
            <a:off x="2498400" y="1134720"/>
            <a:ext cx="12600" cy="98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173320" y="2111400"/>
            <a:ext cx="352080" cy="574200"/>
            <a:chOff x="2173320" y="2111400"/>
            <a:chExt cx="352080" cy="574200"/>
          </a:xfrm>
        </p:grpSpPr>
        <p:sp>
          <p:nvSpPr>
            <p:cNvPr id="977" name=""/>
            <p:cNvSpPr/>
            <p:nvPr/>
          </p:nvSpPr>
          <p:spPr>
            <a:xfrm flipH="1">
              <a:off x="2203200" y="21114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2201760" y="22046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200320" y="23004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198520" y="23940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174760" y="2496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173320" y="25902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3" name=""/>
          <p:cNvSpPr/>
          <p:nvPr/>
        </p:nvSpPr>
        <p:spPr>
          <a:xfrm flipV="1">
            <a:off x="2473200" y="269676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"/>
          <p:cNvSpPr/>
          <p:nvPr/>
        </p:nvSpPr>
        <p:spPr>
          <a:xfrm>
            <a:off x="2498760" y="113976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"/>
          <p:cNvSpPr/>
          <p:nvPr/>
        </p:nvSpPr>
        <p:spPr>
          <a:xfrm>
            <a:off x="783720" y="754200"/>
            <a:ext cx="137556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75 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1760" y="0"/>
            <a:ext cx="7431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. C_comp (Bias = 0.75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17440" y="84888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441360" y="635040"/>
            <a:ext cx="7962840" cy="553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50480" y="-360"/>
            <a:ext cx="84596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About Differential C_comp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0" y="61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"/>
          <p:cNvSpPr/>
          <p:nvPr/>
        </p:nvSpPr>
        <p:spPr>
          <a:xfrm>
            <a:off x="6926400" y="1143000"/>
            <a:ext cx="280800" cy="26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>
            <a:off x="3881520" y="1278000"/>
            <a:ext cx="30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57560" y="128232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2900160" y="1268280"/>
            <a:ext cx="612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"/>
          <p:cNvSpPr/>
          <p:nvPr/>
        </p:nvSpPr>
        <p:spPr>
          <a:xfrm>
            <a:off x="6748560" y="164952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844440" y="2235240"/>
            <a:ext cx="345960" cy="561960"/>
            <a:chOff x="3844440" y="2235240"/>
            <a:chExt cx="345960" cy="561960"/>
          </a:xfrm>
        </p:grpSpPr>
        <p:sp>
          <p:nvSpPr>
            <p:cNvPr id="997" name=""/>
            <p:cNvSpPr/>
            <p:nvPr/>
          </p:nvSpPr>
          <p:spPr>
            <a:xfrm flipV="1">
              <a:off x="4017600" y="22352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844440" y="26751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3895200" y="27352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3941280" y="27972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354720" y="2259000"/>
            <a:ext cx="468360" cy="88920"/>
            <a:chOff x="6354720" y="2259000"/>
            <a:chExt cx="468360" cy="88920"/>
          </a:xfrm>
        </p:grpSpPr>
        <p:sp>
          <p:nvSpPr>
            <p:cNvPr id="1002" name=""/>
            <p:cNvSpPr/>
            <p:nvPr/>
          </p:nvSpPr>
          <p:spPr>
            <a:xfrm>
              <a:off x="6354720" y="2347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54720" y="22590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585120" y="129384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406920" y="2761920"/>
            <a:ext cx="345960" cy="563760"/>
            <a:chOff x="6406920" y="2761920"/>
            <a:chExt cx="345960" cy="563760"/>
          </a:xfrm>
        </p:grpSpPr>
        <p:sp>
          <p:nvSpPr>
            <p:cNvPr id="1006" name=""/>
            <p:cNvSpPr/>
            <p:nvPr/>
          </p:nvSpPr>
          <p:spPr>
            <a:xfrm flipV="1">
              <a:off x="6580080" y="27619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406920" y="32032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457680" y="3263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6503760" y="33256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6583320" y="23702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"/>
          <p:cNvSpPr/>
          <p:nvPr/>
        </p:nvSpPr>
        <p:spPr>
          <a:xfrm>
            <a:off x="6649920" y="2511360"/>
            <a:ext cx="1681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3728880" y="1040400"/>
            <a:ext cx="145800" cy="487440"/>
            <a:chOff x="3728880" y="1040400"/>
            <a:chExt cx="145800" cy="487440"/>
          </a:xfrm>
        </p:grpSpPr>
        <p:sp>
          <p:nvSpPr>
            <p:cNvPr id="1013" name=""/>
            <p:cNvSpPr/>
            <p:nvPr/>
          </p:nvSpPr>
          <p:spPr>
            <a:xfrm>
              <a:off x="3874680" y="104040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3728880" y="1040760"/>
              <a:ext cx="0" cy="48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2661840" y="2160360"/>
            <a:ext cx="345960" cy="563760"/>
            <a:chOff x="2661840" y="2160360"/>
            <a:chExt cx="345960" cy="563760"/>
          </a:xfrm>
        </p:grpSpPr>
        <p:sp>
          <p:nvSpPr>
            <p:cNvPr id="1016" name=""/>
            <p:cNvSpPr/>
            <p:nvPr/>
          </p:nvSpPr>
          <p:spPr>
            <a:xfrm flipV="1">
              <a:off x="2835000" y="216036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661840" y="260172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712600" y="266184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758680" y="27241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261600" y="755640"/>
            <a:ext cx="1555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536920" y="1596960"/>
            <a:ext cx="352080" cy="574560"/>
            <a:chOff x="2536920" y="1596960"/>
            <a:chExt cx="352080" cy="574560"/>
          </a:xfrm>
        </p:grpSpPr>
        <p:sp>
          <p:nvSpPr>
            <p:cNvPr id="1022" name=""/>
            <p:cNvSpPr/>
            <p:nvPr/>
          </p:nvSpPr>
          <p:spPr>
            <a:xfrm flipH="1">
              <a:off x="2566800" y="1596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2565360" y="16902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63920" y="17859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2562120" y="18799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38360" y="19825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536920" y="20761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3695760" y="1716120"/>
            <a:ext cx="352080" cy="512640"/>
            <a:chOff x="3695760" y="1716120"/>
            <a:chExt cx="352080" cy="512640"/>
          </a:xfrm>
        </p:grpSpPr>
        <p:sp>
          <p:nvSpPr>
            <p:cNvPr id="1029" name=""/>
            <p:cNvSpPr/>
            <p:nvPr/>
          </p:nvSpPr>
          <p:spPr>
            <a:xfrm flipH="1">
              <a:off x="3725640" y="17161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3724200" y="179964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3722760" y="18846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3720960" y="19681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697200" y="2059920"/>
              <a:ext cx="32220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3695760" y="2143800"/>
              <a:ext cx="322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050000" y="196200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"/>
          <p:cNvSpPr/>
          <p:nvPr/>
        </p:nvSpPr>
        <p:spPr>
          <a:xfrm>
            <a:off x="2916000" y="152100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421240" y="12744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5153040" y="2847960"/>
            <a:ext cx="468360" cy="88920"/>
            <a:chOff x="5153040" y="2847960"/>
            <a:chExt cx="468360" cy="88920"/>
          </a:xfrm>
        </p:grpSpPr>
        <p:sp>
          <p:nvSpPr>
            <p:cNvPr id="1039" name=""/>
            <p:cNvSpPr/>
            <p:nvPr/>
          </p:nvSpPr>
          <p:spPr>
            <a:xfrm>
              <a:off x="5153040" y="29368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53040" y="28479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195520" y="2933640"/>
            <a:ext cx="345960" cy="563760"/>
            <a:chOff x="5195520" y="2933640"/>
            <a:chExt cx="345960" cy="563760"/>
          </a:xfrm>
        </p:grpSpPr>
        <p:sp>
          <p:nvSpPr>
            <p:cNvPr id="1042" name=""/>
            <p:cNvSpPr/>
            <p:nvPr/>
          </p:nvSpPr>
          <p:spPr>
            <a:xfrm flipV="1">
              <a:off x="5368680" y="293364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195520" y="3375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5246280" y="34351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92360" y="34974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5057640" y="1708200"/>
            <a:ext cx="352080" cy="562680"/>
            <a:chOff x="5057640" y="1708200"/>
            <a:chExt cx="352080" cy="562680"/>
          </a:xfrm>
        </p:grpSpPr>
        <p:sp>
          <p:nvSpPr>
            <p:cNvPr id="1047" name=""/>
            <p:cNvSpPr/>
            <p:nvPr/>
          </p:nvSpPr>
          <p:spPr>
            <a:xfrm flipH="1">
              <a:off x="5087520" y="17082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5086080" y="179964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084640" y="1893600"/>
              <a:ext cx="32256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5082840" y="198504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059080" y="2086200"/>
              <a:ext cx="32220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5057640" y="2177640"/>
              <a:ext cx="32256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5369040" y="227340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"/>
          <p:cNvSpPr/>
          <p:nvPr/>
        </p:nvSpPr>
        <p:spPr>
          <a:xfrm>
            <a:off x="5478120" y="153036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"/>
          <p:cNvSpPr/>
          <p:nvPr/>
        </p:nvSpPr>
        <p:spPr>
          <a:xfrm>
            <a:off x="5392440" y="224784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"/>
          <p:cNvSpPr/>
          <p:nvPr/>
        </p:nvSpPr>
        <p:spPr>
          <a:xfrm>
            <a:off x="2897280" y="1273320"/>
            <a:ext cx="82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"/>
          <p:cNvSpPr/>
          <p:nvPr/>
        </p:nvSpPr>
        <p:spPr>
          <a:xfrm>
            <a:off x="6140520" y="3852720"/>
            <a:ext cx="280800" cy="26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"/>
          <p:cNvSpPr/>
          <p:nvPr/>
        </p:nvSpPr>
        <p:spPr>
          <a:xfrm>
            <a:off x="3095640" y="3994200"/>
            <a:ext cx="30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271680" y="397944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050640" y="5041800"/>
            <a:ext cx="345960" cy="563760"/>
            <a:chOff x="3050640" y="5041800"/>
            <a:chExt cx="345960" cy="563760"/>
          </a:xfrm>
        </p:grpSpPr>
        <p:sp>
          <p:nvSpPr>
            <p:cNvPr id="1061" name=""/>
            <p:cNvSpPr/>
            <p:nvPr/>
          </p:nvSpPr>
          <p:spPr>
            <a:xfrm flipV="1">
              <a:off x="3223800" y="504180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3050640" y="54831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3101400" y="554328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3147480" y="5605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568840" y="4975200"/>
            <a:ext cx="468360" cy="88920"/>
            <a:chOff x="5568840" y="4975200"/>
            <a:chExt cx="468360" cy="88920"/>
          </a:xfrm>
        </p:grpSpPr>
        <p:sp>
          <p:nvSpPr>
            <p:cNvPr id="1066" name=""/>
            <p:cNvSpPr/>
            <p:nvPr/>
          </p:nvSpPr>
          <p:spPr>
            <a:xfrm>
              <a:off x="5568840" y="5064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68840" y="497520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799240" y="401004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621040" y="5478120"/>
            <a:ext cx="345960" cy="563760"/>
            <a:chOff x="5621040" y="5478120"/>
            <a:chExt cx="345960" cy="563760"/>
          </a:xfrm>
        </p:grpSpPr>
        <p:sp>
          <p:nvSpPr>
            <p:cNvPr id="1070" name=""/>
            <p:cNvSpPr/>
            <p:nvPr/>
          </p:nvSpPr>
          <p:spPr>
            <a:xfrm flipV="1">
              <a:off x="5794200" y="54781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5621040" y="5919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671800" y="5979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717880" y="6041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5797440" y="508644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"/>
          <p:cNvSpPr/>
          <p:nvPr/>
        </p:nvSpPr>
        <p:spPr>
          <a:xfrm>
            <a:off x="6168960" y="4768920"/>
            <a:ext cx="16970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943360" y="3755160"/>
            <a:ext cx="145440" cy="488880"/>
            <a:chOff x="2943360" y="3755160"/>
            <a:chExt cx="145440" cy="488880"/>
          </a:xfrm>
        </p:grpSpPr>
        <p:sp>
          <p:nvSpPr>
            <p:cNvPr id="1077" name=""/>
            <p:cNvSpPr/>
            <p:nvPr/>
          </p:nvSpPr>
          <p:spPr>
            <a:xfrm>
              <a:off x="3088800" y="375516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943360" y="3755520"/>
              <a:ext cx="0" cy="48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909880" y="4430880"/>
            <a:ext cx="352080" cy="623160"/>
            <a:chOff x="2909880" y="4430880"/>
            <a:chExt cx="352080" cy="623160"/>
          </a:xfrm>
        </p:grpSpPr>
        <p:sp>
          <p:nvSpPr>
            <p:cNvPr id="1080" name=""/>
            <p:cNvSpPr/>
            <p:nvPr/>
          </p:nvSpPr>
          <p:spPr>
            <a:xfrm flipH="1">
              <a:off x="2939760" y="443088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2938320" y="45320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936880" y="463608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2935080" y="473724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911320" y="4849560"/>
              <a:ext cx="32220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2909880" y="4950720"/>
              <a:ext cx="3225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V="1">
            <a:off x="2211480" y="3978360"/>
            <a:ext cx="693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"/>
          <p:cNvSpPr/>
          <p:nvPr/>
        </p:nvSpPr>
        <p:spPr>
          <a:xfrm>
            <a:off x="3264480" y="4676760"/>
            <a:ext cx="88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"/>
          <p:cNvSpPr/>
          <p:nvPr/>
        </p:nvSpPr>
        <p:spPr>
          <a:xfrm>
            <a:off x="2211120" y="4276800"/>
            <a:ext cx="7524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4635360" y="39906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376880" y="5580000"/>
            <a:ext cx="468000" cy="88920"/>
            <a:chOff x="4376880" y="5580000"/>
            <a:chExt cx="468000" cy="88920"/>
          </a:xfrm>
        </p:grpSpPr>
        <p:sp>
          <p:nvSpPr>
            <p:cNvPr id="1091" name=""/>
            <p:cNvSpPr/>
            <p:nvPr/>
          </p:nvSpPr>
          <p:spPr>
            <a:xfrm>
              <a:off x="4376880" y="566892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76880" y="55800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416120" y="5652720"/>
            <a:ext cx="345960" cy="563760"/>
            <a:chOff x="4416120" y="5652720"/>
            <a:chExt cx="345960" cy="563760"/>
          </a:xfrm>
        </p:grpSpPr>
        <p:sp>
          <p:nvSpPr>
            <p:cNvPr id="1094" name=""/>
            <p:cNvSpPr/>
            <p:nvPr/>
          </p:nvSpPr>
          <p:spPr>
            <a:xfrm flipV="1">
              <a:off x="4589280" y="5652720"/>
              <a:ext cx="0" cy="44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416120" y="60940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466880" y="61542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4512960" y="6216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272120" y="4424400"/>
            <a:ext cx="352080" cy="573120"/>
            <a:chOff x="4272120" y="4424400"/>
            <a:chExt cx="352080" cy="573120"/>
          </a:xfrm>
        </p:grpSpPr>
        <p:sp>
          <p:nvSpPr>
            <p:cNvPr id="1099" name=""/>
            <p:cNvSpPr/>
            <p:nvPr/>
          </p:nvSpPr>
          <p:spPr>
            <a:xfrm flipH="1">
              <a:off x="4302000" y="442440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4300560" y="451764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4299120" y="46126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4297320" y="4705920"/>
              <a:ext cx="322200" cy="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4273560" y="480888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4272120" y="4902480"/>
              <a:ext cx="32256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4592520" y="500688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"/>
          <p:cNvSpPr/>
          <p:nvPr/>
        </p:nvSpPr>
        <p:spPr>
          <a:xfrm>
            <a:off x="4686120" y="4259160"/>
            <a:ext cx="8877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"/>
          <p:cNvSpPr/>
          <p:nvPr/>
        </p:nvSpPr>
        <p:spPr>
          <a:xfrm>
            <a:off x="2854080" y="3336840"/>
            <a:ext cx="1570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86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205000" y="3989160"/>
            <a:ext cx="0" cy="37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991880" y="4902120"/>
            <a:ext cx="345960" cy="563760"/>
            <a:chOff x="1991880" y="4902120"/>
            <a:chExt cx="345960" cy="563760"/>
          </a:xfrm>
        </p:grpSpPr>
        <p:sp>
          <p:nvSpPr>
            <p:cNvPr id="1110" name=""/>
            <p:cNvSpPr/>
            <p:nvPr/>
          </p:nvSpPr>
          <p:spPr>
            <a:xfrm flipV="1">
              <a:off x="2165040" y="4902120"/>
              <a:ext cx="0" cy="44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1991880" y="534348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2042640" y="54036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2088720" y="54658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841400" y="4338720"/>
            <a:ext cx="352080" cy="574200"/>
            <a:chOff x="1841400" y="4338720"/>
            <a:chExt cx="352080" cy="574200"/>
          </a:xfrm>
        </p:grpSpPr>
        <p:sp>
          <p:nvSpPr>
            <p:cNvPr id="1115" name=""/>
            <p:cNvSpPr/>
            <p:nvPr/>
          </p:nvSpPr>
          <p:spPr>
            <a:xfrm flipH="1">
              <a:off x="1871280" y="433872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1869840" y="44319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1868400" y="45277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1866600" y="462132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1842840" y="472428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1841400" y="481752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5964480" y="4449600"/>
            <a:ext cx="56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"/>
          <p:cNvSpPr/>
          <p:nvPr/>
        </p:nvSpPr>
        <p:spPr>
          <a:xfrm>
            <a:off x="4626000" y="499896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"/>
          <p:cNvSpPr/>
          <p:nvPr/>
        </p:nvSpPr>
        <p:spPr>
          <a:xfrm>
            <a:off x="205920" y="1717560"/>
            <a:ext cx="16804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match 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2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high Hz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P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2N ad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up, ac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differen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16200" y="1577880"/>
            <a:ext cx="622080" cy="2133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"/>
          <p:cNvSpPr/>
          <p:nvPr/>
        </p:nvSpPr>
        <p:spPr>
          <a:xfrm flipH="1" flipV="1">
            <a:off x="2226960" y="1268280"/>
            <a:ext cx="12600" cy="98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901880" y="2244600"/>
            <a:ext cx="352080" cy="574560"/>
            <a:chOff x="1901880" y="2244600"/>
            <a:chExt cx="352080" cy="574560"/>
          </a:xfrm>
        </p:grpSpPr>
        <p:sp>
          <p:nvSpPr>
            <p:cNvPr id="1127" name=""/>
            <p:cNvSpPr/>
            <p:nvPr/>
          </p:nvSpPr>
          <p:spPr>
            <a:xfrm flipH="1">
              <a:off x="1931760" y="224460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 flipV="1">
              <a:off x="1930320" y="233784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1928880" y="243360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1927080" y="2527560"/>
              <a:ext cx="32220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903320" y="2630160"/>
              <a:ext cx="322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1901880" y="2723760"/>
              <a:ext cx="32256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V="1">
            <a:off x="2201760" y="2830320"/>
            <a:ext cx="0" cy="11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"/>
          <p:cNvSpPr/>
          <p:nvPr/>
        </p:nvSpPr>
        <p:spPr>
          <a:xfrm>
            <a:off x="2227320" y="127332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"/>
          <p:cNvSpPr/>
          <p:nvPr/>
        </p:nvSpPr>
        <p:spPr>
          <a:xfrm>
            <a:off x="502560" y="887400"/>
            <a:ext cx="1260000" cy="33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i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.5 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743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iff. C_comp (Bias = 1.5 V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0" y="1039680"/>
            <a:ext cx="823752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84200" y="765000"/>
            <a:ext cx="8204040" cy="547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Simple Propos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6040" y="668160"/>
            <a:ext cx="8237520" cy="52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 two “traditional” IBIS keywords to IBIS 5.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[C_comp Series R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[C_comp Series C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_comp Series 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anch </a:t>
            </a:r>
            <a:r>
              <a:rPr b="1" lang="en-US" sz="1600" spc="-1" strike="noStrike">
                <a:solidFill>
                  <a:srgbClr val="c7015b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units below are volts, oh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Voltage          typ      min    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75               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5               8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_comp Series C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anch </a:t>
            </a:r>
            <a:r>
              <a:rPr b="1" lang="en-US" sz="1600" spc="-1" strike="noStrike">
                <a:solidFill>
                  <a:srgbClr val="c7015b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units below are volts, fara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Voltage          typ    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    ma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4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75              2.33p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5               1.63p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      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3341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oncep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6040" y="754200"/>
            <a:ext cx="82375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captures both buffer Z(f) and Z(V) variations, improving time- and frequency-domain mod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upports the “Rdie” DDR approach currently documented by JEDE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voids direct frequency-based tables, difficult extraction methods or extensive model pre-processing. 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rting these in today's tools should not represent any more of a burden than classic C_comp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ables here cover an I-V-like voltage range, but need not match I-V ranges for any particular table.  In many cases a pair of voltage rows for a particular [... R] and [... C] with different voltages but identical R and C values per corner would be perfectly adequate.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06520" y="1108080"/>
            <a:ext cx="7304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6280" y="2112840"/>
            <a:ext cx="468360" cy="93600"/>
            <a:chOff x="476280" y="2112840"/>
            <a:chExt cx="468360" cy="93600"/>
          </a:xfrm>
        </p:grpSpPr>
        <p:sp>
          <p:nvSpPr>
            <p:cNvPr id="94" name=""/>
            <p:cNvSpPr/>
            <p:nvPr/>
          </p:nvSpPr>
          <p:spPr>
            <a:xfrm>
              <a:off x="476280" y="22064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6280" y="211284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06320" y="1098720"/>
            <a:ext cx="0" cy="10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9120" y="2642760"/>
            <a:ext cx="374400" cy="592560"/>
            <a:chOff x="519120" y="2642760"/>
            <a:chExt cx="374400" cy="592560"/>
          </a:xfrm>
        </p:grpSpPr>
        <p:sp>
          <p:nvSpPr>
            <p:cNvPr id="98" name=""/>
            <p:cNvSpPr/>
            <p:nvPr/>
          </p:nvSpPr>
          <p:spPr>
            <a:xfrm flipV="1">
              <a:off x="705960" y="264276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19120" y="3106800"/>
              <a:ext cx="37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73480" y="3170160"/>
              <a:ext cx="26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23880" y="3235320"/>
              <a:ext cx="16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04880" y="2230560"/>
            <a:ext cx="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1706400"/>
            <a:ext cx="691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7827840" y="947880"/>
            <a:ext cx="28116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8160" y="2468520"/>
            <a:ext cx="468360" cy="93600"/>
            <a:chOff x="1838160" y="2468520"/>
            <a:chExt cx="468360" cy="93600"/>
          </a:xfrm>
        </p:grpSpPr>
        <p:sp>
          <p:nvSpPr>
            <p:cNvPr id="106" name=""/>
            <p:cNvSpPr/>
            <p:nvPr/>
          </p:nvSpPr>
          <p:spPr>
            <a:xfrm>
              <a:off x="1838160" y="25621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8160" y="2468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17360" y="2572920"/>
            <a:ext cx="345960" cy="592560"/>
            <a:chOff x="1917360" y="2572920"/>
            <a:chExt cx="345960" cy="592560"/>
          </a:xfrm>
        </p:grpSpPr>
        <p:sp>
          <p:nvSpPr>
            <p:cNvPr id="109" name=""/>
            <p:cNvSpPr/>
            <p:nvPr/>
          </p:nvSpPr>
          <p:spPr>
            <a:xfrm flipV="1">
              <a:off x="2090520" y="257292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17360" y="303696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968120" y="310032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014200" y="31654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046040" y="1455840"/>
            <a:ext cx="236520" cy="664560"/>
            <a:chOff x="4046040" y="1455840"/>
            <a:chExt cx="236520" cy="664560"/>
          </a:xfrm>
        </p:grpSpPr>
        <p:sp>
          <p:nvSpPr>
            <p:cNvPr id="114" name=""/>
            <p:cNvSpPr/>
            <p:nvPr/>
          </p:nvSpPr>
          <p:spPr>
            <a:xfrm flipH="1">
              <a:off x="4066560" y="145584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065480" y="15642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64040" y="16743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063320" y="17830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047480" y="19018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046040" y="201024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55440" y="1463760"/>
            <a:ext cx="236520" cy="664560"/>
            <a:chOff x="1855440" y="1463760"/>
            <a:chExt cx="236520" cy="664560"/>
          </a:xfrm>
        </p:grpSpPr>
        <p:sp>
          <p:nvSpPr>
            <p:cNvPr id="121" name=""/>
            <p:cNvSpPr/>
            <p:nvPr/>
          </p:nvSpPr>
          <p:spPr>
            <a:xfrm flipH="1">
              <a:off x="1875960" y="14637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874880" y="15721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73440" y="16822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872720" y="17910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56880" y="190980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855440" y="201816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082960" y="1123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098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079720" y="21272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002120" y="2482920"/>
            <a:ext cx="468360" cy="93600"/>
            <a:chOff x="4002120" y="2482920"/>
            <a:chExt cx="468360" cy="93600"/>
          </a:xfrm>
        </p:grpSpPr>
        <p:sp>
          <p:nvSpPr>
            <p:cNvPr id="131" name=""/>
            <p:cNvSpPr/>
            <p:nvPr/>
          </p:nvSpPr>
          <p:spPr>
            <a:xfrm>
              <a:off x="4002120" y="25765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2120" y="2482920"/>
              <a:ext cx="46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80960" y="2575080"/>
            <a:ext cx="345960" cy="591840"/>
            <a:chOff x="4080960" y="2575080"/>
            <a:chExt cx="345960" cy="591840"/>
          </a:xfrm>
        </p:grpSpPr>
        <p:sp>
          <p:nvSpPr>
            <p:cNvPr id="134" name=""/>
            <p:cNvSpPr/>
            <p:nvPr/>
          </p:nvSpPr>
          <p:spPr>
            <a:xfrm flipV="1">
              <a:off x="4254120" y="2575080"/>
              <a:ext cx="0" cy="46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80960" y="30384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31720" y="310176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177800" y="31669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243320" y="2128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742840" y="187308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82920" y="1473120"/>
            <a:ext cx="236520" cy="664920"/>
            <a:chOff x="6082920" y="1473120"/>
            <a:chExt cx="236520" cy="664920"/>
          </a:xfrm>
        </p:grpSpPr>
        <p:sp>
          <p:nvSpPr>
            <p:cNvPr id="141" name=""/>
            <p:cNvSpPr/>
            <p:nvPr/>
          </p:nvSpPr>
          <p:spPr>
            <a:xfrm flipH="1">
              <a:off x="6103440" y="14731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6102360" y="158148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100920" y="169200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100200" y="180036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084360" y="1919520"/>
              <a:ext cx="21600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082920" y="2027880"/>
              <a:ext cx="2163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321600" y="1116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039000" y="2500200"/>
            <a:ext cx="468000" cy="93600"/>
            <a:chOff x="6039000" y="2500200"/>
            <a:chExt cx="468000" cy="93600"/>
          </a:xfrm>
        </p:grpSpPr>
        <p:sp>
          <p:nvSpPr>
            <p:cNvPr id="149" name=""/>
            <p:cNvSpPr/>
            <p:nvPr/>
          </p:nvSpPr>
          <p:spPr>
            <a:xfrm>
              <a:off x="6039000" y="25938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39000" y="2500200"/>
              <a:ext cx="46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117840" y="2592000"/>
            <a:ext cx="345960" cy="592560"/>
            <a:chOff x="6117840" y="2592000"/>
            <a:chExt cx="345960" cy="592560"/>
          </a:xfrm>
        </p:grpSpPr>
        <p:sp>
          <p:nvSpPr>
            <p:cNvPr id="152" name=""/>
            <p:cNvSpPr/>
            <p:nvPr/>
          </p:nvSpPr>
          <p:spPr>
            <a:xfrm flipV="1">
              <a:off x="6291000" y="2592000"/>
              <a:ext cx="0" cy="46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117840" y="305604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68600" y="3119400"/>
              <a:ext cx="245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214680" y="31845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280200" y="2146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314440" y="1247760"/>
            <a:ext cx="400320" cy="1600200"/>
          </a:xfrm>
          <a:custGeom>
            <a:avLst/>
            <a:gdLst>
              <a:gd name="textAreaLeft" fmla="*/ 0 w 400320"/>
              <a:gd name="textAreaRight" fmla="*/ 144360 w 400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874760" y="190980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446720" y="1284120"/>
            <a:ext cx="399960" cy="1600200"/>
          </a:xfrm>
          <a:custGeom>
            <a:avLst/>
            <a:gdLst>
              <a:gd name="textAreaLeft" fmla="*/ 0 w 399960"/>
              <a:gd name="textAreaRight" fmla="*/ 144360 w 399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968880" y="1917720"/>
            <a:ext cx="1076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anch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1292400"/>
            <a:ext cx="399960" cy="1600200"/>
          </a:xfrm>
          <a:custGeom>
            <a:avLst/>
            <a:gdLst>
              <a:gd name="textAreaLeft" fmla="*/ 0 w 399960"/>
              <a:gd name="textAreaRight" fmla="*/ 144360 w 399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7015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8134200" y="2085840"/>
            <a:ext cx="762120" cy="0"/>
          </a:xfrm>
          <a:prstGeom prst="line">
            <a:avLst/>
          </a:prstGeom>
          <a:ln w="76320">
            <a:solidFill>
              <a:srgbClr val="c7015b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8224920" y="2173320"/>
            <a:ext cx="48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015b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Keyword Syntax Rul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705960"/>
            <a:ext cx="82375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C_comp Series R] and [C_comp Series C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re option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re hierarchically located within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ay appear multiple times within any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 only one subparameter, "Branch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 four columns of data after the required sub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lumns are voltage, and typ/min/max ohms (for [... Series R]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lumns are voltage, and typ/min/max farads (for [... Series C]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do not affect, override or interfere with existing C_comp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one is present, the other is required for any given Branch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oltage corresponds to pad vs. pulldown/ground clamp rail (really, the bias voltage for AC swee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oltage sweep should correspond to pulldown range (-Vcc to 2*Vc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ust not contain negative values (voltage, capacitance or resistan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anch subparam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s required for any usage of [C_comp Series R] and/or [C_comp Series C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ins an integer argument, positive and non-ze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o two [... Series C] tables may have the same Branch value in the same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o two [... Series R] tables may have the same Branch value in the same [Model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76360" indent="-23652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multiple tables are present, one must use the value 1 and others must use sequential increasing Branch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158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ssu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6160" y="705960"/>
            <a:ext cx="845676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keywords are generally subject to the same usage rules and restrictions as C_comp (e.g., not in series devices or [Driver Schedule] scheduled model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special treatment or procedure is defined here for differential buffers.  A differential RC could be defined in a separate keyword structure, along with a differential C_com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keywords are not expected to be used with multi-lingual (IBIS 4.1/4.2) buff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BIS AMI should be unaffected, though the use of heavily voltage-dependent RC circuits may violate the LTI assumption in some c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keywords or subparameters may be required should separate RC circuits connected to the pullup rail, power clamp rail, etc. be nee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ct to and usage in ECL designs is unknow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9440" y="28350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From April &amp; October 2004</a:t>
            </a:r>
            <a:br>
              <a:rPr sz="2800"/>
            </a:b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IBIS Summits…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20132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8080" y="15192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How is C_comp data collected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9280" y="761760"/>
            <a:ext cx="7248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66"/>
                </a:solidFill>
                <a:latin typeface="Verdana"/>
              </a:rPr>
              <a:t>Common method for single-ended buffer C_co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Vsource with known edge rate, dV/d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 the input cur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capacitance (may have to take an aver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378080" y="1111320"/>
            <a:ext cx="5581440" cy="1896840"/>
            <a:chOff x="1378080" y="1111320"/>
            <a:chExt cx="5581440" cy="1896840"/>
          </a:xfrm>
        </p:grpSpPr>
        <p:sp>
          <p:nvSpPr>
            <p:cNvPr id="173" name=""/>
            <p:cNvSpPr/>
            <p:nvPr/>
          </p:nvSpPr>
          <p:spPr>
            <a:xfrm rot="5400000">
              <a:off x="1486080" y="1002960"/>
              <a:ext cx="1091160" cy="1307520"/>
            </a:xfrm>
            <a:prstGeom prst="triangle">
              <a:avLst>
                <a:gd name="adj" fmla="val 50000"/>
              </a:avLst>
            </a:prstGeom>
            <a:solidFill>
              <a:srgbClr val="ff5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49960" y="1661040"/>
              <a:ext cx="101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4920" y="14821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riv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55120" y="1893240"/>
              <a:ext cx="800280" cy="7304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4080" y="1652760"/>
              <a:ext cx="0" cy="2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39200" y="1849680"/>
              <a:ext cx="102276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64080" y="2615040"/>
              <a:ext cx="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6720" y="2838600"/>
              <a:ext cx="42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0520" y="2916000"/>
              <a:ext cx="26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3680" y="2990880"/>
              <a:ext cx="11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970000" y="1497960"/>
              <a:ext cx="791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758120" y="1987920"/>
              <a:ext cx="2080800" cy="627120"/>
              <a:chOff x="4758120" y="1987920"/>
              <a:chExt cx="2080800" cy="6271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389200" y="1996200"/>
                <a:ext cx="827280" cy="618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16480" y="198792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58120" y="2615040"/>
                <a:ext cx="622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13786800">
              <a:off x="5868360" y="2118600"/>
              <a:ext cx="412560" cy="889560"/>
            </a:xfrm>
            <a:custGeom>
              <a:avLst/>
              <a:gdLst>
                <a:gd name="textAreaLeft" fmla="*/ 263520 w 412560"/>
                <a:gd name="textAreaRight" fmla="*/ 412920 w 412560"/>
                <a:gd name="textAreaTop" fmla="*/ 23040 h 889560"/>
                <a:gd name="textAreaBottom" fmla="*/ 866520 h 88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7200" y="1129680"/>
              <a:ext cx="24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1480" y="207540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58640" y="210960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sourc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58960" y="26424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V/d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004760" y="4295880"/>
            <a:ext cx="5681520" cy="1038240"/>
            <a:chOff x="1004760" y="4295880"/>
            <a:chExt cx="5681520" cy="103824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04760" y="4295880"/>
                  <a:ext cx="17510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∗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814640" y="4314960"/>
                  <a:ext cx="187164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3841560" y="4505400"/>
              <a:ext cx="676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15920" y="5334120"/>
            <a:ext cx="6769080" cy="66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at about for the differential ca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ow about pre-emphasis (wired-or structures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6040" y="114480"/>
            <a:ext cx="74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BIS for SerDes Pre-Emphasi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419200" y="1571760"/>
            <a:ext cx="684360" cy="6379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760840" y="1636560"/>
            <a:ext cx="0" cy="50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760840" y="13809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760840" y="22096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873080" y="259236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8730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36496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68600" y="2909880"/>
            <a:ext cx="20448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64968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873080" y="322884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649680" y="322884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805040" y="3738600"/>
            <a:ext cx="136440" cy="1285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1668600" y="475920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482292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805040" y="48862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73080" y="3994200"/>
            <a:ext cx="204840" cy="636120"/>
            <a:chOff x="1873080" y="3994200"/>
            <a:chExt cx="204840" cy="636120"/>
          </a:xfrm>
        </p:grpSpPr>
        <p:sp>
          <p:nvSpPr>
            <p:cNvPr id="215" name=""/>
            <p:cNvSpPr/>
            <p:nvPr/>
          </p:nvSpPr>
          <p:spPr>
            <a:xfrm>
              <a:off x="1873080" y="399420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73080" y="42058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73080" y="4312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873080" y="4100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3080" y="4418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873080" y="4524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873080" y="4630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444840" y="475920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513240" y="482292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886280"/>
            <a:ext cx="13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49680" y="3994200"/>
            <a:ext cx="204840" cy="636120"/>
            <a:chOff x="3649680" y="3994200"/>
            <a:chExt cx="204840" cy="636120"/>
          </a:xfrm>
        </p:grpSpPr>
        <p:sp>
          <p:nvSpPr>
            <p:cNvPr id="226" name=""/>
            <p:cNvSpPr/>
            <p:nvPr/>
          </p:nvSpPr>
          <p:spPr>
            <a:xfrm>
              <a:off x="3649680" y="399420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9680" y="42058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649680" y="4312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49680" y="4100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9680" y="4418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649680" y="4524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649680" y="4630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357720"/>
            <a:ext cx="136800" cy="1267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1941480" y="380376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834160" y="1571760"/>
            <a:ext cx="684000" cy="637920"/>
          </a:xfrm>
          <a:prstGeom prst="ellipse">
            <a:avLst/>
          </a:prstGeom>
          <a:solidFill>
            <a:srgbClr val="ff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176880" y="1636560"/>
            <a:ext cx="0" cy="50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6176880" y="13809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6176880" y="22096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288040" y="259236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28804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7064280" y="2592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08284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290988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97160" y="2776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3938040" y="27828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758840" y="2782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7344360" y="27828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989360" y="34844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3097080" y="313380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489560" y="3989520"/>
            <a:ext cx="2241360" cy="1822320"/>
            <a:chOff x="4489560" y="3989520"/>
            <a:chExt cx="2241360" cy="1822320"/>
          </a:xfrm>
        </p:grpSpPr>
        <p:sp>
          <p:nvSpPr>
            <p:cNvPr id="251" name=""/>
            <p:cNvSpPr/>
            <p:nvPr/>
          </p:nvSpPr>
          <p:spPr>
            <a:xfrm>
              <a:off x="4489560" y="398952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Pre-Emphasi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62600" y="453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77000" y="453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05400" y="4987800"/>
              <a:ext cx="2225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De-Emphasi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B = 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D = P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2600" y="5521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77000" y="5292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638720" y="1685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89160" y="168588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5267160" y="32097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34383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343480" y="34383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3743280" y="3819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7095960" y="320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1533600" y="1152360"/>
            <a:ext cx="2438280" cy="137160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2840" y="753840"/>
            <a:ext cx="8237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1596960" y="83988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ullup – Main (+ &amp; -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038560" y="1152360"/>
            <a:ext cx="2438640" cy="1371600"/>
          </a:xfrm>
          <a:prstGeom prst="rect">
            <a:avLst/>
          </a:prstGeom>
          <a:noFill/>
          <a:ln w="12600">
            <a:solidFill>
              <a:srgbClr val="00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215320" y="84780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Pullup – Boost (+ &amp; -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1380960" y="3514680"/>
            <a:ext cx="3048120" cy="152388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2037600" y="528624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Ground Clam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+ &amp;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6404040" y="3773520"/>
            <a:ext cx="2444760" cy="13107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1) Extract C_co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for entire buf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2) Split C_com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 Black"/>
              </a:rPr>
              <a:t>across Main, Bo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2008 Intel Corporation.  All Rights Reserved.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3:33:43Z</dcterms:created>
  <dc:creator>Michael Mirmak</dc:creator>
  <dc:description/>
  <dc:language>en-US</dc:language>
  <cp:lastModifiedBy>Michael Mirmak</cp:lastModifiedBy>
  <dcterms:modified xsi:type="dcterms:W3CDTF">2008-09-30T20:12:32Z</dcterms:modified>
  <cp:revision>662</cp:revision>
  <dc:subject/>
  <dc:title>Touchstone 2.0 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