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8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636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38188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1BD0-F67C-455B-AE65-E614DC16C02B}" type="slidenum">
              <a:rPr b="0" lang="en-US" sz="10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914400" y="6400800"/>
            <a:ext cx="4038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Electronic Module Description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© SiSoft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15200" y="6006960"/>
            <a:ext cx="1521000" cy="39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40680" y="6400800"/>
            <a:ext cx="182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Signal Integrity Software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914400" y="6400800"/>
            <a:ext cx="4038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Electronic Module Description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© SiSoft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lectrical Module Description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 new approach to describing packages and modul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alter Katz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arch 25, 2008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mPins] (Module Pins)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[mPins]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ule 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gnal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gnal Typ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[Diff mPins]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tive High m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tive Low m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ference Design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art Numb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 Fi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&gt;.ib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raditional IBIS package mod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are Die Component”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.ebd&gt;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&gt;.em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vention for this docu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Pin is an EMD [mPin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in is a component [Pin]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ower of Hierarchical .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is the package model of a flip chip di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mounted directly to the module, there is no “package model at all”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wire bond, who knows how far the wire bond connection is, and height over what return path?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put into a small outline smd, then there is some interconnect model from the silicon pads to the point the package touches the PCB or MCM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a stacked dram, then it might have some special three dimensional model to predict the s parameter model at very high edge rat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D files addresses all of thi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On Die Power Supply Distrib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nhancement to “Bare Die” .ibs Compon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ROUND is just another Supply N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Bare Die Supply Ne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ssociated with Component “Power” Pa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minal DC Voltag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minal Noi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witching Noise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n Die Power Delivery Mod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pacitors between Supply Ne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et Nam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ist of mPins/Pi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MD mP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ponents P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screte components are not include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locking cap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ries and parallel termination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pply Cap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ta is contained in separate fi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le Extension “.imod”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 Spice” Meta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t is expected that translators will be required for each target simul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.subckt &lt;name&gt; &lt;nodes&gt; … &lt;parameter&gt;=&lt;value&gt; …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s </a:t>
            </a:r>
            <a:br>
              <a:rPr sz="36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ck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rners (Typ, Min, Max) (worst, best , …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le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ircuit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de Lis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Ele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 Resis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 Induc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 Capaci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 Conductanc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 Tlin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 Lin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LG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able Drive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 parameter elemen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 DC Voltag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X Subck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ther possible elem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oles and Zero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iscellaneou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.includ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.paramete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rn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low/Typ/Fas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in/Max Nois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in/Max CrossTalk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Level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 Resis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 Induc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 Capaci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G Conductanc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 Tlin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RLGC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 DC Voltag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is will handle &gt;95% of System SI requirement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 parameter eleme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Table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X eleme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3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oles and Zero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upled Circui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plicit Coupled Circui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kt with pins and pads of specific Extended Ne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mplicit Coupled Circui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kt with pins and pads of [Interconnect Equivalent Nets]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Original IBIS Concep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havioral Mode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reshold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V curv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T curv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ckage Parasitic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umped RL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xample fbdimm.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ule] fbmi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6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S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8 PS1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9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0 PN1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1 CLK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2 CLK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3 ADR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4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mPin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9 1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1 1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1 AMB amb.ibs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2 AMB amb.ibs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3 SDRAM sdram.ibs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4 SDRAM sdram.ibs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terfacing Extended Nets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o 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7 8 U1.1 U1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9 10 U2.7 U2.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XX U1.7 U1.9 U2.1 U2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LK 11 12 U3.1 U3.2 U4.1 U4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DR0 13 U3.3 U4.3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DR1 14 U3.4 U4.4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pply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1 2 U1.3 U2.3 U3.5 U4.5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DD 3 4 U1.4 U2.4 U3.6 U4.6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EE 5 6 U1.5 U2.5 U3.7 U4.7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Voltage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0.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DD 2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EE 12.5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s] ! One or more per Xne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typ psn.imod psn_typ (7 8 U1.1 U1.2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typ psn.imod psn_typ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min psn.imod psn_min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max psn.imod psn_max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all vss.imod vss (1 2 U1.3 U2.3 U3.5 U4.5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Begin Subckts] ! Per [Interconnect Equivalent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mPin mPin_L Pin Pin_L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Typ_Model psn.imod psn_typ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Min_Model psn.imod psn_m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Max_Model psn.imod psn_max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Interconnect Equivalent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Xnets with same number of mPins and Pin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and use the same interconnect model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(7 8 U1.1 U1.2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upled 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! Victim : Aggressor Lis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victim_nodes aggressor_n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 psn_cpl.imod   psn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 psn _cpl.imod   psn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S1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N1 PS1 PX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XX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adr  (victim_nodes aggressor_n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adr_cpl.imod  adr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adr _cpl.imod adr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ADR0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ADR1 ADR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Grouping Nets in a BU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xnet1 nodes, xnet2 nodes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 psn_cpl.imod   psn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 psn _cpl.imod   psn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Xnet PN1 PS1 PX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adr  (victim_nodes aggressor_n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adr_cpl.imod  adr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adr _cpl.imod adr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Xnet ADR0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“Views”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ckts can be significantly more detailed during the IC/Module design cycl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same subckts can be simplified for system design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C/Module designers can supply the more detailed subckts to high valued customers that have more need and expertise to do more refined analysi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mb.ibs sdram.ib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]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Pin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PS1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PS1#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N1 SerDesT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8 PN1# SerDesT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el]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External Model (Pad_H,Pad_L,VSS,VDD,VEE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]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Pin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CLK CLK_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CLK# CLK_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ADR0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ADR1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GN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6 POWER V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OWER VY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On Die Cap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ap GND VX 1pF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ap GND VY .2pF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el]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External Model (Pad, GND, VX, VY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need correct current behavior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DC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AC 1MegHz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AC 5GHx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KG Ev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BD style interconnect mode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umped RLGC Matrix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odule Ev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lectronic Board Description (EBD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stributed/Lumped RLC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matrix coup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nly Pin to Pad interconnec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ultiple Compon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pad to pad interconnect between compon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power distribu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CM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re flexible interconnect model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up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tter Loss repres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 paramete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table driven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ot integrated with IBI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odule Interconnect Modeling Require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gnal Interconnect Model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gnal Coupling (crosstalk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ail voltage AC coup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C drop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ed Spring Mod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oids, cutouts, islands in plan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upling between Signal Interconnects and Power Distribution (SSO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urrent S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quires Full Module Layout Descrip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d Data Ba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an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tackup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nalogy to IBIS is full transistor spice mode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P issu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rner” / “Min/Max” issu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rners Min/Max Issue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rners mean something differ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ocess variatio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ateria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cknes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outing of individual nets on a module have a range of interconnect for a bu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et by ne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est and worst of all nets in a bus, or more than typ min max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MM (PCIe) (rank, # sdrams, …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ystems require DIMM interchangeability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havioral Corne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sonanc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MD S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ntains the following sectio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mPins]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Pins on the “periphery” of the modul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stance of IBIS component (IBIS file / Component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onnects between mPins and Components Pin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pan multiple CAD Net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Series and Parallel Termination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Differential Net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Supply Nets] (Power Nets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Interconnect Subckts]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Ports are mPins and/or Pin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ll of these pins are at the same voltag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Coupled Subckts]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wkatz</cp:lastModifiedBy>
  <dcterms:modified xsi:type="dcterms:W3CDTF">2008-03-25T20:02:13Z</dcterms:modified>
  <cp:revision>312</cp:revision>
  <dc:subject/>
  <dc:title>Slide 1</dc:title>
</cp:coreProperties>
</file>