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90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90720" y="381204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73400" y="14479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90720" y="381204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73400" y="381204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18720" y="14479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6360" y="14479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90720" y="381204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18720" y="381204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6360" y="381204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720" y="14479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73400" y="144792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99072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3400" y="144792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90720" y="381204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90720" y="14479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73400" y="14479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973400" y="381204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73400" y="14479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90720" y="381204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990720" y="381204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73400" y="14479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90720" y="381204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973400" y="381204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18720" y="14479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6360" y="14479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990720" y="381204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18720" y="381204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6360" y="381204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73400" y="144792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9072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73400" y="144792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90720" y="381204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73400" y="14479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73400" y="381204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73400" y="14479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90720" y="381204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720" y="14479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rcRect l="9259" t="27781" r="9259" b="25926"/>
          <a:stretch/>
        </p:blipFill>
        <p:spPr>
          <a:xfrm>
            <a:off x="7391520" y="6172200"/>
            <a:ext cx="1447560" cy="41112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/>
          <a:srcRect l="36378" t="0" r="0" b="0"/>
          <a:stretch/>
        </p:blipFill>
        <p:spPr>
          <a:xfrm>
            <a:off x="0" y="0"/>
            <a:ext cx="53352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8381880" y="6534000"/>
            <a:ext cx="45720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15324-B73C-42BF-BF30-52EE4B112498}" type="slidenum">
              <a:rPr b="0" lang="en-US" sz="1000" spc="-1" strike="noStrike">
                <a:solidFill>
                  <a:srgbClr val="336699"/>
                </a:solidFill>
                <a:latin typeface="Arial"/>
              </a:rPr>
              <a:t>&lt;number&gt;</a:t>
            </a:fld>
            <a:r>
              <a:rPr b="0" lang="en-US" sz="1000" spc="-1" strike="noStrike">
                <a:solidFill>
                  <a:srgbClr val="336699"/>
                </a:solidFill>
                <a:latin typeface="Arial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914400" y="6400800"/>
            <a:ext cx="403848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99"/>
                </a:solidFill>
                <a:latin typeface="Times New Roman"/>
              </a:rPr>
              <a:t>Electronic Module Description</a:t>
            </a:r>
            <a:r>
              <a:rPr b="0" lang="en-US" sz="1000" spc="-1" strike="noStrike">
                <a:solidFill>
                  <a:srgbClr val="336699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336699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336699"/>
                </a:solidFill>
                <a:latin typeface="Times New Roman"/>
              </a:rPr>
              <a:t>© SiSoft, 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4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rcRect l="9259" t="27781" r="9259" b="25926"/>
          <a:stretch/>
        </p:blipFill>
        <p:spPr>
          <a:xfrm>
            <a:off x="7315200" y="6006960"/>
            <a:ext cx="1521000" cy="3924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rcRect l="36378" t="0" r="0" b="0"/>
          <a:stretch/>
        </p:blipFill>
        <p:spPr>
          <a:xfrm>
            <a:off x="0" y="0"/>
            <a:ext cx="53352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7240680" y="6400800"/>
            <a:ext cx="182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99"/>
                </a:solidFill>
                <a:latin typeface="Arial"/>
              </a:rPr>
              <a:t>Signal Integrity Software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2"/>
          </p:nvPr>
        </p:nvSpPr>
        <p:spPr>
          <a:xfrm>
            <a:off x="914400" y="6400800"/>
            <a:ext cx="403848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99"/>
                </a:solidFill>
                <a:latin typeface="Times New Roman"/>
              </a:rPr>
              <a:t>Electronic Module Description</a:t>
            </a:r>
            <a:r>
              <a:rPr b="0" lang="en-US" sz="1000" spc="-1" strike="noStrike">
                <a:solidFill>
                  <a:srgbClr val="336699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336699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336699"/>
                </a:solidFill>
                <a:latin typeface="Times New Roman"/>
              </a:rPr>
              <a:t>© SiSoft, 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336699"/>
              </a:solidFill>
              <a:latin typeface="Arial"/>
            </a:endParaRPr>
          </a:p>
          <a:p>
            <a:pPr lvl="1" marL="457200" indent="0" algn="ctr">
              <a:lnSpc>
                <a:spcPct val="9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2" marL="914400" algn="ctr">
              <a:lnSpc>
                <a:spcPct val="95000"/>
              </a:lnSpc>
              <a:spcBef>
                <a:spcPts val="675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lvl="3" marL="1371600" algn="ctr">
              <a:lnSpc>
                <a:spcPct val="95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lvl="4" marL="1828800" algn="ctr">
              <a:lnSpc>
                <a:spcPct val="95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Electrical Module Description</a:t>
            </a:r>
            <a:br>
              <a:rPr sz="3600"/>
            </a:b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EMD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6002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A new approach to describing packages and modules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Walter Katz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March 4, 2008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[Pins] (Module Pins)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[Pins]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Pin Number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ignal Name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ignal Type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[Diff Pins]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Active High Pin Number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Active Low Pin Number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[Components]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Reference Designator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Part Number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IBIS File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&lt;file&gt;.ibs 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75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Bare Die Component”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&lt;file.ebd&gt;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&lt;file&gt;.emd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Convention for this document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Pin is an EMD [Pin]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Pad is a component [Pin]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Power of Hierarchical .emd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What is the package model of a flip chip die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If it is mounted directly to the module, there is no “package model at all”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If it is wire bond, who knows how far the wire bond connection is, and height over what return path?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If it is put into a small outline smd, then there is some interconnect model from the silicon pads to the point the package touches the PCB or MCM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If it is a stacked dram that might have some special three dimensional model to predict the s parameter model at very high edge rates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EMD files addresses all of this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On Die Power Supply Distribution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Enhancement to Bare Die .ibs Component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GROUND is just another Supply Net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Bare Die Supply Nets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Associated with Component “Power” Pads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Nominal DC Voltage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Nominal Noise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witching Noise 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On Die Power Delivery Model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Capacitors between Supply Nets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[Extended Nets]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Net Name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List of Pins/Pads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EMD pins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Components pads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Discrete components are not included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75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Blocking caps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75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Series and parallel terminations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75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Supply Caps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Subckts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Data is contained in separate file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File Extension .imod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IBIS Spice” Meta format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It is expected that translators will be required for each target simulator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.subckt &lt;name&gt; &lt;nodes&gt; … &lt;parameter&gt;=&lt;value&gt; …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Subckts </a:t>
            </a:r>
            <a:br>
              <a:rPr sz="3600"/>
            </a:b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(continued)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Subckt 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Typ, Min, Max (worst, best , …) (corners)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File name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ubcircuit Name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Node List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Parameters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Subckt Elements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90360" y="1447920"/>
            <a:ext cx="3809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R Resistor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L Inductor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C Capacitor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T Tline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W Line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75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RLGC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75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Table Driven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 parameter element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52880" y="1447920"/>
            <a:ext cx="3810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V DC Voltage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X Subckt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Impulse Response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Poles and Zeros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.include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.parameter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Subckt Levels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90360" y="1447920"/>
            <a:ext cx="3809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Level 1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75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R Resistor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75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L Inductor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75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C Capacitor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75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T Tline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75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W Line (RLGC)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75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V DC Voltage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This will handle &gt;95% of System SI requirements 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952880" y="1447920"/>
            <a:ext cx="3810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Level 2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75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S parameter element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Level 3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75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W Line (Table)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75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Impulse Response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75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Poles and Zeros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75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X eleement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Coupled Circuits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Explicit Coupled Circuits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ubckt with pins and pads of specific Extended Nets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[Interconnect Equivalent XNets]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[Interconnect Equivalent Nets]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Implicit Coupled Circuits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ubckt with pins and pads of [Interconnect Equivalent Nets]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Original IBIS Concept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Component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Pins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Behavioral Models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75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Thresholds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75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IV curves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75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VT curves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Package Parasitics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75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Lumped RLC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Example fbdimm.emd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90360" y="1447920"/>
            <a:ext cx="3809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[Module] fbmidd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[Pin]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1 Power VSS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2 Power VSS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3 Power VDD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4 Power VDD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5 Power VEE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6 Power VEE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7 PS1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8 PS1#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9 PN1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10 PN1#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11 CLK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12 CLK#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13 ADR0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14 ADR1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952880" y="1447920"/>
            <a:ext cx="3810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[Diff Pins]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7 8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9 10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11 12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[Components]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U1 AMB amb.ibs amb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U2 AMB amb.ibs amb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U3 SDRAM sdram.ibs sdram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U4 SDRAM sdram.ibs sdram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Interfacing Extended Nets </a:t>
            </a:r>
            <a:br>
              <a:rPr sz="3600"/>
            </a:b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to Subckts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447920"/>
            <a:ext cx="3809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[Extended Nets]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PS1 7 8 U1.1 U1.2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PN1 9 10 U2.7 U2.8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PXX U1.7 U1.9 U2.1 U2.2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CLK 11 12 U3.1 U3.2 U4.1 U4.2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ADR0 13 U3.3 U4.3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ADR1 14 U3.4 U4.4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[Supply Nets]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VSS 1 2 U1.3 U2.3 U3.5 U4.5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VDD 3 4 U1.4 U2.4 U3.6 U4.6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VEE 5 6 U1.5 U2.5 U3.7 U4.7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[Voltages]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VSS 0.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VDD 2.2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VEE 12.5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447920"/>
            <a:ext cx="3810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[Subckts] ! One or more per Xnet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PS1 typ psn.imod psn_typ (7 8 U1.1 U1.2)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PN1 typ psn.imod psn_typ (9 10 U2.7 U2.8)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PN1 min psn.imod psn_min (9 10 U2.7 U2.8)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PN1 max psn.imod psn_max (9 10 U2.7 U2.8)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VSS all vss.imod vss (1 2 U1.3 U2.3 U3.5 U4.5)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[Begin Subckts] ! Per [Interconnect Equivalent Nets]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[Subckt] psn (pin pin_l pad pad_l)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Typ_Model psn.imod psn_typ 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Min_Model psn.imod psn_min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Max_Model psn.imod psn_max 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[Interconnect Equivalent Nets]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! Xnets with same number of Pins and Pads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! and use the same interconnect model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PS1 (7 8 U1.1 U1.2)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PN1 (9 10 U2.7 U2.8)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Coupled Subckts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90360" y="1447920"/>
            <a:ext cx="3809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Arial"/>
              </a:rPr>
              <a:t>! Victim : Aggressor List</a:t>
            </a:r>
            <a:endParaRPr b="0" lang="en-US" sz="1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[Subckt] psn (victim_nodes aggressor_bodes …)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Best_Model </a:t>
            </a: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  psn_cpl.imod   psn _cpl _Best 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Worst_Model  psn _cpl.imod   psn _cpl _worst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Victim_Xnet PS1 PN1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Victim_Xnet PN1 PS1 PXX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Victim_Xnet PXX PN1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[Subckt] adr  (victim_nodes aggressor_bodes …)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Best_Model </a:t>
            </a: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 adr_cpl.imod  adr _cpl _Best 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Worst_Model adr _cpl.imod adr _cpl _worst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Victim_Xnet ADR0 ADR1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Victim_Xnet ADR1 ADR0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952880" y="1447920"/>
            <a:ext cx="3810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! Grouping Nets in a BUS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[Subckt] psn (xnet1 nodes, xnet2 nodes)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Best_Model </a:t>
            </a: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  psn_cpl.imod   psn _cpl _Best 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Worst_Model  psn _cpl.imod   psn _cpl _worst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Xnet PN1 PS1 PXX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[Subckt] adr  (victim_nodes aggressor_bodes …)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Best_Model </a:t>
            </a: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 adr_cpl.imod  adr _cpl _Best 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Worst_Model adr _cpl.imod adr _cpl _worst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Xnet ADR0 ADR1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Subckt “Views”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Subckts can be significantly more detailed during the IC/Module design cycle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The same subckts can be simplified for system design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IC/Module designers can supply the more detailed subckts to high valued customers that have more need and expertise to do more refined analysis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amb.ibs sdram.ibs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90360" y="1447920"/>
            <a:ext cx="3809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[Component] amb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[Pads]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1 PS1 SerDesRx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2 PS1# SerDesRx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3 POWER VSS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4 POWER VDD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5 POWER VEE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7 PN1 SerDesTx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8 PN1# SerDesTx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[Diff Pin]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1 2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7 8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[Model] SerDesRx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External Model (Pad_H,Pad_L,VSS,VDD,VEE)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952880" y="1447920"/>
            <a:ext cx="3810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[Component] sdram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[Pads]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1 CLK CLK_IN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2 CLK# CLK_IN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3 ADR0 Input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4 ADR1 Input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5 POWER GND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6 POWER VX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7 POWER VY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[Diff Pin]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1 2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[On Die Caps]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Cap GND VX 1pF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Cap GND VY .2pF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[Model] Input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External Model (Pad, GND, VX, VY)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99"/>
                </a:solidFill>
                <a:latin typeface="Arial"/>
              </a:rPr>
              <a:t>need correct current behavior </a:t>
            </a:r>
            <a:endParaRPr b="0" lang="en-US" sz="10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0">
              <a:lnSpc>
                <a:spcPct val="95000"/>
              </a:lnSpc>
              <a:spcBef>
                <a:spcPts val="337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6699"/>
                </a:solidFill>
                <a:latin typeface="Arial"/>
              </a:rPr>
              <a:t>DC</a:t>
            </a:r>
            <a:endParaRPr b="0" lang="en-US" sz="9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0">
              <a:lnSpc>
                <a:spcPct val="95000"/>
              </a:lnSpc>
              <a:spcBef>
                <a:spcPts val="337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6699"/>
                </a:solidFill>
                <a:latin typeface="Arial"/>
              </a:rPr>
              <a:t>AC 1MegHz</a:t>
            </a:r>
            <a:endParaRPr b="0" lang="en-US" sz="9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0">
              <a:lnSpc>
                <a:spcPct val="95000"/>
              </a:lnSpc>
              <a:spcBef>
                <a:spcPts val="337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6699"/>
                </a:solidFill>
                <a:latin typeface="Arial"/>
              </a:rPr>
              <a:t>AC 5GHx</a:t>
            </a:r>
            <a:endParaRPr b="0" lang="en-US" sz="9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PKG Evolution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EBD style interconnect models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Lumped RLGC Matrix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Module Evolution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Electronic Board Description (EBD)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Distributed/Lumped RLC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No matrix coupling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Only Pin to Pad interconnect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Multiple Components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No pad to pad interconnect between components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No power distribution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ICM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More flexible interconnect modeling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Coupling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Better Loss representation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75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S parameter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75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W line (table driven)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Not integrated with IBIS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Module Interconnect Modeling Requirements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Signal Interconnect Modeling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Signal Coupling (crosstalk)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Power Distribution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Coupling between Signal Interconnects and Power Distribution (SSO)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Current Solution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Requires Full Module Layout Description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Cad Data Base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75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Routing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75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Planes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75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Stackup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Analogy to IBIS is full transistor spice models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75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IP issues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Min/Max” issues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Min/Max Issue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Corners mean something different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Routing of individual nets on a module have a range of interconnect for a bus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Net by net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Best and worst of all nets in a bus, or more than typ min max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DIMM (PCIe) (rank, # sdrams, …)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ystems require DIMM interchangeability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EMD Solution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Contains the following sections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[Pins]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[Components]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[Extended Nets]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[Supply Nets] (Power Nets)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[Subckts]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[Coupled Subckts]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8T04:20:00Z</dcterms:created>
  <dc:creator>Adam Kustin</dc:creator>
  <dc:description/>
  <dc:language>en-US</dc:language>
  <cp:lastModifiedBy>wkatz</cp:lastModifiedBy>
  <dcterms:modified xsi:type="dcterms:W3CDTF">2008-02-29T21:55:33Z</dcterms:modified>
  <cp:revision>308</cp:revision>
  <dc:subject/>
  <dc:title>Slide 1</dc:title>
</cp:coreProperties>
</file>