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E587-B73E-489C-B584-02A320D5DC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AE00-A509-48CF-AFC8-A3C4FDDE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70FA-312C-4EA6-8824-75467200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17C2-6D4F-4207-8590-22CC98412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DE71-FCEF-4CF2-AF91-047B2B93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09995-6D4E-4896-83C0-7F6D6AF97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CD197-6604-4278-AF31-EC81919A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7DE2E-7E80-4759-B157-C34E6BC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18362-77CA-4AE3-BA34-EA4B64DA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FCE81-F849-4CF4-80B9-F31285A2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7314-2AD6-4312-8F1D-610D908E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113D-5280-4A82-9D67-30B4C597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C8380-BFCD-4BE6-B084-C360491B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95A21-D20A-4A9B-BA10-CD096B6F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DAAB5-1807-4B92-A2E5-4C15BFD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E1365-5775-42AB-96F2-6DC089A6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6BCBD-2A95-4D4F-9365-D36CA60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81789-650D-4EED-827F-29933C38D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B210-E5CE-4930-BD88-42C9E044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6502-E4F3-4974-97B5-BBABC6E8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44DC-0C24-48F1-A58F-1BC1F2E6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0159-582F-47D3-A27A-236C761D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CDCF-5BA9-4329-B9EB-7DACF1F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5011-8638-4769-AE2C-F4F16950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6F13-DCE3-4940-95A9-13E342ACA65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10E9-DEF3-49A0-95D4-A320784270F0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28360" y="1263600"/>
            <a:ext cx="635148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gorithmic Modeling (AMI)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yntax Discuss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711440" y="2521080"/>
            <a:ext cx="3571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gust 14,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we ar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t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Draft BIRD had defined new parameter structure and syntax for use in the Algorithmic Modeling S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specific parameters are to be chosen by the user through the EDA platform, which are then passed to the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A platform will pass parameters to DLLs in tree format (different than specified in Draft BI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DB8D-7D4B-45EB-AC5C-101DFB1CA8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declarations are 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declarations in IBIS file and instance specific parameters passed to DLL are in differen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SERDES models will requir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E928-676C-4B1F-AD52-023F48F688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880" y="1196640"/>
            <a:ext cx="84232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arameter syntax in IBIS consistent with the tree format that is used by EDA platform and DLLs (syntax chan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arameter declaration structure remains unchanged (as defined in the Draft BIRD) with Reserved Keywords and “standard” set of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nore_bits, GetWave_exists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” set of parameters are interpreted and used by EDA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hoices for storing Parameter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t parameters in AMI file, IBIS file points to the AMI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also include the DLL model file name per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t parameters declarations in tree format into the 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structure and syntax can be reused regardless where it is stored for use by Algorithm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6E7F-2EE2-4FF0-9919-997BF0B90D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 AMI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4880" y="1072800"/>
            <a:ext cx="8383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Check  can parse, check ami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A Vendors willing to provide starter parser &amp; che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 file will be parsed by EDA platform and the parameters will be passed to model dll as defined in the draft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 file has analog front end and all associated data, AMI file has data for Algorithmic Models – clean and clear disti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n external AMI file reduces the IBIS file changes to ONE new keyword in IB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Algorithmic Model &lt;modelName&gt;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modelName&gt;.ami file cont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 names for supported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 Decla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files instead of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2F7A-95E8-4268-BD76-B182C63BBB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ami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8640" y="1130040"/>
            <a:ext cx="44449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sampleA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AMI field contains the name of the dll al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100" spc="-1" strike="noStrike">
                <a:solidFill>
                  <a:srgbClr val="ed171f"/>
                </a:solidFill>
                <a:latin typeface="Courier New"/>
              </a:rPr>
              <a:t>Dll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|Reserved Key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linux sampleami_lnx.s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solaris sampleami_sun4.s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windows sampleami.d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mac sampleami_mac.s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100" spc="-1" strike="noStrike">
                <a:solidFill>
                  <a:srgbClr val="ed171f"/>
                </a:solidFill>
                <a:latin typeface="Courier New"/>
              </a:rPr>
              <a:t>Reserved_Parameters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|Reserved Key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all the paremeters under this section are "standard". ie they have unique interpretatios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Ignore_Bits (Type Integer) (Default 21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Max_Init_Aggressors (Type Integer)(Default 25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Init_Returns_Impulse (Type Bool)(Default True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GetWave_Exists (Type Bool) (Default True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| End Reserv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70120" y="1436760"/>
            <a:ext cx="457812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100" spc="-1" strike="noStrike">
                <a:solidFill>
                  <a:srgbClr val="ed171f"/>
                </a:solidFill>
                <a:latin typeface="Courier New"/>
              </a:rPr>
              <a:t>Model_specific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|Reserved Key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txtaps is a 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txtap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tapid (Range -1 3) (type int)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txtapcoef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-1 (Range -0.1 0.1 0.1) (Type float) (Default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0 (Range 1 1 0) (Type float) (Default 1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1 (List -0.1 0.1) (Type float)(Default 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2 (Range -0.01 0.02 0.005) (Type float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(Default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3 (Range -0.01 0.02 0.005) (Type float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(Default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 | tapcoe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 | txta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tx_freq_offset (Range 0 150 1) (Type ppm) (Default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| End User_Defin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here is an example of txtaps instanc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(txtapcoeff (-1 -0.05) (0 1) (1 0) (2 0) (3 0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  | End SampleA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0294-E40D-4E4E-88E7-4E347BF7D4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 Declarations in IBIS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odel developer published parameters contained in on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for the parameters in Algorithmic Modeling Section very different than syntax for other parameters in the IBIS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F250-F133-4C90-9BA5-1EB4284745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4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8:00:23Z</dcterms:created>
  <dc:creator>Hemant Shah</dc:creator>
  <dc:description/>
  <dc:language>en-US</dc:language>
  <cp:lastModifiedBy>Hemant Shah</cp:lastModifiedBy>
  <cp:lastPrinted>2006-09-27T23:49:20Z</cp:lastPrinted>
  <dcterms:modified xsi:type="dcterms:W3CDTF">2007-08-21T19:03:43Z</dcterms:modified>
  <cp:revision>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8496327</vt:r8>
  </property>
  <property fmtid="{D5CDD505-2E9C-101B-9397-08002B2CF9AE}" pid="3" name="_AuthorEmail">
    <vt:lpwstr>shah@cadence.com</vt:lpwstr>
  </property>
  <property fmtid="{D5CDD505-2E9C-101B-9397-08002B2CF9AE}" pid="4" name="_AuthorEmailDisplayName">
    <vt:lpwstr>Hemant Shah</vt:lpwstr>
  </property>
  <property fmtid="{D5CDD505-2E9C-101B-9397-08002B2CF9AE}" pid="5" name="_EmailSubject">
    <vt:lpwstr>Last weeks presentation on AMI parameter passing</vt:lpwstr>
  </property>
  <property fmtid="{D5CDD505-2E9C-101B-9397-08002B2CF9AE}" pid="6" name="_NewReviewCycle">
    <vt:lpwstr/>
  </property>
</Properties>
</file>