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342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5FF8-8A3E-4B0F-ABE4-FCA294E25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88440"/>
            <a:ext cx="8226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8EBE7-47F7-4D0A-B55B-31BA17AE2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4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F5E48-44B5-4B74-BD2E-C52743E87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8844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8200" y="398844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9560" y="398844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A707-ECA8-4E47-9038-E5DF87D79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5B98D-E08E-4865-9163-E19C9CD6C1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63681-3094-4F31-80C4-34B49CD5EA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B7891-971E-4375-93C8-F1354E4AD0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3D50D-288E-4B30-A9BF-D8630A250D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01FF8-2364-4BDA-938F-9D90F64902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455400"/>
            <a:ext cx="822636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392F0-2F3E-4D77-A792-AF298E4AFF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888DE-1C75-4A0A-A93E-8A818BE64C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1C99-8716-4271-8149-3E41B951C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24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59D2C-ED96-412B-B30A-A63F9095B9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88440"/>
            <a:ext cx="8226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6E020-6166-429A-84B8-47A5D1B84B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3988440"/>
            <a:ext cx="8226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745BF-3D5E-45EB-997E-ED6B396628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24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F99C6-D570-422E-ACCB-E5A6B937D9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398844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8200" y="398844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9560" y="398844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9C54D-89F1-48D7-BD29-667FD72242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362E2-60DD-4719-8F3A-40FD000B4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F3800-C0F0-4C22-B5DD-FAB78BD9C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A2097-6993-44AA-B582-EA0940F23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455400"/>
            <a:ext cx="822636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83C7D-7E97-4059-9BEE-3B954BEBA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D2111-0BFF-46A2-87BC-119F6D3FE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4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D929-5EC1-414D-8AED-E9E091473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88440"/>
            <a:ext cx="8226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397C-E16F-4BFD-B87D-103E4291E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3" marL="1146240" indent="-1792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4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5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6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519600"/>
            <a:ext cx="364968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D50A-AB2E-4D64-A7B6-AA185B4AF6F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Copyright © 2004, Cadence Design Systems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0" y="912960"/>
            <a:ext cx="9144000" cy="41162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354480"/>
            <a:ext cx="8226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18200" y="6315120"/>
            <a:ext cx="34671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ADENCE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457200" y="6519600"/>
            <a:ext cx="364968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Copyright © 2004, Cadence Design Systems In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igher-level Models to Support</a:t>
            </a:r>
            <a:br>
              <a:rPr sz="3000"/>
            </a:b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(rough priority order)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2-tap pre-emphasi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-tap pre-emphasi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Gate modulatio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lf-calibrating outpu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ss-thru receiv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Decision Feedback Equalization (DFE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5834-E426-4DA6-9010-F0B19458529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Lower-level Primitives / Features</a:t>
            </a:r>
            <a:br>
              <a:rPr sz="3000"/>
            </a:b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(rough priority order)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226360" cy="48769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Parameter passing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Equation-based sources (voltage, current, numeric)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B element with c_comp on/off and table scaling (static/dynamic)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Hspice can’t do c_comp or dynami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Expressions in parameters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Table-based PWL sources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Time-controlled sources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Hspice can not do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If, then, else in equations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Hspice ???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Simulation “time” as variable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Use of previously computed value (prev(x)) in equation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Hspice can no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Calculation of 1</a:t>
            </a:r>
            <a:r>
              <a:rPr b="0" lang="en-US" sz="1500" spc="-1" strike="noStrike" baseline="30000">
                <a:solidFill>
                  <a:srgbClr val="4d4d4d"/>
                </a:solidFill>
                <a:latin typeface="Arial"/>
              </a:rPr>
              <a:t>st</a:t>
            </a: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 derivative of voltage or current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Hspice can no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9CF0-7297-4A79-B0A2-078F54FF4C3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00:26:25Z</dcterms:created>
  <dc:creator>Donald Telian</dc:creator>
  <dc:description/>
  <dc:language>en-US</dc:language>
  <cp:lastModifiedBy>Cadence Design Systems, Inc</cp:lastModifiedBy>
  <cp:lastPrinted>2000-01-15T02:50:40Z</cp:lastPrinted>
  <dcterms:modified xsi:type="dcterms:W3CDTF">2005-05-10T21:03:48Z</dcterms:modified>
  <cp:revision>185</cp:revision>
  <dc:subject/>
  <dc:title>MGH Serial Interfac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