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FE4C-EFB9-4670-9DF3-1AFDA8A862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Mike LaBonte</cp:lastModifiedBy>
  <dcterms:modified xsi:type="dcterms:W3CDTF">2005-06-08T13:47:27Z</dcterms:modified>
  <cp:revision>1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