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C1CB-241C-4BC2-A22F-CFFE087BF0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Arpad Muranyi</cp:lastModifiedBy>
  <dcterms:modified xsi:type="dcterms:W3CDTF">2005-06-07T21:24:27Z</dcterms:modified>
  <cp:revision>1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