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9D7C-B2CD-4939-8238-F274271F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211A-0D1A-40AD-BCFB-A2908A9AD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5B71-D6DA-4B89-8BDE-4857320D6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D77-907E-4BCD-8E72-FBC6B944F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8560-CDCF-4882-A635-ED8B2F5EFA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97E5-4A2B-4E5D-B452-613CEEC9A9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BCC6-0EC9-4CAE-8797-D67AC3624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B526-3C55-4032-9271-E218267AD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6D3E-E142-457D-8A61-73F6728BB1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5744-532F-4D23-B594-E82BDD654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99D7-38E7-46C1-8C9D-A5FC13644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7F62-0A6D-474A-8E77-428DFE7D9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105C-38D6-4419-ABA5-6CA82A1AB4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375B-3827-4A24-91D9-A072B6DF0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3478-17D4-4E26-896B-AA81D3258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781E-3A04-454F-BFD1-66A4B74168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B292-10F5-4E7E-BCC3-7E55A7A51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D73D-EECD-4709-8AF0-9CC286249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96A2-B3E7-42B6-8AFC-31B1C5E7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CBFC-A8D7-4CBF-A635-D05F7F2AE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E930-0396-4C2C-BC2E-3067B0210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C994-F16E-42B3-9EFB-A6067D2E0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8D9A-01EB-4BA0-9613-7C20CE0CC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2987-072E-4F22-B90B-E6C3A5934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8C69-E440-474D-B1BB-FBD8A41167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Copyright © 2004, Cadence Design Systems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912960"/>
            <a:ext cx="9144000" cy="4116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354480"/>
            <a:ext cx="8226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DENCE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Copyright © 2004, Cadence Design Systems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gher-level Models to Support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2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ate modul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lf-calibrating out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ss-thru receiv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cision Feedback Equalization (DFE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2ED2-0268-4A58-985B-7FC3FD7D59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Lower-level Primitives / Features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Parameter passing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quation-based sources (voltage, current, numer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B element with c_comp on/off and table scaling (static/dynam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’t do c_comp or dynam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xpressions in parameter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able-based PWL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ime-controlled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 d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If, then, else in equation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??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Simulation “time” as variable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Use of previously computed value (prev(x)) in equation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Calculation of 1</a:t>
            </a:r>
            <a:r>
              <a:rPr b="0" lang="en-US" sz="15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 derivative of voltage or current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58D8-0FBA-4ED7-8BA3-8071C44411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0:26:25Z</dcterms:created>
  <dc:creator>Donald Telian</dc:creator>
  <dc:description/>
  <dc:language>en-US</dc:language>
  <cp:lastModifiedBy>Cadence Design Systems, Inc</cp:lastModifiedBy>
  <cp:lastPrinted>2000-01-15T02:50:40Z</cp:lastPrinted>
  <dcterms:modified xsi:type="dcterms:W3CDTF">2005-05-10T21:03:48Z</dcterms:modified>
  <cp:revision>185</cp:revision>
  <dc:subject/>
  <dc:title>MGH Serial Interf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