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8.gif" ContentType="image/gif"/>
  <Override PartName="/ppt/media/image3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75A1B24-A1FE-40D2-9FDB-91274E39D6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D3E94FD-3DAE-478D-BCBD-10BA3D5D8D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E2165FC-AFC0-47C0-973B-5379D0076D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0BCB814-34A7-4642-9C21-5CA9557B10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49320" y="4860720"/>
            <a:ext cx="52005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JEITA  2009. All Rights Reserv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609480" y="601992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JEITA ; Japan Electronics and Information Technology Industries Assoc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685800" y="3505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HOJI, Kazuyoshi (Hitachi ULSI Syste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JEITA EDA-W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7"/>
          <p:cNvSpPr/>
          <p:nvPr/>
        </p:nvSpPr>
        <p:spPr>
          <a:xfrm>
            <a:off x="762120" y="609480"/>
            <a:ext cx="777240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pan IBIS Activities Upd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1447920" y="48006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BIS Su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kyo, Ja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vember 06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04920" y="121932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Overall still weak, Slow recovery obser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Good New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Government Incentive Package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for Cars and Consumer Electron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Japanese Hybrid Vehicles Strong Sa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China grow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-441720" y="304920"/>
            <a:ext cx="598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GungsuhChe"/>
                <a:ea typeface="GungsuhChe"/>
              </a:rPr>
              <a:t>JAPAN ECONOMY OUTL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20076471\Local Settings\Temporary Internet Files\Content.IE5\7D35I1IK\MCj03838460000[1].wmf"/>
          <p:cNvPicPr/>
          <p:nvPr/>
        </p:nvPicPr>
        <p:blipFill>
          <a:blip r:embed="rId1"/>
          <a:stretch/>
        </p:blipFill>
        <p:spPr>
          <a:xfrm rot="8203800">
            <a:off x="6756120" y="1182600"/>
            <a:ext cx="942840" cy="96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Documents and Settings\20076471\Local Settings\Temporary Internet Files\Content.IE5\U89X9CL8\MCj03980330000[1].wmf"/>
          <p:cNvPicPr/>
          <p:nvPr/>
        </p:nvPicPr>
        <p:blipFill>
          <a:blip r:embed="rId2"/>
          <a:stretch/>
        </p:blipFill>
        <p:spPr>
          <a:xfrm>
            <a:off x="7543800" y="3727440"/>
            <a:ext cx="798480" cy="72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Documents and Settings\20076471\Local Settings\Temporary Internet Files\Content.IE5\AXM783ZC\MCj04047070000[1].wmf"/>
          <p:cNvPicPr/>
          <p:nvPr/>
        </p:nvPicPr>
        <p:blipFill>
          <a:blip r:embed="rId3"/>
          <a:stretch/>
        </p:blipFill>
        <p:spPr>
          <a:xfrm>
            <a:off x="5943600" y="3117960"/>
            <a:ext cx="1595520" cy="137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C:\Documents and Settings\20076471\Local Settings\Temporary Internet Files\Content.IE5\EPX30QWO\MCj02318920000[1].wmf"/>
          <p:cNvPicPr/>
          <p:nvPr/>
        </p:nvPicPr>
        <p:blipFill>
          <a:blip r:embed="rId4"/>
          <a:stretch/>
        </p:blipFill>
        <p:spPr>
          <a:xfrm>
            <a:off x="380880" y="4572000"/>
            <a:ext cx="1778040" cy="1908000"/>
          </a:xfrm>
          <a:prstGeom prst="rect">
            <a:avLst/>
          </a:prstGeom>
          <a:ln w="0">
            <a:noFill/>
          </a:ln>
        </p:spPr>
      </p:pic>
      <p:sp>
        <p:nvSpPr>
          <p:cNvPr id="54" name="正方形/長方形 14"/>
          <p:cNvSpPr/>
          <p:nvPr/>
        </p:nvSpPr>
        <p:spPr>
          <a:xfrm>
            <a:off x="2209680" y="4876920"/>
            <a:ext cx="54104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Design opportunit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ncreasing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in selective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1523880"/>
            <a:ext cx="4419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New Product Introduc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Easy Design Entry for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124080"/>
            <a:ext cx="33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Lower Design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Reduce Design Cyc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4648320"/>
            <a:ext cx="358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High Sp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HGPｺﾞｼｯｸE"/>
                <a:ea typeface="HGPｺﾞｼｯｸE"/>
              </a:rPr>
              <a:t>New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HGP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4"/>
          <p:cNvSpPr/>
          <p:nvPr/>
        </p:nvSpPr>
        <p:spPr>
          <a:xfrm>
            <a:off x="5571000" y="1676520"/>
            <a:ext cx="2649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IBIS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5"/>
          <p:cNvSpPr/>
          <p:nvPr/>
        </p:nvSpPr>
        <p:spPr>
          <a:xfrm>
            <a:off x="-105480" y="1066680"/>
            <a:ext cx="2003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tencil"/>
              </a:rPr>
              <a:t>SAL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-130680" y="2590920"/>
            <a:ext cx="187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tencil"/>
              </a:rPr>
              <a:t>COST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7"/>
          <p:cNvSpPr/>
          <p:nvPr/>
        </p:nvSpPr>
        <p:spPr>
          <a:xfrm>
            <a:off x="-202680" y="4191120"/>
            <a:ext cx="3401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tencil"/>
              </a:rPr>
              <a:t>TECHNOLOG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正方形/長方形 8"/>
          <p:cNvSpPr/>
          <p:nvPr/>
        </p:nvSpPr>
        <p:spPr>
          <a:xfrm>
            <a:off x="5664240" y="3276720"/>
            <a:ext cx="3159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Quality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9"/>
          <p:cNvSpPr/>
          <p:nvPr/>
        </p:nvSpPr>
        <p:spPr>
          <a:xfrm>
            <a:off x="5608080" y="4800600"/>
            <a:ext cx="3465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New Technolog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"/>
              </a:rPr>
              <a:t>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10"/>
          <p:cNvSpPr/>
          <p:nvPr/>
        </p:nvSpPr>
        <p:spPr>
          <a:xfrm>
            <a:off x="-345600" y="304920"/>
            <a:ext cx="4768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GungsuhChe"/>
                <a:ea typeface="GungsuhChe"/>
              </a:rPr>
              <a:t>Modeling OUTL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C:\Documents and Settings\20076471\Local Settings\Temporary Internet Files\Content.IE5\U89X9CL8\MCj03979490000[1].wmf"/>
          <p:cNvPicPr/>
          <p:nvPr/>
        </p:nvPicPr>
        <p:blipFill>
          <a:blip r:embed="rId1"/>
          <a:stretch/>
        </p:blipFill>
        <p:spPr>
          <a:xfrm>
            <a:off x="3886200" y="2590920"/>
            <a:ext cx="1150920" cy="1168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C:\Program Files\Microsoft Office\MEDIA\CAGCAT10\j0199805.wmf"/>
          <p:cNvPicPr/>
          <p:nvPr/>
        </p:nvPicPr>
        <p:blipFill>
          <a:blip r:embed="rId2"/>
          <a:stretch/>
        </p:blipFill>
        <p:spPr>
          <a:xfrm>
            <a:off x="3733920" y="4114800"/>
            <a:ext cx="1788840" cy="180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C:\Documents and Settings\20076471\Local Settings\Temporary Internet Files\Content.IE5\AXM783ZC\MCj02229970000[1].wmf"/>
          <p:cNvPicPr/>
          <p:nvPr/>
        </p:nvPicPr>
        <p:blipFill>
          <a:blip r:embed="rId3"/>
          <a:stretch/>
        </p:blipFill>
        <p:spPr>
          <a:xfrm>
            <a:off x="4724280" y="990720"/>
            <a:ext cx="685800" cy="1298520"/>
          </a:xfrm>
          <a:prstGeom prst="rect">
            <a:avLst/>
          </a:prstGeom>
          <a:ln w="0">
            <a:noFill/>
          </a:ln>
        </p:spPr>
      </p:pic>
      <p:sp>
        <p:nvSpPr>
          <p:cNvPr id="68" name="直線コネクタ 16"/>
          <p:cNvSpPr/>
          <p:nvPr/>
        </p:nvSpPr>
        <p:spPr>
          <a:xfrm>
            <a:off x="5857920" y="1219320"/>
            <a:ext cx="0" cy="449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18"/>
          <p:cNvSpPr/>
          <p:nvPr/>
        </p:nvSpPr>
        <p:spPr>
          <a:xfrm>
            <a:off x="5182200" y="849240"/>
            <a:ext cx="4237920" cy="368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HGP創英角ｺﾞｼｯｸUB"/>
                <a:ea typeface="HGP創英角ｺﾞｼｯｸUB"/>
              </a:rPr>
              <a:t>Design Communities N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図表 1" descr=""/>
          <p:cNvPicPr/>
          <p:nvPr/>
        </p:nvPicPr>
        <p:blipFill>
          <a:blip r:embed="rId1"/>
          <a:stretch/>
        </p:blipFill>
        <p:spPr>
          <a:xfrm>
            <a:off x="2279520" y="987480"/>
            <a:ext cx="6870960" cy="5114880"/>
          </a:xfrm>
          <a:prstGeom prst="rect">
            <a:avLst/>
          </a:prstGeom>
          <a:ln w="0">
            <a:noFill/>
          </a:ln>
        </p:spPr>
      </p:pic>
      <p:sp>
        <p:nvSpPr>
          <p:cNvPr id="71" name="正方形/長方形 2"/>
          <p:cNvSpPr/>
          <p:nvPr/>
        </p:nvSpPr>
        <p:spPr>
          <a:xfrm>
            <a:off x="-441720" y="304920"/>
            <a:ext cx="598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GungsuhChe"/>
                <a:ea typeface="GungsuhChe"/>
              </a:rPr>
              <a:t>IBIS Support in JAP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正方形/長方形 3"/>
          <p:cNvSpPr/>
          <p:nvPr/>
        </p:nvSpPr>
        <p:spPr>
          <a:xfrm>
            <a:off x="609480" y="16765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ITA EC center / EDA W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ader : Watanabe, Takesh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C Electronic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4"/>
          <p:cNvSpPr/>
          <p:nvPr/>
        </p:nvSpPr>
        <p:spPr>
          <a:xfrm>
            <a:off x="316440" y="120024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upport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Quality Framework for Low Speed Models Ver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Entering 2nd Stage for High Spee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This work will be presented by Hamaji-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2040" y="4572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BIS qua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00320" y="29559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terconnect mode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28600" y="3581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Modeling of passive device, connectors &amp; cables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using s-parameter problem add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This work will be presented by Ikeda-s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C:\Documents and Settings\20076471\Local Settings\Temporary Internet Files\Content.IE5\EPX30QWO\MCj02953640000[1].wmf"/>
          <p:cNvPicPr/>
          <p:nvPr/>
        </p:nvPicPr>
        <p:blipFill>
          <a:blip r:embed="rId1"/>
          <a:stretch/>
        </p:blipFill>
        <p:spPr>
          <a:xfrm>
            <a:off x="6751800" y="4114800"/>
            <a:ext cx="2392200" cy="2055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C:\Documents and Settings\20076471\Local Settings\Temporary Internet Files\Content.IE5\U89X9CL8\MCj04231770000[1].wmf"/>
          <p:cNvPicPr/>
          <p:nvPr/>
        </p:nvPicPr>
        <p:blipFill>
          <a:blip r:embed="rId2"/>
          <a:stretch/>
        </p:blipFill>
        <p:spPr>
          <a:xfrm>
            <a:off x="7223040" y="1668600"/>
            <a:ext cx="15829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28600" y="114300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BIS Guideboo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Temporally suspended last y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Many engineers requested for publi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B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ublic demand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restarted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Will be Published Soo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91680" y="4572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mo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Documents and Settings\20076471\Local Settings\Temporary Internet Files\Content.IE5\EPX30QWO\MCj04270930000[1].wmf"/>
          <p:cNvPicPr/>
          <p:nvPr/>
        </p:nvPicPr>
        <p:blipFill>
          <a:blip r:embed="rId1"/>
          <a:stretch/>
        </p:blipFill>
        <p:spPr>
          <a:xfrm>
            <a:off x="6783480" y="596880"/>
            <a:ext cx="1428480" cy="181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Documents and Settings\20076471\Local Settings\Temporary Internet Files\Content.IE5\U89X9CL8\MCj01976620000[1].wmf"/>
          <p:cNvPicPr/>
          <p:nvPr/>
        </p:nvPicPr>
        <p:blipFill>
          <a:blip r:embed="rId2"/>
          <a:stretch/>
        </p:blipFill>
        <p:spPr>
          <a:xfrm>
            <a:off x="5867280" y="2895480"/>
            <a:ext cx="2890800" cy="29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C:\Documents and Settings\20076471\Local Settings\Temporary Internet Files\Content.IE5\EPX30QWO\MCj03608220000[1].wmf"/>
          <p:cNvPicPr/>
          <p:nvPr/>
        </p:nvPicPr>
        <p:blipFill>
          <a:blip r:embed="rId3"/>
          <a:stretch/>
        </p:blipFill>
        <p:spPr>
          <a:xfrm>
            <a:off x="1219320" y="4114800"/>
            <a:ext cx="18032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380880" y="457200"/>
            <a:ext cx="8153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IBIS Guideboo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nsists of two par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1st. par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Introduction to IB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Some design example using IB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2nd. p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Officia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JAPANES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IBIS spec. ver.5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http://www.kocho-net.com/img/01.gif"/>
          <p:cNvPicPr/>
          <p:nvPr/>
        </p:nvPicPr>
        <p:blipFill>
          <a:blip r:embed="rId1"/>
          <a:stretch/>
        </p:blipFill>
        <p:spPr>
          <a:xfrm>
            <a:off x="5638680" y="5316480"/>
            <a:ext cx="2505240" cy="53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20076471\Local Settings\Temporary Internet Files\Content.IE5\AXM783ZC\MCj04164180000[1].wmf"/>
          <p:cNvPicPr/>
          <p:nvPr/>
        </p:nvPicPr>
        <p:blipFill>
          <a:blip r:embed="rId2"/>
          <a:stretch/>
        </p:blipFill>
        <p:spPr>
          <a:xfrm>
            <a:off x="5907240" y="1066680"/>
            <a:ext cx="1719000" cy="1501920"/>
          </a:xfrm>
          <a:prstGeom prst="rect">
            <a:avLst/>
          </a:prstGeom>
          <a:ln w="0">
            <a:noFill/>
          </a:ln>
        </p:spPr>
      </p:pic>
      <p:sp>
        <p:nvSpPr>
          <p:cNvPr id="88" name="正方形/長方形 10"/>
          <p:cNvSpPr/>
          <p:nvPr/>
        </p:nvSpPr>
        <p:spPr>
          <a:xfrm>
            <a:off x="457200" y="4935600"/>
            <a:ext cx="563868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ill be Published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ogyo Chosakai publishing, In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ttp://www.kocho-net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5"/>
          <p:cNvSpPr/>
          <p:nvPr/>
        </p:nvSpPr>
        <p:spPr>
          <a:xfrm>
            <a:off x="1465200" y="3962520"/>
            <a:ext cx="62020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HGP創英角ﾎﾟｯﾌﾟ体"/>
                <a:ea typeface="HGP創英角ﾎﾟｯﾌﾟ体"/>
              </a:rPr>
              <a:t>Please Use it as a ‘REFERENCE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図 1" descr="ibis_new.gif"/>
          <p:cNvPicPr/>
          <p:nvPr/>
        </p:nvPicPr>
        <p:blipFill>
          <a:blip r:embed="rId1"/>
          <a:stretch/>
        </p:blipFill>
        <p:spPr>
          <a:xfrm>
            <a:off x="5162400" y="121932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91" name="図 2" descr="ibis.gif"/>
          <p:cNvPicPr/>
          <p:nvPr/>
        </p:nvPicPr>
        <p:blipFill>
          <a:blip r:embed="rId2"/>
          <a:stretch/>
        </p:blipFill>
        <p:spPr>
          <a:xfrm>
            <a:off x="1209600" y="3200400"/>
            <a:ext cx="2143080" cy="18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20076471\Local Settings\Temporary Internet Files\Content.IE5\7D35I1IK\MMj02363570000[1].gif"/>
          <p:cNvPicPr/>
          <p:nvPr/>
        </p:nvPicPr>
        <p:blipFill>
          <a:blip r:embed="rId3"/>
          <a:stretch/>
        </p:blipFill>
        <p:spPr>
          <a:xfrm>
            <a:off x="685800" y="3819600"/>
            <a:ext cx="1120680" cy="152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20076471\Local Settings\Temporary Internet Files\Content.IE5\7D35I1IK\MMj02363570000[1].gif"/>
          <p:cNvPicPr/>
          <p:nvPr/>
        </p:nvPicPr>
        <p:blipFill>
          <a:blip r:embed="rId4"/>
          <a:stretch/>
        </p:blipFill>
        <p:spPr>
          <a:xfrm>
            <a:off x="1447920" y="3819600"/>
            <a:ext cx="1120680" cy="152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20076471\Local Settings\Temporary Internet Files\Content.IE5\7D35I1IK\MMj02363570000[1].gif"/>
          <p:cNvPicPr/>
          <p:nvPr/>
        </p:nvPicPr>
        <p:blipFill>
          <a:blip r:embed="rId5"/>
          <a:stretch/>
        </p:blipFill>
        <p:spPr>
          <a:xfrm>
            <a:off x="2209680" y="3819600"/>
            <a:ext cx="1121040" cy="1525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330960" y="37339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NEW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227240" y="3200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OLD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155600" y="533412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Current  Econom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8600" y="1066680"/>
            <a:ext cx="5334120" cy="1556280"/>
          </a:xfrm>
          <a:prstGeom prst="rect">
            <a:avLst/>
          </a:prstGeom>
          <a:solidFill>
            <a:srgbClr val="2d2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Thank you for your suppor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BIS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 frying up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ENIX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右矢印 12"/>
          <p:cNvSpPr/>
          <p:nvPr/>
        </p:nvSpPr>
        <p:spPr>
          <a:xfrm rot="19656000">
            <a:off x="4044960" y="3417480"/>
            <a:ext cx="1295280" cy="685800"/>
          </a:xfrm>
          <a:prstGeom prst="rightArrow">
            <a:avLst>
              <a:gd name="adj1" fmla="val 50000"/>
              <a:gd name="adj2" fmla="val 49998"/>
            </a:avLst>
          </a:pr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13:22:28Z</dcterms:created>
  <dc:creator>A.Ito</dc:creator>
  <dc:description/>
  <dc:language>en-US</dc:language>
  <cp:lastModifiedBy>SHOJI</cp:lastModifiedBy>
  <dcterms:modified xsi:type="dcterms:W3CDTF">2009-11-04T00:49:17Z</dcterms:modified>
  <cp:revision>653</cp:revision>
  <dc:subject/>
  <dc:title>JEITA</dc:title>
</cp:coreProperties>
</file>